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902D-3D27-416B-A8AF-7B383752D2C3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B706-659A-4C44-A31C-A9FDBACAB2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FC3D-5CD1-4ECA-85FC-61EA365B8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F454-5AE9-47F0-918D-F679D4E1D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4D3A-017F-4D20-9843-EEA3844B7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F5FC-DB03-4C4B-A5DA-D00BF3C0DA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EB00-DB11-4E1B-BDD6-F8F8208336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D287-84BA-4568-B501-091A2DE0A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30CF-2BF8-43AB-956D-82CFA863C4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7548-7EC7-4B53-BE01-4B04C94B69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2D4E-677A-4C3A-9ABB-A35C9F1062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08DB-58F2-4732-B36C-5BCCD42D8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D96D-863B-4044-A82F-BA6590C6DF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1419-CD07-4B8E-A953-5686DA21D0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CD78-ED3D-4742-834B-24A60A82B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208-ADB6-4CD9-935E-66B7A9A1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5EB-9BAF-4EF3-A8F9-CAD43FB7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B87-74C7-42AE-8216-C05FDA58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B0C-BF9C-4AC6-8540-8CF98453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7B41-7853-448E-B468-C8D87F2D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5C82-CA08-4BC7-839D-FB96BE9D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13BB-E771-4D8C-AE01-859C9170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C8DB-23AE-4350-8739-941883FD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2605-418A-4A9B-8055-F0327A9A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576B-B250-4CC2-97F3-F677D64D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F3A7-EB69-4A4D-A2D8-BE0EF4C3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211A-488D-4682-8E13-9E491E8D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56FE-05DC-4C57-BC9A-0EBD156C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2662-CD52-4CD3-B648-76C12657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E3C1-F8E0-4E25-8AF2-120EEA53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B5AA-DE8C-4857-A0FB-F076B909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E264-54A6-42C9-A28D-9010B6F6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7BD-C3AD-4FAB-BC62-51BE2A63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9E8-6323-4405-933E-92840222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337-FFA0-43FE-9336-D9011092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196-111B-4DE7-BEC8-885D9EB8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307-8A09-4A1D-B7E8-A52A6E42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E50-27CB-4B00-97C1-775369BD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D3B-893A-4784-BD01-7AA3B53B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B382-61FA-4105-9B62-EF362FC5BB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F008-BD2C-43EB-A5C0-E85CF6B496B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6A64-E5A0-4F11-9B5F-4B6A647879DF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4000" y="3284640"/>
            <a:ext cx="7088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Module 4: 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Partners’ ownership &amp; Demand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7" name="Picture 6" descr="eu_flag 2"/>
          <p:cNvPicPr/>
          <p:nvPr/>
        </p:nvPicPr>
        <p:blipFill>
          <a:blip r:embed="rId1"/>
          <a:stretch/>
        </p:blipFill>
        <p:spPr>
          <a:xfrm>
            <a:off x="7308720" y="6021360"/>
            <a:ext cx="1001880" cy="666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402920" y="1700280"/>
            <a:ext cx="61722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d624"/>
                </a:solidFill>
                <a:latin typeface="Verdana"/>
              </a:rPr>
              <a:t>Effective </a:t>
            </a:r>
            <a:br>
              <a:rPr sz="3200"/>
            </a:br>
            <a:r>
              <a:rPr b="1" lang="fr-BE" sz="3200" spc="-1" strike="noStrike">
                <a:solidFill>
                  <a:srgbClr val="ffd624"/>
                </a:solidFill>
                <a:latin typeface="Verdana"/>
              </a:rPr>
              <a:t>Capacity Development</a:t>
            </a:r>
            <a:br>
              <a:rPr sz="3200"/>
            </a:br>
            <a:r>
              <a:rPr b="1" lang="fr-BE" sz="3200" spc="-1" strike="noStrike">
                <a:solidFill>
                  <a:srgbClr val="ffd624"/>
                </a:solidFill>
                <a:latin typeface="Verdana"/>
              </a:rPr>
              <a:t>From Theory to Practice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6002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hange Readines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000" y="1928880"/>
            <a:ext cx="7440480" cy="26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urpose is to judge the depth and extent of ownership of proposed change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mong different stakeholders involved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over life of a programme  …..never static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4168440" y="4143240"/>
            <a:ext cx="5299920" cy="2714760"/>
            <a:chOff x="4168440" y="4143240"/>
            <a:chExt cx="5299920" cy="2714760"/>
          </a:xfrm>
        </p:grpSpPr>
        <p:pic>
          <p:nvPicPr>
            <p:cNvPr id="132" name="Picture 8" descr=""/>
            <p:cNvPicPr/>
            <p:nvPr/>
          </p:nvPicPr>
          <p:blipFill>
            <a:blip r:embed="rId1"/>
            <a:stretch/>
          </p:blipFill>
          <p:spPr>
            <a:xfrm>
              <a:off x="5045760" y="4143240"/>
              <a:ext cx="3274920" cy="27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Rectangle 5" descr=""/>
            <p:cNvPicPr/>
            <p:nvPr/>
          </p:nvPicPr>
          <p:blipFill>
            <a:blip r:embed="rId2"/>
            <a:stretch/>
          </p:blipFill>
          <p:spPr>
            <a:xfrm>
              <a:off x="5047200" y="4291200"/>
              <a:ext cx="34812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Rectangle 6" descr=""/>
            <p:cNvPicPr/>
            <p:nvPr/>
          </p:nvPicPr>
          <p:blipFill>
            <a:blip r:embed="rId3"/>
            <a:stretch/>
          </p:blipFill>
          <p:spPr>
            <a:xfrm>
              <a:off x="4687560" y="5913000"/>
              <a:ext cx="438948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"/>
            <p:cNvPicPr/>
            <p:nvPr/>
          </p:nvPicPr>
          <p:blipFill>
            <a:blip r:embed="rId4"/>
            <a:stretch/>
          </p:blipFill>
          <p:spPr>
            <a:xfrm rot="2084400">
              <a:off x="8198640" y="4995360"/>
              <a:ext cx="1102320" cy="93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6" descr=""/>
            <p:cNvPicPr/>
            <p:nvPr/>
          </p:nvPicPr>
          <p:blipFill>
            <a:blip r:embed="rId5"/>
            <a:stretch/>
          </p:blipFill>
          <p:spPr>
            <a:xfrm rot="14658000">
              <a:off x="4332600" y="4963320"/>
              <a:ext cx="1020960" cy="100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317600"/>
            <a:ext cx="829152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494"/>
                </a:solidFill>
                <a:latin typeface="Verdana"/>
              </a:rPr>
              <a:t>Three criteria for change readines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883880"/>
            <a:ext cx="82296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(1) Is there a Vision for change?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s it appealing, realistic and worth the effort? (Does it suggest “where we want to be”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(2) Is there adequate support for the vision?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tent to which support for change is owned among external and internal stakeholders. Who would likely support or resist?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(3) Is there change management capacity?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s there the capacity to lead and run change process and do people have confidence in that capacity (political, technical, outreach, financia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Or put differently:</a:t>
            </a:r>
            <a:br>
              <a:rPr sz="18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410000" y="2624040"/>
          <a:ext cx="4502160" cy="3124440"/>
        </p:xfrm>
        <a:graphic>
          <a:graphicData uri="http://schemas.openxmlformats.org/drawingml/2006/table">
            <a:tbl>
              <a:tblPr/>
              <a:tblGrid>
                <a:gridCol w="2251080"/>
                <a:gridCol w="2251080"/>
              </a:tblGrid>
              <a:tr h="1562040">
                <a:tc>
                  <a:txBody>
                    <a:bodyPr lIns="56880" rIns="56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 D + P + V = 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Change will happe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56880" marR="5688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56880" rIns="56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 D + P only = 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Risk of confus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56880" marR="5688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562400">
                <a:tc>
                  <a:txBody>
                    <a:bodyPr lIns="56880" rIns="568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 D + V only = 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Likely Anxiety and frustr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56880" marR="5688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56880" rIns="568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 P + V only = 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ange remains in pending tray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56880" marR="5688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181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Conditions for change to happen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- Degree of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Dissatisfaction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(D)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- Adequacy of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change process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(P)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- Appealing vision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(V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Must be greater than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cost of chang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11924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Practical Ownership - criteria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703520"/>
          <a:ext cx="8229600" cy="5054400"/>
        </p:xfrm>
        <a:graphic>
          <a:graphicData uri="http://schemas.openxmlformats.org/drawingml/2006/table">
            <a:tbl>
              <a:tblPr/>
              <a:tblGrid>
                <a:gridCol w="2438280"/>
                <a:gridCol w="5791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Who brings issue to table?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here must be a degree of initiative from country stakeholders to address capacity (do donors create an environment for ownership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Who assesses options and scenarios?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Best for partners to select policies, actions and priorities based on own assessment even if technically not perfec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How solid is the support behind the proposal?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Extent to which there is evidence of building a constituency for change among wider group of stakeholder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How engaged are senior managers in process?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Devil in detail – how far are managers able to visualise and articulate what to achieve and how to get ther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How do we relat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90"/>
                          </a:solidFill>
                          <a:latin typeface="Verdana"/>
                        </a:rPr>
                        <a:t>Do partners and DPs communicate beyond the formal settings; is there mutual trust?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Demand for External Suppor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Ris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Demand often lo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, leading to un-owned and supply-driven assistance with little impact on change and indicative of poor ownership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xacerbated when a free good –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no opportunity cos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Risk Mitig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cus discussions on what country partners can do for themselves, before considering possible suppor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ke costs of alternative forms of support transparent 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Be mindful of salemanship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dequate involvement of partners in selection, and management of external inpu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utual accountability for results; resolving “triangular affair”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4049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Balance the three-way relationship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47" name="Straight Arrow Connector 4"/>
          <p:cNvCxnSpPr/>
          <p:nvPr/>
        </p:nvCxnSpPr>
        <p:spPr>
          <a:xfrm>
            <a:off x="4952880" y="457200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148" name="Straight Connector 5"/>
          <p:cNvSpPr/>
          <p:nvPr/>
        </p:nvSpPr>
        <p:spPr>
          <a:xfrm>
            <a:off x="6058080" y="3965400"/>
            <a:ext cx="822240" cy="824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49" name="Straight Arrow Connector 7"/>
          <p:cNvCxnSpPr/>
          <p:nvPr/>
        </p:nvCxnSpPr>
        <p:spPr>
          <a:xfrm flipV="1">
            <a:off x="6094800" y="3962160"/>
            <a:ext cx="2520" cy="2160"/>
          </a:xfrm>
          <a:prstGeom prst="straightConnector1">
            <a:avLst/>
          </a:prstGeom>
          <a:ln w="0">
            <a:noFill/>
          </a:ln>
        </p:spPr>
      </p:cxnSp>
      <p:sp>
        <p:nvSpPr>
          <p:cNvPr id="150" name="Explosion 2 9"/>
          <p:cNvSpPr/>
          <p:nvPr/>
        </p:nvSpPr>
        <p:spPr>
          <a:xfrm>
            <a:off x="6835680" y="3906720"/>
            <a:ext cx="822600" cy="82260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Explosion 1 11"/>
          <p:cNvSpPr/>
          <p:nvPr/>
        </p:nvSpPr>
        <p:spPr>
          <a:xfrm>
            <a:off x="6516720" y="2949480"/>
            <a:ext cx="824040" cy="82404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Direct Access Storage 12"/>
          <p:cNvSpPr/>
          <p:nvPr/>
        </p:nvSpPr>
        <p:spPr>
          <a:xfrm>
            <a:off x="5845320" y="4125960"/>
            <a:ext cx="822240" cy="824040"/>
          </a:xfrm>
          <a:prstGeom prst="flowChartMagneticDrum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Explosion 1 14"/>
          <p:cNvSpPr/>
          <p:nvPr/>
        </p:nvSpPr>
        <p:spPr>
          <a:xfrm>
            <a:off x="5415120" y="3416400"/>
            <a:ext cx="3379680" cy="33098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oer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man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diator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cilitator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? Spy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4611600" y="3976560"/>
            <a:ext cx="82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4724280" y="4184640"/>
            <a:ext cx="822600" cy="822240"/>
          </a:xfrm>
          <a:prstGeom prst="rect">
            <a:avLst/>
          </a:prstGeom>
          <a:solidFill>
            <a:srgbClr val="ff66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ectangle 22"/>
          <p:cNvSpPr/>
          <p:nvPr/>
        </p:nvSpPr>
        <p:spPr>
          <a:xfrm>
            <a:off x="609480" y="4191120"/>
            <a:ext cx="1665360" cy="822240"/>
          </a:xfrm>
          <a:prstGeom prst="rect">
            <a:avLst/>
          </a:prstGeom>
          <a:solidFill>
            <a:srgbClr val="ff66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or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Oval 23"/>
          <p:cNvSpPr/>
          <p:nvPr/>
        </p:nvSpPr>
        <p:spPr>
          <a:xfrm>
            <a:off x="4530600" y="1212840"/>
            <a:ext cx="2384640" cy="1905120"/>
          </a:xfrm>
          <a:prstGeom prst="ellipse">
            <a:avLst/>
          </a:prstGeom>
          <a:solidFill>
            <a:srgbClr val="008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stomer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en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ciar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tner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keholder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loyer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Rectangle 24"/>
          <p:cNvSpPr/>
          <p:nvPr/>
        </p:nvSpPr>
        <p:spPr>
          <a:xfrm>
            <a:off x="2895480" y="1941480"/>
            <a:ext cx="2057400" cy="822240"/>
          </a:xfrm>
          <a:prstGeom prst="rect">
            <a:avLst/>
          </a:prstGeom>
          <a:solidFill>
            <a:srgbClr val="ff66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 Organisation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4543560" y="2871720"/>
            <a:ext cx="981000" cy="1241640"/>
          </a:xfrm>
          <a:prstGeom prst="line">
            <a:avLst/>
          </a:prstGeom>
          <a:ln cap="rnd" w="76320">
            <a:solidFill>
              <a:srgbClr val="bfbfb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traight Connector 29"/>
          <p:cNvSpPr/>
          <p:nvPr/>
        </p:nvSpPr>
        <p:spPr>
          <a:xfrm>
            <a:off x="3454560" y="3808440"/>
            <a:ext cx="822240" cy="824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61" name="Straight Arrow Connector 31"/>
          <p:cNvCxnSpPr/>
          <p:nvPr/>
        </p:nvCxnSpPr>
        <p:spPr>
          <a:xfrm>
            <a:off x="2514240" y="4746600"/>
            <a:ext cx="1981800" cy="2160"/>
          </a:xfrm>
          <a:prstGeom prst="straightConnector1">
            <a:avLst/>
          </a:prstGeom>
          <a:ln cap="rnd" w="76320">
            <a:solidFill>
              <a:srgbClr val="bfbfb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2" name="Straight Connector 36"/>
          <p:cNvSpPr/>
          <p:nvPr/>
        </p:nvSpPr>
        <p:spPr>
          <a:xfrm>
            <a:off x="2371680" y="3117960"/>
            <a:ext cx="822240" cy="82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63" name="Straight Arrow Connector 38"/>
          <p:cNvCxnSpPr/>
          <p:nvPr/>
        </p:nvCxnSpPr>
        <p:spPr>
          <a:xfrm flipV="1">
            <a:off x="1442880" y="2617560"/>
            <a:ext cx="1254960" cy="1289520"/>
          </a:xfrm>
          <a:prstGeom prst="straightConnector1">
            <a:avLst/>
          </a:prstGeom>
          <a:ln cap="rnd" w="76320">
            <a:solidFill>
              <a:srgbClr val="bfbfb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4" name="Parallelogram 1"/>
          <p:cNvSpPr/>
          <p:nvPr/>
        </p:nvSpPr>
        <p:spPr>
          <a:xfrm>
            <a:off x="469800" y="5059440"/>
            <a:ext cx="2352600" cy="1338120"/>
          </a:xfrm>
          <a:prstGeom prst="parallelogram">
            <a:avLst>
              <a:gd name="adj" fmla="val 25005"/>
            </a:avLst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loyer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keholder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stomer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tner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actor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65" name="Straight Arrow Connector 3"/>
          <p:cNvCxnSpPr/>
          <p:nvPr/>
        </p:nvCxnSpPr>
        <p:spPr>
          <a:xfrm>
            <a:off x="2697120" y="3416400"/>
            <a:ext cx="915120" cy="915120"/>
          </a:xfrm>
          <a:prstGeom prst="straightConnector1">
            <a:avLst/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Conclus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Playing a 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facilitating or supportive role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s key to fostering partner-owned and partner-led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d this means 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investing in relationship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2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here are likely to be 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tensions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between adopting this role and pressure to disburse and show results.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2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Procedures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might also act against favouring a facilitating rol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2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An operational dilemma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hat needs to be continuously monitored and managed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2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AE principles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remain relevant; harmonisation, alignment, coordinated TC, country systems suppor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40976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Exercise - Partner demand and ownership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in your programme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Is your programme fitting in the current context and the current levels of capacity? How do you know?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Is there sufficient dissatisfaction with the current situation?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Is there a vision for change?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If yes, is this vision widely supported among stakeholders?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Is there sufficient change management capacity?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1624320" y="593100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chievements   ------     Improvement need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747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EN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5494"/>
                </a:solidFill>
                <a:latin typeface="Verdana"/>
              </a:rPr>
              <a:t>This Modu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4b83"/>
                </a:solidFill>
                <a:latin typeface="Verdana"/>
              </a:rPr>
              <a:t>Discusses the importance of ownership in a CD contex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4b83"/>
                </a:solidFill>
                <a:latin typeface="Verdana"/>
              </a:rPr>
              <a:t>Reflects on typical challenges encountered and how these may be address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4b83"/>
                </a:solidFill>
                <a:latin typeface="Verdana"/>
              </a:rPr>
              <a:t>Examines ownership from three perspective</a:t>
            </a:r>
            <a:r>
              <a:rPr b="1" lang="en-US" sz="2000" spc="-1" strike="noStrike">
                <a:solidFill>
                  <a:srgbClr val="2d5ec1"/>
                </a:solidFill>
                <a:latin typeface="Verdana"/>
              </a:rPr>
              <a:t>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499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D Quality grid requirement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</a:t>
            </a:r>
            <a:br>
              <a:rPr sz="2400"/>
            </a:br>
            <a:r>
              <a:rPr b="1" i="1" lang="en-GB" sz="2200" spc="-1" strike="noStrike">
                <a:solidFill>
                  <a:srgbClr val="0f5494"/>
                </a:solidFill>
                <a:latin typeface="Verdana"/>
              </a:rPr>
              <a:t>2. Adequate demand, commitment and ownership from the country partners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19120" y="2978280"/>
          <a:ext cx="8229600" cy="3475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2.1 How have </a:t>
                      </a: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key stakeholders demonstrated demand </a:t>
                      </a:r>
                      <a:r>
                        <a:rPr b="0" lang="en-GB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for </a:t>
                      </a: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D</a:t>
                      </a:r>
                      <a:r>
                        <a:rPr b="0" lang="en-GB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, beyond reacting to proposals from the EU or consultants?</a:t>
                      </a:r>
                      <a:endParaRPr b="0" lang="en-US" sz="2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2.2 How have the country </a:t>
                      </a: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artners led or participated in the design</a:t>
                      </a:r>
                      <a:r>
                        <a:rPr b="0" lang="en-GB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of </a:t>
                      </a: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D</a:t>
                      </a:r>
                      <a:r>
                        <a:rPr b="0" lang="en-GB" sz="2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support, beyond formal consultation and endorsement of proposals and other requirements? </a:t>
                      </a:r>
                      <a:endParaRPr b="0" lang="en-US" sz="2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Why Ownership &amp; Demand are  Important</a:t>
            </a:r>
            <a:br>
              <a:rPr sz="27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ccess depends on partner ownership of and commitment to (i)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hange proces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(ii) any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roposed support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U support in absence of ownership and commitment will not work: It can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acilitate but not lead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artners must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lay an adequate role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 each step of project cycle from identification to implementation and review of CD support, as custodians of proposed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ocus first on what partner will do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, second on possible external contribution.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deally, partner identifies needed support and comes to the EC to discuss possible suppor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Capacity Development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– a core responsibility for leaders of any organisation – a permanent agenda item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D2DB-3EA9-49FA-B488-11A4F40B1975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7" name="Content Placeholder 1" descr=""/>
          <p:cNvPicPr/>
          <p:nvPr/>
        </p:nvPicPr>
        <p:blipFill>
          <a:blip r:embed="rId1"/>
          <a:stretch/>
        </p:blipFill>
        <p:spPr>
          <a:xfrm>
            <a:off x="407880" y="4164120"/>
            <a:ext cx="8248680" cy="2517840"/>
          </a:xfrm>
          <a:prstGeom prst="rect">
            <a:avLst/>
          </a:prstGeom>
          <a:ln w="0">
            <a:noFill/>
          </a:ln>
        </p:spPr>
      </p:pic>
      <p:pic>
        <p:nvPicPr>
          <p:cNvPr id="108" name="Diagram 2" descr=""/>
          <p:cNvPicPr/>
          <p:nvPr/>
        </p:nvPicPr>
        <p:blipFill>
          <a:blip r:embed="rId2"/>
          <a:stretch/>
        </p:blipFill>
        <p:spPr>
          <a:xfrm>
            <a:off x="438120" y="1603440"/>
            <a:ext cx="8156520" cy="2249280"/>
          </a:xfrm>
          <a:prstGeom prst="rect">
            <a:avLst/>
          </a:prstGeom>
          <a:ln w="0">
            <a:noFill/>
          </a:ln>
        </p:spPr>
      </p:pic>
      <p:pic>
        <p:nvPicPr>
          <p:cNvPr id="109" name="TextBox 5" descr=""/>
          <p:cNvPicPr/>
          <p:nvPr/>
        </p:nvPicPr>
        <p:blipFill>
          <a:blip r:embed="rId3"/>
          <a:stretch/>
        </p:blipFill>
        <p:spPr>
          <a:xfrm>
            <a:off x="6083280" y="1596960"/>
            <a:ext cx="2878200" cy="3078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7380360" y="4437000"/>
            <a:ext cx="12160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500" spc="-1" strike="noStrike">
                <a:solidFill>
                  <a:srgbClr val="008000"/>
                </a:solidFill>
                <a:latin typeface="Verdana"/>
              </a:rPr>
              <a:t>✓</a:t>
            </a:r>
            <a:endParaRPr b="0" lang="en-US" sz="1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Can do.jpg"/>
          <p:cNvPicPr/>
          <p:nvPr/>
        </p:nvPicPr>
        <p:blipFill>
          <a:blip r:embed="rId1"/>
          <a:stretch/>
        </p:blipFill>
        <p:spPr>
          <a:xfrm>
            <a:off x="6429240" y="1089000"/>
            <a:ext cx="1532160" cy="1568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 good design for CD Support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39120">
              <a:lnSpc>
                <a:spcPct val="130000"/>
              </a:lnSpc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f5494"/>
                </a:solidFill>
                <a:latin typeface="Verdana"/>
              </a:rPr>
              <a:t>Is known, owned and supported by partners and stakeholders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95640" indent="-339120">
              <a:lnSpc>
                <a:spcPct val="130000"/>
              </a:lnSpc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f5494"/>
                </a:solidFill>
                <a:latin typeface="Verdana"/>
              </a:rPr>
              <a:t>Can overcome resistance from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95640" indent="-33912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0" i="1" lang="en-GB" sz="2200" spc="-1" strike="noStrike">
                <a:solidFill>
                  <a:srgbClr val="0f5494"/>
                </a:solidFill>
                <a:latin typeface="Verdana"/>
              </a:rPr>
              <a:t>those who may stand to los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95640" indent="-339120">
              <a:lnSpc>
                <a:spcPct val="130000"/>
              </a:lnSpc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 u="sng">
                <a:solidFill>
                  <a:srgbClr val="0f5494"/>
                </a:solidFill>
                <a:uFillTx/>
                <a:latin typeface="Verdana"/>
              </a:rPr>
              <a:t>Not</a:t>
            </a:r>
            <a:r>
              <a:rPr b="0" i="1" lang="en-GB" sz="2200" spc="-1" strike="noStrike">
                <a:solidFill>
                  <a:srgbClr val="0f5494"/>
                </a:solidFill>
                <a:latin typeface="Verdana"/>
              </a:rPr>
              <a:t> just a donor formatted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95640" indent="-33912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0" i="1" lang="ja-JP" sz="22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i="1" lang="en-GB" sz="2200" spc="-1" strike="noStrike">
                <a:solidFill>
                  <a:srgbClr val="0f5494"/>
                </a:solidFill>
                <a:latin typeface="Verdana"/>
              </a:rPr>
              <a:t>project design document</a:t>
            </a:r>
            <a:r>
              <a:rPr b="0" i="1" lang="ja-JP" sz="2200" spc="-1" strike="noStrike">
                <a:solidFill>
                  <a:srgbClr val="0f5494"/>
                </a:solidFill>
                <a:latin typeface="Verdana"/>
              </a:rPr>
              <a:t>”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95640" indent="-339120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95640" indent="-33912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But good design is not sufficient –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95640" indent="-33912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ownership throughout the life of an intervention, needs to be monitored and test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95640" indent="-339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4" name="Picture 2" descr="Manual 2.png"/>
          <p:cNvPicPr/>
          <p:nvPr/>
        </p:nvPicPr>
        <p:blipFill>
          <a:blip r:embed="rId2"/>
          <a:stretch/>
        </p:blipFill>
        <p:spPr>
          <a:xfrm>
            <a:off x="5195880" y="4567320"/>
            <a:ext cx="1365120" cy="1144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Resistance 2.jpg"/>
          <p:cNvPicPr/>
          <p:nvPr/>
        </p:nvPicPr>
        <p:blipFill>
          <a:blip r:embed="rId3"/>
          <a:stretch/>
        </p:blipFill>
        <p:spPr>
          <a:xfrm>
            <a:off x="5375160" y="2657520"/>
            <a:ext cx="25862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281952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Challeng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Verdana"/>
              </a:rPr>
              <a:t>On Partner Sid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ragmented and contested ownership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eakly articulated and implicit ownership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New faces, new agendas, poor institutional memor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Ownership in words, but not sufficiently in a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Verdana"/>
              </a:rPr>
              <a:t>On Donor Sid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sign process rushed and consultant-drive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ree good” syndrome especially vis T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alesmanship” and competing DP agendas and idea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New faces, new agendas, poor institutional memor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somorphic Mimicry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” and “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nstitutional Ventriloquism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”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660708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f5494"/>
                </a:solidFill>
                <a:latin typeface="Verdana"/>
              </a:rPr>
              <a:t>Moving towards ow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60F0-3283-442C-8D91-E2933F5CBD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 rot="20794200">
            <a:off x="752040" y="5136840"/>
            <a:ext cx="7688160" cy="37152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0" y="1773360"/>
            <a:ext cx="756144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O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wnership sits on a continuum between fully donor driven and fully country owned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Levels of ownership will vary according to changing circumst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es, personnel involved, and the different levels and places in an organisation or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ll processes should support working towards full country ownership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71520" y="5465160"/>
            <a:ext cx="1332000" cy="100872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Arial"/>
                <a:ea typeface="ＭＳ Ｐゴシック"/>
              </a:rPr>
              <a:t>Fully donor drive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572240" y="4030200"/>
            <a:ext cx="1332000" cy="100872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Arial"/>
                <a:ea typeface="ＭＳ Ｐゴシック"/>
              </a:rPr>
              <a:t>Fully country owned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24" name="Straight Arrow Connector 9"/>
          <p:cNvCxnSpPr/>
          <p:nvPr/>
        </p:nvCxnSpPr>
        <p:spPr>
          <a:xfrm flipV="1">
            <a:off x="1763640" y="4291920"/>
            <a:ext cx="5688720" cy="136908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25" name="TextBox 12"/>
          <p:cNvSpPr/>
          <p:nvPr/>
        </p:nvSpPr>
        <p:spPr>
          <a:xfrm>
            <a:off x="2928960" y="59292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Partner owned and partner led are different!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Ownership.jpg"/>
          <p:cNvPicPr/>
          <p:nvPr/>
        </p:nvPicPr>
        <p:blipFill>
          <a:blip r:embed="rId1"/>
          <a:stretch/>
        </p:blipFill>
        <p:spPr>
          <a:xfrm>
            <a:off x="3757680" y="3105000"/>
            <a:ext cx="5398920" cy="3753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5494"/>
                </a:solidFill>
                <a:latin typeface="Verdana"/>
              </a:rPr>
              <a:t>Dimensions of Ownership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630520"/>
            <a:ext cx="8229600" cy="24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hange Readin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ractical Ownershi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emand for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xternal suppor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1T13:12:31Z</dcterms:created>
  <dc:creator>turneem</dc:creator>
  <dc:description/>
  <dc:language>en-US</dc:language>
  <cp:lastModifiedBy>DI PILLO Daniele (DEVCO)</cp:lastModifiedBy>
  <dcterms:modified xsi:type="dcterms:W3CDTF">2013-10-22T13:11:36Z</dcterms:modified>
  <cp:revision>171</cp:revision>
  <dc:subject/>
  <dc:title>Slide 1</dc:title>
</cp:coreProperties>
</file>