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E77F-2E77-4C03-B75B-8FD95B2E3BC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35C4-BA8F-4F35-B1FB-FC78D17AE0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2B47-F896-48F6-96F6-813B553919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EC86-303E-4F9B-9D08-9568D24B1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4CE3-73B5-4E4E-8840-C577DE99A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D98E-753D-4BFD-9E86-2B0B779633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6C4C-6FA6-4179-8881-1F6315F6F3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7B36-56E3-4F9F-8F26-E790D8D4C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0ACF-F0D7-4427-A4F3-FA4199228D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EFD9-04D6-40F2-8C70-20A3BEC0AA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0D71-A48D-43A3-84BD-B383BF70F9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EF06-AADE-4C5F-919E-A56F3FF199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A389-EF9D-4777-94B4-91FF4DC13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E5CA-6193-415B-9C0B-B9A6FA89B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753-0A84-4F5C-AD45-73C0B679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0CA-AECE-4365-92D1-F3FFB55B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6DD4-474F-4F80-8600-98A9FA70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02F-827D-4FFC-95A1-5E95DAAB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25AF-C0BA-4662-B7BA-29BE6C81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1227-DE51-4D6C-8D16-AA641AF2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FD64-8C90-4C1D-AC8A-633821E8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BAA9-A279-4D04-AB3F-214B481D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D081-5EF8-4C17-A37B-628FAA80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D7A5-D21D-45D1-A71F-C2D5B69F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A84E-A86B-4364-941B-4146850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F1D-B1B4-404E-9CA6-BD28018F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C755-D9C4-4739-A339-021A1D55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07A2-BAE9-4F59-9094-C6BFACFA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81D4-D1FA-4104-9A62-BA89C81F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274A-C105-466A-A935-26CE8054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8CC3-AC72-4AC6-A1EB-F899B686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69CC6-970D-402A-9B9C-AA9A76410E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C3915-577F-4EED-B29C-D6B6E44BD8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020D7-8CE9-4A2B-A865-E352D8A87B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335A5-A825-4537-8858-5BD14AD9EC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C0EE6-464E-4218-B366-6AAFBFAFD0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71B-042F-4E0E-BCD2-4E89FABE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476D2-AADC-4D8E-AE8E-E6001FE2CE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24399-2585-4A8D-A009-4343199359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E5728-81E1-47B9-A230-5F7D8A0B9B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CA349-22C1-49C4-9D7A-4532D669A5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A0E9D-5F2F-4FEB-976C-D167387EEE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1CDC3-3F74-4653-9072-651BE948C5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7F8A6-25D3-408B-B6B2-9A0D07A43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EF8-2536-4CE1-B896-020851E5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28F-BBB5-45DB-B746-45D7EB3C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9D9-6D24-4484-88B3-B733C9ED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E3A-6E9B-488F-BC45-A8C43926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ECD-7984-44E7-8BAF-85F12B60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14F-3A9F-4A6C-9B1E-0BECB7D0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EAEC-0042-4B3B-A7BC-CCBD0E16BF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C52C-E074-4E75-BF05-BA16ED26A5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7"/>
          </p:nvPr>
        </p:nvSpPr>
        <p:spPr>
          <a:xfrm>
            <a:off x="2268000" y="6248520"/>
            <a:ext cx="475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7524720" y="6248520"/>
            <a:ext cx="11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909B-C604-4D81-BDA1-7FC4DA373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727E-8AE3-421D-B026-D1E56BA4CED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5920" y="1714680"/>
            <a:ext cx="71071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Effective </a:t>
            </a:r>
            <a:br>
              <a:rPr sz="3200"/>
            </a:b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Capacity Development</a:t>
            </a:r>
            <a:br>
              <a:rPr sz="3200"/>
            </a:br>
            <a:r>
              <a:rPr b="1" lang="fr-BE" sz="3200" spc="-1" strike="noStrike">
                <a:solidFill>
                  <a:srgbClr val="ffd624"/>
                </a:solidFill>
                <a:latin typeface="Verdana"/>
              </a:rPr>
              <a:t>From Theory to Practice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3640" y="328572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Module 3: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Fit to the context and existing capacity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here do we start from?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Contextual factors beyond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Oval 11"/>
          <p:cNvSpPr/>
          <p:nvPr/>
        </p:nvSpPr>
        <p:spPr>
          <a:xfrm>
            <a:off x="59436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4572000" y="3352680"/>
            <a:ext cx="1389240" cy="1449360"/>
          </a:xfrm>
          <a:prstGeom prst="ellipse">
            <a:avLst/>
          </a:prstGeom>
          <a:solidFill>
            <a:srgbClr val="ff6600">
              <a:alpha val="24000"/>
            </a:srgbClr>
          </a:solidFill>
          <a:ln w="9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Out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2438280" y="2819520"/>
            <a:ext cx="2156040" cy="2286000"/>
          </a:xfrm>
          <a:prstGeom prst="ellipse">
            <a:avLst/>
          </a:prstGeom>
          <a:solidFill>
            <a:srgbClr val="ff66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Capacit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Line 18"/>
          <p:cNvSpPr/>
          <p:nvPr/>
        </p:nvSpPr>
        <p:spPr>
          <a:xfrm>
            <a:off x="57150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Line 18"/>
          <p:cNvSpPr/>
          <p:nvPr/>
        </p:nvSpPr>
        <p:spPr>
          <a:xfrm>
            <a:off x="43434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Assessing </a:t>
            </a:r>
            <a:r>
              <a:rPr b="1" i="1" lang="en-US" sz="2400" spc="-1" strike="noStrike" u="sng">
                <a:solidFill>
                  <a:srgbClr val="0f5494"/>
                </a:solidFill>
                <a:uFillTx/>
                <a:latin typeface="Verdana"/>
              </a:rPr>
              <a:t>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Assessing 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Multiple purpose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s a 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design tool 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o build results framework for an interven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s a self-administered 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health check 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r organisational learning and ownership for chang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s a way to 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engage 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in a dialogue on need for chang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s a 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monitoring tool 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o track progress over tim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s a 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performance management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 tool to incentivise performance improvemen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s a tool to determine 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compliance and eligibility </a:t>
            </a: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gainst set norms and standard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What Assessment can help understan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560" y="1980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ymptoms or underlying causes of poor capac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trengths to build 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arity of vision/ strategy regarding capac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Different perspectives on what matter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What has previously worked/ not worked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Who is doing what and potential sources to draw 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ross cutting issues – gender sensitiv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2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Possible entry poin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2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hange over tim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Multiple instru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epends on the purpos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epends on concept and understanding of capacity being appli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EC 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‘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Toolkit for Capacity Development</a:t>
            </a:r>
            <a:r>
              <a:rPr b="0" lang="ja-JP" sz="20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has several tools for different types of assessm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ny tool can and should be adapted to local context and needs, or parts of different tools can be put together to meet a specific ne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B63D-2C8C-42D1-9841-1698A9D243D2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56959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xamples of assessment tool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12920" y="1959120"/>
          <a:ext cx="8229600" cy="4686120"/>
        </p:xfrm>
        <a:graphic>
          <a:graphicData uri="http://schemas.openxmlformats.org/drawingml/2006/table">
            <a:tbl>
              <a:tblPr/>
              <a:tblGrid>
                <a:gridCol w="2385720"/>
                <a:gridCol w="5843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ments/tool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5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sational/ Sector Assess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C Toolkit for CD  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CDPM 5C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cKinsey’s 7s, Weisbord’s 6 boxes and OCA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DRC Organisational Assess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U 7 key areas of sector assess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FM reform and compliance / Governance assess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EU 4 pillar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PEFA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ACBF Capacity Indicator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CPIA/ World Bank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Political-Economy Analysi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stomised theme or sector specific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UNOPS/ OECD Procurement Assess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County Capacity Readiness Assessme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UNDP Disaster Risk Reduc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buClr>
                          <a:srgbClr val="8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  …</a:t>
                      </a:r>
                      <a:r>
                        <a:rPr b="0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and many many more.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7524720" y="6248520"/>
            <a:ext cx="11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2D9B-EF30-4BC5-B590-BA67B465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893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4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i="1" lang="es-BO" sz="2400" spc="-1" strike="noStrike">
                <a:solidFill>
                  <a:srgbClr val="0f5494"/>
                </a:solidFill>
                <a:latin typeface="Verdana"/>
              </a:rPr>
              <a:t>Functional” and “political” dimension of capacit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2276640"/>
          <a:ext cx="8425080" cy="4359240"/>
        </p:xfrm>
        <a:graphic>
          <a:graphicData uri="http://schemas.openxmlformats.org/drawingml/2006/table">
            <a:tbl>
              <a:tblPr/>
              <a:tblGrid>
                <a:gridCol w="1440000"/>
                <a:gridCol w="3351240"/>
                <a:gridCol w="3633840"/>
              </a:tblGrid>
              <a:tr h="353160"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Functional dimension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“</a:t>
                      </a: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Political” dimension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059720">
                <a:tc>
                  <a:txBody>
                    <a:bodyPr lIns="54000" rIns="54000" tIns="46800" bIns="4680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Main unit of 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analysis?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Driving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forces?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Image of  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man?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Change?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Change 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efforts? 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1872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Focus on functional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task-and-work system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A sense of norms, intrinsic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motivation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Employees caring for the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organisation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Participative reasoning,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finding best technical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solution, orderly 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Internal systems, structures, skills, technology etc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marL="533520" indent="-5335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Focus on power-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and-loyalty systems 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Sanctions and rewards,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incentives 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Individuals caring for 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themselves and their in-groups 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Internal conflict, coalition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with powerful external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agents, unpredictable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Incentives, change of key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staff, outsmarting 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f5494"/>
                          </a:solidFill>
                          <a:latin typeface="Verdana"/>
                          <a:ea typeface="Times New Roman"/>
                        </a:rPr>
                        <a:t>opposition</a:t>
                      </a: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54000" marR="54000">
                    <a:lnL w="1368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Some Good Practice Tip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192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Keep it simple, avoid over-analyzing, especially early on and risk to undermine trust and confidenc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void focusing just on gaps and weaknesses, build on strengths and understand why things are the way they a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Use and build on existing information, avoid intrusivenes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ncourage self-assessment to promote ownership/ learn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Watch out for assessment fatigue, timing cruci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Remember gender – too many assessments gender neutr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epending what purpose, opportunity, stage of process, can range from simple, “quick and dirty” through to comprehensive and analytic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95E3-8947-4D22-A0CC-6A883AAC841E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9154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f5494"/>
                </a:solidFill>
                <a:latin typeface="Verdana"/>
              </a:rPr>
              <a:t>An incremental approach to assessment 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2" name="Content Placeholder 3" descr=""/>
          <p:cNvPicPr/>
          <p:nvPr/>
        </p:nvPicPr>
        <p:blipFill>
          <a:blip r:embed="rId1"/>
          <a:stretch/>
        </p:blipFill>
        <p:spPr>
          <a:xfrm>
            <a:off x="384120" y="1908000"/>
            <a:ext cx="8674200" cy="4584960"/>
          </a:xfrm>
          <a:prstGeom prst="rect">
            <a:avLst/>
          </a:prstGeom>
          <a:ln w="0">
            <a:noFill/>
          </a:ln>
        </p:spPr>
      </p:pic>
      <p:sp>
        <p:nvSpPr>
          <p:cNvPr id="223" name="Line Callout 1 (No Border) 4"/>
          <p:cNvSpPr/>
          <p:nvPr/>
        </p:nvSpPr>
        <p:spPr>
          <a:xfrm>
            <a:off x="2771640" y="5375160"/>
            <a:ext cx="1632240" cy="148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9450" y="-4187"/>
                </a:moveTo>
                <a:lnTo>
                  <a:pt x="12015" y="14"/>
                </a:lnTo>
              </a:path>
            </a:pathLst>
          </a:cu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n provide the basis for specifying capacity resul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Line Callout 1 (No Border) 5"/>
          <p:cNvSpPr/>
          <p:nvPr/>
        </p:nvSpPr>
        <p:spPr>
          <a:xfrm>
            <a:off x="5292720" y="4437000"/>
            <a:ext cx="1511280" cy="21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4872" y="-3725"/>
                </a:moveTo>
                <a:lnTo>
                  <a:pt x="19649" y="1009"/>
                </a:lnTo>
              </a:path>
            </a:pathLst>
          </a:cu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ould maybe provide the basis for specifying the overall capacity objectiv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What Role for the EC/ DPs?  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28240" y="22096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vest in dialogue and relationship building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Help build a constituency for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rovide technical expertise with respect to techniques and approach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acilitate and support self-assess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Help establish baseline data about current capacity to enable effective monitoring and evaluation of resul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xplore opportunities to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armonise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and align through coordination with other dono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7" name="Straight Arrow Connector 12"/>
          <p:cNvCxnSpPr>
            <a:stCxn id="228" idx="6"/>
            <a:endCxn id="229" idx="2"/>
          </p:cNvCxnSpPr>
          <p:nvPr/>
        </p:nvCxnSpPr>
        <p:spPr>
          <a:xfrm flipV="1">
            <a:off x="3708000" y="2264760"/>
            <a:ext cx="3080520" cy="11880"/>
          </a:xfrm>
          <a:prstGeom prst="straightConnector1">
            <a:avLst/>
          </a:prstGeom>
          <a:ln w="57240">
            <a:solidFill>
              <a:srgbClr val="bfbfb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0" name="Straight Arrow Connector 13"/>
          <p:cNvCxnSpPr>
            <a:stCxn id="231" idx="6"/>
            <a:endCxn id="232" idx="2"/>
          </p:cNvCxnSpPr>
          <p:nvPr/>
        </p:nvCxnSpPr>
        <p:spPr>
          <a:xfrm>
            <a:off x="3708360" y="3688920"/>
            <a:ext cx="3052080" cy="1080"/>
          </a:xfrm>
          <a:prstGeom prst="straightConnector1">
            <a:avLst/>
          </a:prstGeom>
          <a:ln w="57240">
            <a:solidFill>
              <a:srgbClr val="bfbfb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3" name="Straight Arrow Connector 14"/>
          <p:cNvCxnSpPr>
            <a:stCxn id="234" idx="6"/>
            <a:endCxn id="235" idx="2"/>
          </p:cNvCxnSpPr>
          <p:nvPr/>
        </p:nvCxnSpPr>
        <p:spPr>
          <a:xfrm flipV="1">
            <a:off x="3700440" y="5126760"/>
            <a:ext cx="3116880" cy="32760"/>
          </a:xfrm>
          <a:prstGeom prst="straightConnector1">
            <a:avLst/>
          </a:prstGeom>
          <a:ln w="57240">
            <a:solidFill>
              <a:srgbClr val="bfbfb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8618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ulti-layered recurrent dialogu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Oval 2"/>
          <p:cNvSpPr/>
          <p:nvPr/>
        </p:nvSpPr>
        <p:spPr>
          <a:xfrm>
            <a:off x="6788160" y="1743120"/>
            <a:ext cx="1830240" cy="104436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Minist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Oval 3"/>
          <p:cNvSpPr/>
          <p:nvPr/>
        </p:nvSpPr>
        <p:spPr>
          <a:xfrm>
            <a:off x="6759720" y="3139920"/>
            <a:ext cx="1927080" cy="110016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Permanent Secretary/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DG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6816600" y="4584600"/>
            <a:ext cx="1828800" cy="108612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Gov. Head of Uni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Oval 5"/>
          <p:cNvSpPr/>
          <p:nvPr/>
        </p:nvSpPr>
        <p:spPr>
          <a:xfrm>
            <a:off x="1841400" y="1743120"/>
            <a:ext cx="1866960" cy="106848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Head of Delegation/HoM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Oval 6"/>
          <p:cNvSpPr/>
          <p:nvPr/>
        </p:nvSpPr>
        <p:spPr>
          <a:xfrm>
            <a:off x="1841400" y="3139920"/>
            <a:ext cx="1866960" cy="110016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Head of Cooperation/Section/HoC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87280" y="1630440"/>
            <a:ext cx="1332000" cy="4763880"/>
          </a:xfrm>
          <a:prstGeom prst="rect">
            <a:avLst/>
          </a:prstGeom>
          <a:solidFill>
            <a:srgbClr val="ac8c7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mbria"/>
                <a:ea typeface="Calibri"/>
              </a:rPr>
              <a:t> 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mbria"/>
                <a:ea typeface="Calibri"/>
              </a:rPr>
              <a:t> 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Political Dialogue (EAS and MS Foreign Affairs Officials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 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Policy Dialogue (Better Strategy and Polic</a:t>
            </a:r>
            <a:r>
              <a:rPr b="0" lang="en-GB" sz="1400" spc="-1" strike="noStrike">
                <a:solidFill>
                  <a:srgbClr val="ffffff"/>
                </a:solidFill>
                <a:latin typeface="Cambria"/>
                <a:ea typeface="Calibri"/>
              </a:rPr>
              <a:t>y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mbria"/>
                <a:ea typeface="Calibri"/>
              </a:rPr>
              <a:t> 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Technical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Dialogue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(Implemen-t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Policy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 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mbria"/>
                <a:ea typeface="Calibri"/>
              </a:rPr>
              <a:t> 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mbria"/>
                <a:ea typeface="Calibri"/>
              </a:rPr>
              <a:t> 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Oval 8"/>
          <p:cNvSpPr/>
          <p:nvPr/>
        </p:nvSpPr>
        <p:spPr>
          <a:xfrm>
            <a:off x="1839960" y="4584600"/>
            <a:ext cx="1860480" cy="114804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  <a:ea typeface="Calibri"/>
              </a:rPr>
              <a:t>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38" name="Oval 9"/>
          <p:cNvGrpSpPr/>
          <p:nvPr/>
        </p:nvGrpSpPr>
        <p:grpSpPr>
          <a:xfrm>
            <a:off x="4280040" y="1676520"/>
            <a:ext cx="1858680" cy="4084560"/>
            <a:chOff x="4280040" y="1676520"/>
            <a:chExt cx="1858680" cy="4084560"/>
          </a:xfrm>
        </p:grpSpPr>
        <p:pic>
          <p:nvPicPr>
            <p:cNvPr id="239" name="Oval 9" descr=""/>
            <p:cNvPicPr/>
            <p:nvPr/>
          </p:nvPicPr>
          <p:blipFill>
            <a:blip r:embed="rId1"/>
            <a:stretch/>
          </p:blipFill>
          <p:spPr>
            <a:xfrm>
              <a:off x="4280040" y="1676520"/>
              <a:ext cx="185868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646520" y="2330280"/>
              <a:ext cx="1203480" cy="27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National Aid Architecture, </a:t>
              </a:r>
              <a:endParaRPr b="0" lang="en-US" sz="15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 </a:t>
              </a:r>
              <a:endParaRPr b="0" lang="en-US" sz="15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Sector Working Group </a:t>
              </a:r>
              <a:endParaRPr b="0" lang="en-US" sz="15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(Ideally Government Led)</a:t>
              </a:r>
              <a:endParaRPr b="0" lang="en-US" sz="15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 </a:t>
              </a:r>
              <a:endParaRPr b="0" lang="en-US" sz="15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Like-minded </a:t>
              </a:r>
              <a:endParaRPr b="0" lang="en-US" sz="15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Donors</a:t>
              </a:r>
              <a:endParaRPr b="0" lang="en-US" sz="15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241" name="Rounded Rectangle 10"/>
          <p:cNvSpPr/>
          <p:nvPr/>
        </p:nvSpPr>
        <p:spPr>
          <a:xfrm>
            <a:off x="7010280" y="5970600"/>
            <a:ext cx="1459080" cy="801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  <a:ea typeface="Calibri"/>
              </a:rPr>
              <a:t>CD support programm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42" name="Straight Arrow Connector 20"/>
          <p:cNvCxnSpPr>
            <a:stCxn id="241" idx="0"/>
            <a:endCxn id="235" idx="4"/>
          </p:cNvCxnSpPr>
          <p:nvPr/>
        </p:nvCxnSpPr>
        <p:spPr>
          <a:xfrm flipH="1" flipV="1">
            <a:off x="7730280" y="5670000"/>
            <a:ext cx="10440" cy="300600"/>
          </a:xfrm>
          <a:prstGeom prst="straightConnector1">
            <a:avLst/>
          </a:prstGeom>
          <a:ln w="25560">
            <a:solidFill>
              <a:srgbClr val="bfbfbf"/>
            </a:solidFill>
            <a:miter/>
            <a:tailEnd len="med" type="triangle" w="med"/>
          </a:ln>
        </p:spPr>
      </p:cxnSp>
      <p:cxnSp>
        <p:nvCxnSpPr>
          <p:cNvPr id="243" name="Elbow Connector 24"/>
          <p:cNvCxnSpPr>
            <a:stCxn id="234" idx="4"/>
            <a:endCxn id="241" idx="1"/>
          </p:cNvCxnSpPr>
          <p:nvPr/>
        </p:nvCxnSpPr>
        <p:spPr>
          <a:xfrm flipH="1" rot="16200000">
            <a:off x="4571280" y="3931200"/>
            <a:ext cx="638280" cy="4240800"/>
          </a:xfrm>
          <a:prstGeom prst="bentConnector2">
            <a:avLst/>
          </a:prstGeom>
          <a:ln w="25560">
            <a:solidFill>
              <a:srgbClr val="bfbfbf"/>
            </a:solidFill>
            <a:prstDash val="dash"/>
            <a:miter/>
            <a:tailEnd len="med" type="triangle" w="med"/>
          </a:ln>
        </p:spPr>
      </p:cxnSp>
      <p:cxnSp>
        <p:nvCxnSpPr>
          <p:cNvPr id="244" name="Straight Arrow Connector 26"/>
          <p:cNvCxnSpPr>
            <a:stCxn id="228" idx="4"/>
            <a:endCxn id="231" idx="0"/>
          </p:cNvCxnSpPr>
          <p:nvPr/>
        </p:nvCxnSpPr>
        <p:spPr>
          <a:xfrm>
            <a:off x="2774520" y="2811600"/>
            <a:ext cx="1080" cy="329040"/>
          </a:xfrm>
          <a:prstGeom prst="straightConnector1">
            <a:avLst/>
          </a:prstGeom>
          <a:ln w="12600">
            <a:solidFill>
              <a:srgbClr val="bfbfb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5" name="Straight Arrow Connector 27"/>
          <p:cNvCxnSpPr>
            <a:stCxn id="229" idx="4"/>
            <a:endCxn id="232" idx="0"/>
          </p:cNvCxnSpPr>
          <p:nvPr/>
        </p:nvCxnSpPr>
        <p:spPr>
          <a:xfrm>
            <a:off x="7703640" y="2787120"/>
            <a:ext cx="19800" cy="353160"/>
          </a:xfrm>
          <a:prstGeom prst="straightConnector1">
            <a:avLst/>
          </a:prstGeom>
          <a:ln w="12600">
            <a:solidFill>
              <a:srgbClr val="bfbfb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6" name="Straight Arrow Connector 30"/>
          <p:cNvCxnSpPr>
            <a:stCxn id="232" idx="4"/>
            <a:endCxn id="235" idx="0"/>
          </p:cNvCxnSpPr>
          <p:nvPr/>
        </p:nvCxnSpPr>
        <p:spPr>
          <a:xfrm>
            <a:off x="7723080" y="4239720"/>
            <a:ext cx="8640" cy="345240"/>
          </a:xfrm>
          <a:prstGeom prst="straightConnector1">
            <a:avLst/>
          </a:prstGeom>
          <a:ln w="12600">
            <a:solidFill>
              <a:srgbClr val="bfbfb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7" name="Straight Arrow Connector 33"/>
          <p:cNvCxnSpPr>
            <a:stCxn id="231" idx="4"/>
            <a:endCxn id="234" idx="0"/>
          </p:cNvCxnSpPr>
          <p:nvPr/>
        </p:nvCxnSpPr>
        <p:spPr>
          <a:xfrm flipH="1">
            <a:off x="2769480" y="4239720"/>
            <a:ext cx="5400" cy="345240"/>
          </a:xfrm>
          <a:prstGeom prst="straightConnector1">
            <a:avLst/>
          </a:prstGeom>
          <a:ln w="12600">
            <a:solidFill>
              <a:srgbClr val="bfbfbf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f5494"/>
                </a:solidFill>
                <a:latin typeface="Verdana"/>
              </a:rPr>
              <a:t>This Modul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057040"/>
            <a:ext cx="82296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4b83"/>
                </a:solidFill>
                <a:latin typeface="Verdana"/>
              </a:rPr>
              <a:t>Introduces Quality Criteria 1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4b83"/>
                </a:solidFill>
                <a:latin typeface="Verdana"/>
              </a:rPr>
              <a:t>Discusses why looking at context and capacity is importa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4b83"/>
                </a:solidFill>
                <a:latin typeface="Verdana"/>
              </a:rPr>
              <a:t>Suggests ways to assess Contex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4b83"/>
                </a:solidFill>
                <a:latin typeface="Verdana"/>
              </a:rPr>
              <a:t>Suggests ways to assess Capacit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24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4b83"/>
                </a:solidFill>
                <a:latin typeface="Verdana"/>
              </a:rPr>
              <a:t>Reflects on participant’s experienc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5ec1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Next module: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f5494"/>
                </a:solidFill>
                <a:latin typeface="Verdana"/>
              </a:rPr>
              <a:t>Context assessment 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f5494"/>
                </a:solidFill>
                <a:latin typeface="Verdana"/>
              </a:rPr>
              <a:t>Identifying (and supporting) local demand and ownership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                                          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9001720" y="2146092120"/>
            <a:ext cx="2147484240" cy="1209674880"/>
            <a:chOff x="89001720" y="2146092120"/>
            <a:chExt cx="2147484240" cy="1209674880"/>
          </a:xfrm>
        </p:grpSpPr>
        <p:pic>
          <p:nvPicPr>
            <p:cNvPr id="251" name="Picture 8" descr=""/>
            <p:cNvPicPr/>
            <p:nvPr/>
          </p:nvPicPr>
          <p:blipFill>
            <a:blip r:embed="rId1"/>
            <a:stretch/>
          </p:blipFill>
          <p:spPr>
            <a:xfrm>
              <a:off x="89001720" y="2146092120"/>
              <a:ext cx="350540280" cy="12096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9" descr=""/>
            <p:cNvPicPr/>
            <p:nvPr/>
          </p:nvPicPr>
          <p:blipFill>
            <a:blip r:embed="rId2"/>
            <a:stretch/>
          </p:blipFill>
          <p:spPr>
            <a:xfrm>
              <a:off x="1885945320" y="2146092120"/>
              <a:ext cx="350540640" cy="120967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Group 14"/>
          <p:cNvGrpSpPr/>
          <p:nvPr/>
        </p:nvGrpSpPr>
        <p:grpSpPr>
          <a:xfrm>
            <a:off x="2203560" y="3352680"/>
            <a:ext cx="3004920" cy="762120"/>
            <a:chOff x="2203560" y="3352680"/>
            <a:chExt cx="3004920" cy="762120"/>
          </a:xfrm>
        </p:grpSpPr>
        <p:graphicFrame>
          <p:nvGraphicFramePr>
            <p:cNvPr id="254" name="Object 2"/>
            <p:cNvGraphicFramePr/>
            <p:nvPr/>
          </p:nvGraphicFramePr>
          <p:xfrm>
            <a:off x="2203560" y="3352680"/>
            <a:ext cx="490320" cy="762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5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03560" y="3352680"/>
                      <a:ext cx="4903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Object 3"/>
            <p:cNvGraphicFramePr/>
            <p:nvPr/>
          </p:nvGraphicFramePr>
          <p:xfrm>
            <a:off x="4718160" y="3352680"/>
            <a:ext cx="490320" cy="762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18160" y="3352680"/>
                      <a:ext cx="4903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44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END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700" spc="-1" strike="noStrike">
                <a:solidFill>
                  <a:srgbClr val="0f5494"/>
                </a:solidFill>
                <a:latin typeface="Verdana"/>
              </a:rPr>
              <a:t>CD Quality Criteria 1: </a:t>
            </a:r>
            <a:br>
              <a:rPr sz="2700"/>
            </a:br>
            <a:r>
              <a:rPr b="1" i="1" lang="en-GB" sz="2700" spc="-1" strike="noStrike">
                <a:solidFill>
                  <a:srgbClr val="0f5494"/>
                </a:solidFill>
                <a:latin typeface="Verdana"/>
              </a:rPr>
              <a:t>1. Fit to the context and existing capacity</a:t>
            </a:r>
            <a:endParaRPr b="1" lang="en-US" sz="27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8360" y="2438280"/>
          <a:ext cx="8229600" cy="3668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11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.1 Are there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ritical constraints in the context </a:t>
                      </a:r>
                      <a:r>
                        <a:rPr b="0" lang="en-GB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which could make TC ineffective and impede achieving the purpose of the TC? If yes, how will they be addressed?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.2 Has the </a:t>
                      </a: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xisting capacity </a:t>
                      </a:r>
                      <a:r>
                        <a:rPr b="0" lang="en-GB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of the concerned partner(s) organisation(s) been assessed? Is it confirmed that the objectives and the scope of the support match the existing capacity to lead, manage and absorb the support? 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11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1.3 How have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imilar programmes </a:t>
                      </a:r>
                      <a:r>
                        <a:rPr b="0" lang="en-US" sz="2000" spc="-1" strike="noStrike">
                          <a:solidFill>
                            <a:srgbClr val="0f5494"/>
                          </a:solidFill>
                          <a:latin typeface="Verdana"/>
                        </a:rPr>
                        <a:t>and types of support worked in the current context? Please indicate which, if any, and why they have been successful. </a:t>
                      </a:r>
                      <a:endParaRPr b="0" lang="en-US" sz="2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f5494"/>
                </a:solidFill>
                <a:latin typeface="Verdana"/>
              </a:rPr>
              <a:t>Why is this criteria important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5036-868F-4A70-B741-DC9AC92D55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677160" y="299736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Don’t waste resourc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758160" y="5343480"/>
            <a:ext cx="45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est fit to context and capacit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657360" y="4149720"/>
            <a:ext cx="27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void ‘parallelism’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0" name="Picture 3" descr="Resource waste.PNG"/>
          <p:cNvPicPr/>
          <p:nvPr/>
        </p:nvPicPr>
        <p:blipFill>
          <a:blip r:embed="rId1"/>
          <a:stretch/>
        </p:blipFill>
        <p:spPr>
          <a:xfrm>
            <a:off x="4427640" y="227664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puzzle fit.PNG"/>
          <p:cNvPicPr/>
          <p:nvPr/>
        </p:nvPicPr>
        <p:blipFill>
          <a:blip r:embed="rId2"/>
          <a:stretch/>
        </p:blipFill>
        <p:spPr>
          <a:xfrm>
            <a:off x="6227640" y="5157720"/>
            <a:ext cx="1557360" cy="1555920"/>
          </a:xfrm>
          <a:prstGeom prst="rect">
            <a:avLst/>
          </a:prstGeom>
          <a:ln w="0">
            <a:noFill/>
          </a:ln>
        </p:spPr>
      </p:pic>
      <p:cxnSp>
        <p:nvCxnSpPr>
          <p:cNvPr id="152" name="Straight Arrow Connector 9"/>
          <p:cNvCxnSpPr/>
          <p:nvPr/>
        </p:nvCxnSpPr>
        <p:spPr>
          <a:xfrm>
            <a:off x="4932360" y="4220640"/>
            <a:ext cx="3456720" cy="108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3" name="Straight Arrow Connector 12"/>
          <p:cNvCxnSpPr/>
          <p:nvPr/>
        </p:nvCxnSpPr>
        <p:spPr>
          <a:xfrm>
            <a:off x="5003280" y="4652640"/>
            <a:ext cx="2521800" cy="1080"/>
          </a:xfrm>
          <a:prstGeom prst="straightConnector1">
            <a:avLst/>
          </a:prstGeom>
          <a:ln w="38160">
            <a:solidFill>
              <a:srgbClr val="0000ff"/>
            </a:solidFill>
            <a:prstDash val="sysDash"/>
            <a:miter/>
            <a:tailEnd len="med" type="triangle" w="med"/>
          </a:ln>
        </p:spPr>
      </p:cxnSp>
      <p:pic>
        <p:nvPicPr>
          <p:cNvPr id="154" name="Picture 11" descr="Question 4.PNG"/>
          <p:cNvPicPr/>
          <p:nvPr/>
        </p:nvPicPr>
        <p:blipFill>
          <a:blip r:embed="rId3"/>
          <a:stretch/>
        </p:blipFill>
        <p:spPr>
          <a:xfrm>
            <a:off x="7524720" y="4365720"/>
            <a:ext cx="4939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EB11-AE0E-4850-B045-3DA2E2FD962C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6" name="Content Placeholder 3" descr=""/>
          <p:cNvPicPr/>
          <p:nvPr/>
        </p:nvPicPr>
        <p:blipFill>
          <a:blip r:embed="rId1"/>
          <a:stretch/>
        </p:blipFill>
        <p:spPr>
          <a:xfrm>
            <a:off x="4059360" y="1054080"/>
            <a:ext cx="5048280" cy="54691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360" y="1017360"/>
            <a:ext cx="5518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f5494"/>
                </a:solidFill>
                <a:latin typeface="Verdana"/>
              </a:rPr>
              <a:t>Assessment - a key task: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94960"/>
            <a:ext cx="419112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Throughout the life of programme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, not just desig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o ensure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relevance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, determine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feasibility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, allow for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adapt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monitor progres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Verdana"/>
              </a:rPr>
              <a:t>Ensure linkages with the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policy dialogu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essons Learning.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1"/>
          <p:cNvSpPr/>
          <p:nvPr/>
        </p:nvSpPr>
        <p:spPr>
          <a:xfrm>
            <a:off x="457200" y="1523880"/>
            <a:ext cx="8381880" cy="5105520"/>
          </a:xfrm>
          <a:prstGeom prst="roundRect">
            <a:avLst>
              <a:gd name="adj" fmla="val 16667"/>
            </a:avLst>
          </a:prstGeom>
          <a:solidFill>
            <a:srgbClr val="3e6fd2">
              <a:alpha val="2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ntextual factors beyond influenc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ound Same Side Corner Rectangle 2"/>
          <p:cNvSpPr/>
          <p:nvPr/>
        </p:nvSpPr>
        <p:spPr>
          <a:xfrm>
            <a:off x="3862440" y="3548160"/>
            <a:ext cx="822240" cy="822240"/>
          </a:xfrm>
          <a:custGeom>
            <a:avLst/>
            <a:gdLst/>
            <a:ahLst/>
            <a:rect l="l" t="t" r="r" b="b"/>
            <a:pathLst>
              <a:path w="822325" h="822325">
                <a:moveTo>
                  <a:pt x="137057" y="0"/>
                </a:moveTo>
                <a:lnTo>
                  <a:pt x="685268" y="0"/>
                </a:lnTo>
                <a:cubicBezTo>
                  <a:pt x="760962" y="0"/>
                  <a:pt x="822325" y="61363"/>
                  <a:pt x="822325" y="137057"/>
                </a:cubicBezTo>
                <a:lnTo>
                  <a:pt x="822325" y="822325"/>
                </a:lnTo>
                <a:lnTo>
                  <a:pt x="822325" y="822325"/>
                </a:lnTo>
                <a:lnTo>
                  <a:pt x="0" y="822325"/>
                </a:lnTo>
                <a:lnTo>
                  <a:pt x="0" y="822325"/>
                </a:lnTo>
                <a:lnTo>
                  <a:pt x="0" y="137057"/>
                </a:lnTo>
                <a:cubicBezTo>
                  <a:pt x="0" y="61363"/>
                  <a:pt x="61363" y="0"/>
                  <a:pt x="137057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Round Same Side Corner Rectangle 3"/>
          <p:cNvSpPr/>
          <p:nvPr/>
        </p:nvSpPr>
        <p:spPr>
          <a:xfrm>
            <a:off x="1447920" y="2514600"/>
            <a:ext cx="5257800" cy="4114800"/>
          </a:xfrm>
          <a:prstGeom prst="pie">
            <a:avLst/>
          </a:prstGeom>
          <a:solidFill>
            <a:srgbClr val="3e6fd2">
              <a:alpha val="41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       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Contextual factors and actors within influenc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7315200" y="3352680"/>
            <a:ext cx="139068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der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1" lang="da-DK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59436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com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4572000" y="3352680"/>
            <a:ext cx="13892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ut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2438280" y="2819520"/>
            <a:ext cx="2156040" cy="22860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apacit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990720" y="3200400"/>
            <a:ext cx="1468440" cy="160020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f5494"/>
                </a:solidFill>
                <a:latin typeface="Trebuchet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current input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2209680" y="4495680"/>
            <a:ext cx="1387440" cy="144936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cesses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Oval 6"/>
          <p:cNvSpPr/>
          <p:nvPr/>
        </p:nvSpPr>
        <p:spPr>
          <a:xfrm rot="20901600">
            <a:off x="1283760" y="5628960"/>
            <a:ext cx="1111320" cy="7621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D support</a:t>
            </a:r>
            <a:r>
              <a:rPr b="1" lang="da-DK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Oval 13"/>
          <p:cNvSpPr/>
          <p:nvPr/>
        </p:nvSpPr>
        <p:spPr>
          <a:xfrm>
            <a:off x="1143000" y="4800600"/>
            <a:ext cx="1066680" cy="828720"/>
          </a:xfrm>
          <a:prstGeom prst="ellipse">
            <a:avLst/>
          </a:prstGeom>
          <a:solidFill>
            <a:srgbClr val="339966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ternal resources </a:t>
            </a:r>
            <a:endParaRPr b="0" lang="en-US" sz="13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70866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5715000" y="4114800"/>
            <a:ext cx="463680" cy="144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360" bIns="-936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434340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Line 18"/>
          <p:cNvSpPr/>
          <p:nvPr/>
        </p:nvSpPr>
        <p:spPr>
          <a:xfrm>
            <a:off x="2209680" y="4038480"/>
            <a:ext cx="46368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Line 18"/>
          <p:cNvSpPr/>
          <p:nvPr/>
        </p:nvSpPr>
        <p:spPr>
          <a:xfrm flipV="1">
            <a:off x="3048120" y="4343040"/>
            <a:ext cx="380880" cy="30492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Line 18"/>
          <p:cNvSpPr/>
          <p:nvPr/>
        </p:nvSpPr>
        <p:spPr>
          <a:xfrm>
            <a:off x="1905120" y="5181480"/>
            <a:ext cx="463320" cy="18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-9000" bIns="-90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Line 18"/>
          <p:cNvSpPr/>
          <p:nvPr/>
        </p:nvSpPr>
        <p:spPr>
          <a:xfrm flipV="1">
            <a:off x="2286000" y="5486040"/>
            <a:ext cx="304920" cy="228600"/>
          </a:xfrm>
          <a:prstGeom prst="line">
            <a:avLst/>
          </a:prstGeom>
          <a:ln w="82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Assessing </a:t>
            </a:r>
            <a:r>
              <a:rPr b="1" i="1" lang="en-US" sz="2400" spc="-1" strike="noStrike" u="sng">
                <a:solidFill>
                  <a:srgbClr val="0f5494"/>
                </a:solidFill>
                <a:uFillTx/>
                <a:latin typeface="Verdana"/>
              </a:rPr>
              <a:t>Contex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GB" sz="2800" spc="-1" strike="noStrike">
                <a:solidFill>
                  <a:srgbClr val="0f5494"/>
                </a:solidFill>
                <a:latin typeface="Verdana"/>
              </a:rPr>
              <a:t>Assessing the Context 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Understanding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drivers, opportunities and constraint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o change; (the rules of the game, binding constrain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takeholder mapping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 (power and influence both formal and informal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cognising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fluence of culture, and history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of organisations, sectors, countr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Distinguishing what is possible in different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ntext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 (MIC versus Fragile/ post-conflict. Simple org’n versus complex sectors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3EF2-195F-4B8E-A65E-00B6211CF555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The relationship Culture and Context for capacity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Content Placeholder 1" descr=""/>
          <p:cNvPicPr/>
          <p:nvPr/>
        </p:nvPicPr>
        <p:blipFill>
          <a:blip r:embed="rId1"/>
          <a:stretch/>
        </p:blipFill>
        <p:spPr>
          <a:xfrm>
            <a:off x="231840" y="2146320"/>
            <a:ext cx="5887800" cy="4638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6407280" y="1857240"/>
            <a:ext cx="273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he relationship between culture, context, capacity and change is very complex beca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u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 capacity and change are embedded within context, while at the same time it is the context that offers the potential levers for chang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25064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Three context assessment tool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f5494"/>
                </a:solidFill>
                <a:latin typeface="Verdana"/>
              </a:rPr>
              <a:t>Political Economy Analysis</a:t>
            </a:r>
            <a:r>
              <a:rPr b="0" i="1" lang="en-GB" sz="21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ethodology for analysing the 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pace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”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for refor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pecific guidance available: PPCM and Cap4Dev practice group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2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f5494"/>
                </a:solidFill>
                <a:latin typeface="Verdana"/>
              </a:rPr>
              <a:t>Opportunity Framework</a:t>
            </a:r>
            <a:r>
              <a:rPr b="0" i="1" lang="en-GB" sz="21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0" i="1" lang="en-GB" sz="11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1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 way to look at broad geo-political and socio-economic processes providing reform 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windows</a:t>
            </a:r>
            <a:r>
              <a:rPr b="0" lang="ja-JP" sz="1800" spc="-1" strike="noStrike">
                <a:solidFill>
                  <a:srgbClr val="0f5494"/>
                </a:solidFill>
                <a:latin typeface="Verdana"/>
              </a:rPr>
              <a:t>”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Methodology under prepara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f5494"/>
                </a:solidFill>
                <a:latin typeface="Verdana"/>
              </a:rPr>
              <a:t>Stakeholder Mapping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Sector Governance mapping produced by EC in sector guidanc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Multiple tools and methods available on internet/ resource book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ff0000"/>
                </a:solidFill>
                <a:latin typeface="Verdana"/>
              </a:rPr>
              <a:t>BUT NO SUBSTITUTE FOR SUSTAINED ENGAGEMENT AND BUILDING OF SOUND RELATIONSHIPS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6" name="Picture 1" descr="Toolkit.jpg"/>
          <p:cNvPicPr/>
          <p:nvPr/>
        </p:nvPicPr>
        <p:blipFill>
          <a:blip r:embed="rId1"/>
          <a:stretch/>
        </p:blipFill>
        <p:spPr>
          <a:xfrm>
            <a:off x="6805440" y="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4:11:02Z</dcterms:created>
  <dc:creator>turneem</dc:creator>
  <dc:description/>
  <dc:language>en-US</dc:language>
  <cp:lastModifiedBy>DI PILLO Daniele (DEVCO)</cp:lastModifiedBy>
  <dcterms:modified xsi:type="dcterms:W3CDTF">2013-10-22T13:10:27Z</dcterms:modified>
  <cp:revision>175</cp:revision>
  <dc:subject/>
  <dc:title>Slide 1</dc:title>
</cp:coreProperties>
</file>