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9AAA-0BF6-40C0-B40B-DA51D79CF230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6B64-D3E5-48D9-A840-6F1C8FF0D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8B62-943B-4FD3-86FB-AAAC44D41E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25FD-9293-4766-AC80-17C73C608A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711-A10E-47F7-8A75-772EEF166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B55-1240-4447-940E-276239AB0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F6B-E747-4B2F-8721-AE7FDA4FD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78AE-DD9B-4D6E-A369-1EFEC25F6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4B4-8E26-4469-86FE-69326B4BA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82D-06A4-4DB1-82E8-BC67F30E6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EE6D-10A2-455C-8E5C-41A0602A3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B64-E493-4D57-AE05-7D788E46C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6334-748D-4228-8D64-9BB7E6D26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602-2F3F-4BF2-BCEF-46E6CA64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399-1C70-4E0B-866E-E56060E21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EC5-0F6A-41C7-9E96-257A6A88BD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498C-06CA-47D5-8E7F-BDAA1FB5D4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FB4-5C2E-46B0-9D06-AFDFB1941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5EB-F811-411F-B715-BA34632B17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AAE1-C8BA-4902-9624-2FAEA6CCFF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383-D537-4C18-972A-0EE561319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E55-91C3-4E9D-B477-CA8D74336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FB7-9A7E-48E8-A857-F642B037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4AD-CA16-4634-93D4-B076058E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102-C90A-49C4-A6C6-369116D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C3B-3FAE-4FBC-AD57-0DBFCBA5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5D9B-560B-467A-9E66-9B28332A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D1A-9524-4D80-AFE3-BA09E1CC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FFC-332F-4CCD-83DA-91794CD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40C-E1A7-4F8A-9F09-9D1059D5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798C-D836-4EDA-B28D-C7228DC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4544-5778-4F78-86CB-9396557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F23-CFC4-490B-B9BC-A81537D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A9A-950C-484A-BA7C-B267304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84E8-A8CE-4A55-86A5-A0CA3F4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8AB-36CA-428D-94E2-723FD0F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1FD-CD35-4910-B58C-154CD55A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D3E9-BE94-49E4-AC27-5A2BCA13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31FE-9F5F-476F-88E8-AC0DF6B2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8C898-6851-4DB4-8EE9-5724B2469F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5DB8F-9A1D-4B6E-8362-0C778DA67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C9277-EE33-45D2-B387-811E83ACFC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07C2E-8233-4EDE-BA8D-1613C12742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11F07-5BD2-4C64-9BB2-6E5CDB1AA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B5C-6D92-4591-9ED4-8B3A986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2C273-64D8-4678-AEF1-9B088F0913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98840-31BA-428B-A532-7A44D2B47E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1AAD2-6419-4197-809F-B605F870EC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0C325-C001-43DC-BA48-87180F18AE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8CF6A-6205-488C-9310-3F873EE1FF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556AA-49D9-4D78-8AE6-461B6B89A4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BD0D8-46D7-4A6F-98B8-739906940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886-E7C1-4839-A42A-8096F99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6B3-88AA-4ADB-9FF6-1D0F700D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2ED-67D4-41ED-85E2-8F307FCE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E9F-3937-475F-B012-F7D0678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D8B-57B7-463A-8220-8EEBC02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954-AA2C-4788-92A5-618B79FF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4188-230B-4791-8A32-1FA1B54050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648D-ED23-40F3-ADE8-104233A6A17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2268000" y="6248520"/>
            <a:ext cx="475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7524720" y="6248520"/>
            <a:ext cx="11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F77E-F231-4EC7-ADB0-43EE6C75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sourcecentre.pscbs.gov.rw/best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CB05-5FED-4FFF-8A99-88A55EB0CAB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4680" y="2357280"/>
            <a:ext cx="58291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Effective 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Capacity Development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From Theory to Practic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42960" y="400032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2: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cepts and Principl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1" name="Picture 5" descr="eu_flag 2"/>
          <p:cNvPicPr/>
          <p:nvPr/>
        </p:nvPicPr>
        <p:blipFill>
          <a:blip r:embed="rId1"/>
          <a:stretch/>
        </p:blipFill>
        <p:spPr>
          <a:xfrm>
            <a:off x="7308720" y="6021360"/>
            <a:ext cx="10018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        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132600" y="3352680"/>
            <a:ext cx="13888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2313000" y="2819520"/>
            <a:ext cx="2155680" cy="228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BLACK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BOX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621648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6846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914040"/>
            <a:ext cx="34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apacity for what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3975120" y="2867040"/>
            <a:ext cx="2608200" cy="2363760"/>
          </a:xfrm>
          <a:prstGeom prst="ellipse">
            <a:avLst/>
          </a:prstGeom>
          <a:solidFill>
            <a:srgbClr val="ffb490">
              <a:alpha val="4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 for what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(output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1219320" y="1828800"/>
            <a:ext cx="4647960" cy="449568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54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5" name="Octagon 27"/>
          <p:cNvSpPr/>
          <p:nvPr/>
        </p:nvSpPr>
        <p:spPr>
          <a:xfrm>
            <a:off x="3733920" y="2362320"/>
            <a:ext cx="1600200" cy="1546200"/>
          </a:xfrm>
          <a:prstGeom prst="octagon">
            <a:avLst>
              <a:gd name="adj" fmla="val 29287"/>
            </a:avLst>
          </a:prstGeom>
          <a:solidFill>
            <a:srgbClr val="2d5ec1">
              <a:alpha val="24000"/>
            </a:srgbClr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rporate”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PFM, HR, M&amp;E etc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Octagon 30"/>
          <p:cNvSpPr/>
          <p:nvPr/>
        </p:nvSpPr>
        <p:spPr>
          <a:xfrm>
            <a:off x="1828800" y="2286000"/>
            <a:ext cx="1571760" cy="1523880"/>
          </a:xfrm>
          <a:prstGeom prst="octagon">
            <a:avLst>
              <a:gd name="adj" fmla="val 29287"/>
            </a:avLst>
          </a:prstGeom>
          <a:solidFill>
            <a:srgbClr val="2d5ec1">
              <a:alpha val="24000"/>
            </a:srgbClr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ector-Specific</a:t>
            </a: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: nurses, teachers, enginee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Oval 34"/>
          <p:cNvSpPr/>
          <p:nvPr/>
        </p:nvSpPr>
        <p:spPr>
          <a:xfrm>
            <a:off x="1600200" y="4114800"/>
            <a:ext cx="1676520" cy="1600200"/>
          </a:xfrm>
          <a:prstGeom prst="ellipse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Policy &amp; Strateg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Analysis, planning, dialogue, leadership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Oval 35"/>
          <p:cNvSpPr/>
          <p:nvPr/>
        </p:nvSpPr>
        <p:spPr>
          <a:xfrm>
            <a:off x="3809880" y="4191120"/>
            <a:ext cx="1600200" cy="1600200"/>
          </a:xfrm>
          <a:prstGeom prst="ellipse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mplementat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Logistics, business processes, communication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8153280" y="3733920"/>
            <a:ext cx="990720" cy="99216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7238880" y="3733920"/>
            <a:ext cx="914400" cy="915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172200" y="3733920"/>
            <a:ext cx="1008000" cy="915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1143000" y="1600200"/>
            <a:ext cx="4952880" cy="48006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0" y="3581280"/>
            <a:ext cx="990720" cy="10670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685800" y="5029200"/>
            <a:ext cx="83808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Oval 6"/>
          <p:cNvSpPr/>
          <p:nvPr/>
        </p:nvSpPr>
        <p:spPr>
          <a:xfrm rot="20901600">
            <a:off x="293760" y="5851440"/>
            <a:ext cx="788760" cy="7272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0" y="4648320"/>
            <a:ext cx="76212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70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1" name="Oval 29"/>
          <p:cNvSpPr/>
          <p:nvPr/>
        </p:nvSpPr>
        <p:spPr>
          <a:xfrm rot="18405600">
            <a:off x="1641240" y="2443320"/>
            <a:ext cx="1427040" cy="211932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ADAPT &amp; SELF-RENEW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Oval 30"/>
          <p:cNvSpPr/>
          <p:nvPr/>
        </p:nvSpPr>
        <p:spPr>
          <a:xfrm rot="2895600">
            <a:off x="4059000" y="2280960"/>
            <a:ext cx="1511280" cy="210816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TECHNICAL &amp; LOGISTIC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Oval 31"/>
          <p:cNvSpPr/>
          <p:nvPr/>
        </p:nvSpPr>
        <p:spPr>
          <a:xfrm rot="2193000">
            <a:off x="2018880" y="3801600"/>
            <a:ext cx="1478160" cy="218592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BALANCE DIVERSITY &amp; COHEREN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Oval 32"/>
          <p:cNvSpPr/>
          <p:nvPr/>
        </p:nvSpPr>
        <p:spPr>
          <a:xfrm>
            <a:off x="2666880" y="1828800"/>
            <a:ext cx="1447920" cy="228600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COMMIT &amp; ENGAG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Oval 33"/>
          <p:cNvSpPr/>
          <p:nvPr/>
        </p:nvSpPr>
        <p:spPr>
          <a:xfrm rot="18997200">
            <a:off x="3629160" y="3870000"/>
            <a:ext cx="1461960" cy="226836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RELATE &amp; ATTRACT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TextBox 19"/>
          <p:cNvSpPr/>
          <p:nvPr/>
        </p:nvSpPr>
        <p:spPr>
          <a:xfrm>
            <a:off x="2302920" y="28954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LEADERSHIP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3850920" y="335268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LEGAL FRAMEWORK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21"/>
          <p:cNvSpPr/>
          <p:nvPr/>
        </p:nvSpPr>
        <p:spPr>
          <a:xfrm>
            <a:off x="2985480" y="20574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TRUCTU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2888640" y="43434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4694760" y="426708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TAFF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1758960" y="36576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RESOURC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3465000" y="533412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NFRASTRUCTU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2045520" y="495288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EQUIP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5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7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8" name="Oval 27"/>
          <p:cNvSpPr/>
          <p:nvPr/>
        </p:nvSpPr>
        <p:spPr>
          <a:xfrm>
            <a:off x="1523880" y="2133720"/>
            <a:ext cx="2057400" cy="3733560"/>
          </a:xfrm>
          <a:prstGeom prst="ellipse">
            <a:avLst/>
          </a:prstGeom>
          <a:solidFill>
            <a:srgbClr val="3e6fd2">
              <a:alpha val="36000"/>
            </a:srgbClr>
          </a:solidFill>
          <a:ln w="9360">
            <a:solidFill>
              <a:srgbClr val="3166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TANGIBL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skills, systems, structur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FUNCTION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managerial, logistical, technical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FORM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mandated functions &amp; rol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3352680" y="2133720"/>
            <a:ext cx="2210040" cy="3809880"/>
          </a:xfrm>
          <a:prstGeom prst="ellipse">
            <a:avLst/>
          </a:prstGeom>
          <a:solidFill>
            <a:srgbClr val="3e6fd2">
              <a:alpha val="36000"/>
            </a:srgbClr>
          </a:solidFill>
          <a:ln w="9360">
            <a:solidFill>
              <a:srgbClr val="3166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NTANGIBL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loyalty, values, identity, leadershi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OF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learning, relational skill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NFORM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power, interests, network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229600" cy="993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3809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ff6600">
              <a:alpha val="3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0080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ts much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ore than individual training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…..though knowledge sharing can often be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 to b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bundled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and looked at from perspective of individual, organisational and enabling enviro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bou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upporting change process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…to lift organisational/ sector capacity to yield performance improvement and development resul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t needs to be treated as a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tegral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f organisational/ sector development plans, not as an isolated fiel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D is change, therefor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inciples of change manage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ply; ownership, leadership and change readiness are critic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has been learned about capacity and its developmen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250668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ndogenou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dimension, develop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artners can support, not lead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lies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knowledg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shar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luenc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incentive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pportun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hang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process (+ change is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political: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nners and lose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volves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mplexity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n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34" name="Picture 1" descr="Plus.PNG"/>
          <p:cNvPicPr/>
          <p:nvPr/>
        </p:nvPicPr>
        <p:blipFill>
          <a:blip r:embed="rId1"/>
          <a:stretch/>
        </p:blipFill>
        <p:spPr>
          <a:xfrm>
            <a:off x="8255160" y="2835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Plus.PNG"/>
          <p:cNvPicPr/>
          <p:nvPr/>
        </p:nvPicPr>
        <p:blipFill>
          <a:blip r:embed="rId2"/>
          <a:stretch/>
        </p:blipFill>
        <p:spPr>
          <a:xfrm>
            <a:off x="8255160" y="4054320"/>
            <a:ext cx="583920" cy="582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Plus.PNG"/>
          <p:cNvPicPr/>
          <p:nvPr/>
        </p:nvPicPr>
        <p:blipFill>
          <a:blip r:embed="rId3"/>
          <a:stretch/>
        </p:blipFill>
        <p:spPr>
          <a:xfrm>
            <a:off x="8255160" y="531972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6166-D858-4E02-96BA-45DBEA3256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f5494"/>
                </a:solidFill>
                <a:latin typeface="Verdana"/>
              </a:rPr>
              <a:t>How Does Change Happen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28760" y="1999800"/>
            <a:ext cx="7672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merg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evolve over time, dynam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ransformative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– in a crisis or when a block to change has been overcom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nned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purposeful interventions result in desired chang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e realities of chang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rarely linea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usually conteste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d resist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most often increment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4859280" y="3860640"/>
            <a:ext cx="4056120" cy="2298960"/>
          </a:xfrm>
          <a:prstGeom prst="triangle">
            <a:avLst>
              <a:gd name="adj" fmla="val 50000"/>
            </a:avLst>
          </a:prstGeom>
          <a:solidFill>
            <a:srgbClr val="f37d84">
              <a:alpha val="48000"/>
            </a:srgbClr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6243840" y="3645000"/>
            <a:ext cx="1636200" cy="524880"/>
            <a:chOff x="6243840" y="3645000"/>
            <a:chExt cx="1636200" cy="524880"/>
          </a:xfrm>
        </p:grpSpPr>
        <p:sp>
          <p:nvSpPr>
            <p:cNvPr id="342" name="AutoShape 5"/>
            <p:cNvSpPr/>
            <p:nvPr/>
          </p:nvSpPr>
          <p:spPr>
            <a:xfrm>
              <a:off x="68342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3" name="Text Box 6"/>
            <p:cNvSpPr/>
            <p:nvPr/>
          </p:nvSpPr>
          <p:spPr>
            <a:xfrm>
              <a:off x="6243840" y="3645000"/>
              <a:ext cx="163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Transformative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692760" y="3944520"/>
              <a:ext cx="69480" cy="225360"/>
            </a:xfrm>
            <a:prstGeom prst="downArrow">
              <a:avLst>
                <a:gd name="adj1" fmla="val 50000"/>
                <a:gd name="adj2" fmla="val 79406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5" name="AutoShape 8"/>
            <p:cNvSpPr/>
            <p:nvPr/>
          </p:nvSpPr>
          <p:spPr>
            <a:xfrm>
              <a:off x="65498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697680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71546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5188680" y="4221000"/>
            <a:ext cx="930240" cy="1046520"/>
            <a:chOff x="5188680" y="4221000"/>
            <a:chExt cx="930240" cy="1046520"/>
          </a:xfrm>
        </p:grpSpPr>
        <p:sp>
          <p:nvSpPr>
            <p:cNvPr id="349" name="AutoShape 12"/>
            <p:cNvSpPr/>
            <p:nvPr/>
          </p:nvSpPr>
          <p:spPr>
            <a:xfrm rot="18900000">
              <a:off x="5978160" y="450720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 rot="18900000">
              <a:off x="5872320" y="4644360"/>
              <a:ext cx="71640" cy="223560"/>
            </a:xfrm>
            <a:prstGeom prst="downArrow">
              <a:avLst>
                <a:gd name="adj1" fmla="val 50000"/>
                <a:gd name="adj2" fmla="val 7948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 rot="18900000">
              <a:off x="5765760" y="4779720"/>
              <a:ext cx="71640" cy="225720"/>
            </a:xfrm>
            <a:prstGeom prst="downArrow">
              <a:avLst>
                <a:gd name="adj1" fmla="val 50000"/>
                <a:gd name="adj2" fmla="val 79586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 rot="18900000">
              <a:off x="5659200" y="491400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 rot="18900000">
              <a:off x="5553000" y="504936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 rot="18720600">
              <a:off x="5155560" y="452088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lanned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55" name="Group 18"/>
          <p:cNvGrpSpPr/>
          <p:nvPr/>
        </p:nvGrpSpPr>
        <p:grpSpPr>
          <a:xfrm>
            <a:off x="6486480" y="6021360"/>
            <a:ext cx="1118160" cy="514800"/>
            <a:chOff x="6486480" y="6021360"/>
            <a:chExt cx="1118160" cy="514800"/>
          </a:xfrm>
        </p:grpSpPr>
        <p:sp>
          <p:nvSpPr>
            <p:cNvPr id="356" name="AutoShape 19"/>
            <p:cNvSpPr/>
            <p:nvPr/>
          </p:nvSpPr>
          <p:spPr>
            <a:xfrm rot="10800000">
              <a:off x="672732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7" name="AutoShape 20"/>
            <p:cNvSpPr/>
            <p:nvPr/>
          </p:nvSpPr>
          <p:spPr>
            <a:xfrm rot="10800000">
              <a:off x="687060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 rot="10800000">
              <a:off x="701352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AutoShape 22"/>
            <p:cNvSpPr/>
            <p:nvPr/>
          </p:nvSpPr>
          <p:spPr>
            <a:xfrm rot="10800000">
              <a:off x="715428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AutoShape 23"/>
            <p:cNvSpPr/>
            <p:nvPr/>
          </p:nvSpPr>
          <p:spPr>
            <a:xfrm rot="10800000">
              <a:off x="729756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6486480" y="619884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Emergent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This Modu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iscusses: “What is Capacity Development?”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onsiders Capacity Development in EU coope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ovides an overview of Definitions and Concep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Complexity</a:t>
            </a:r>
            <a:r>
              <a:rPr b="1" i="1" lang="en-GB" sz="4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and Capacity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905120"/>
          <a:ext cx="8229600" cy="4402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Far From Agreemen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e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Anarch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icated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omplex</a:t>
                      </a: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lose to Agreemen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omplicated</a:t>
                      </a: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e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lose to Certainty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►►►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Far From Certainty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EAAD-78C3-412F-8261-24E207458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78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Action Field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00040" y="1752480"/>
          <a:ext cx="8032680" cy="4213440"/>
        </p:xfrm>
        <a:graphic>
          <a:graphicData uri="http://schemas.openxmlformats.org/drawingml/2006/table">
            <a:tbl>
              <a:tblPr/>
              <a:tblGrid>
                <a:gridCol w="1548000"/>
                <a:gridCol w="2162160"/>
                <a:gridCol w="2160360"/>
                <a:gridCol w="2162160"/>
              </a:tblGrid>
              <a:tr h="3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iliza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en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</a:tr>
              <a:tr h="1377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Development of adequate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kills, knowledge, competencies and attitu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pplication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of skills, knowledge, competencies in the workplac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duction of staff turnover, facilitation of skills and knowledge transfer within institu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7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sa-tional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stablishment of efficient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ructures, processes and procedu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ntegration of structure, processes and procedures in the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daily workflo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gular adaptation 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f structures, processes and procedure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36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tutional and policy environment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stablishment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of adequate institutions, laws and regula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nforcemen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 of laws and regulations for good governanc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gular adaptation 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f institutions, laws and regula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8"/>
          <p:cNvSpPr/>
          <p:nvPr/>
        </p:nvSpPr>
        <p:spPr>
          <a:xfrm>
            <a:off x="468360" y="6165720"/>
            <a:ext cx="6000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ource: Rwanda Public Sector Capacity Building Secretariat available at </a:t>
            </a:r>
            <a:r>
              <a:rPr b="0" lang="sk-SK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resourcecentre.pscbs.gov.rw/best</a:t>
            </a:r>
            <a:r>
              <a:rPr b="0" lang="sk-SK" sz="1200" spc="-1" strike="noStrike">
                <a:solidFill>
                  <a:srgbClr val="0f5494"/>
                </a:solidFill>
                <a:latin typeface="Verdana"/>
              </a:rPr>
              <a:t> accessed 3.1.2012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What is </a:t>
            </a:r>
            <a:r>
              <a:rPr b="1" i="1" lang="en-US" sz="2800" spc="-1" strike="noStrike" u="sng">
                <a:solidFill>
                  <a:srgbClr val="0f5494"/>
                </a:solidFill>
                <a:uFillTx/>
                <a:latin typeface="Verdana"/>
              </a:rPr>
              <a:t>Support</a:t>
            </a: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 for Capacity Developmen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 modest but important role….that goes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beyond T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Quality Criteria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– towards good design, effective engagement, regular review and lear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Ownership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- the local drive for change is most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0080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ff66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D110-44A3-40B2-93FA-61AA3059ED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Key Message: Donors can promote and accompany, but can’t “do” i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n provide access to resources, ideas, connections and opportuniti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T no substitution for commitment, energy, motiv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186-DEAE-4891-9BFB-A66B06770A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o play this role requires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6960" y="2131560"/>
            <a:ext cx="8685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thorough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nderstanding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context,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hallenges and opportunities for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ideration of range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ternativ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rategie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entry poi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ing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pen and explicit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discus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pproaches/op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ing flexible and ready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dapt and lear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o changing needs, and opportunit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4" name="Picture 1" descr="Context.jpg"/>
          <p:cNvPicPr/>
          <p:nvPr/>
        </p:nvPicPr>
        <p:blipFill>
          <a:blip r:embed="rId1"/>
          <a:stretch/>
        </p:blipFill>
        <p:spPr>
          <a:xfrm>
            <a:off x="7272360" y="1143000"/>
            <a:ext cx="1687320" cy="1711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Alternatives.jpg"/>
          <p:cNvPicPr/>
          <p:nvPr/>
        </p:nvPicPr>
        <p:blipFill>
          <a:blip r:embed="rId2"/>
          <a:stretch/>
        </p:blipFill>
        <p:spPr>
          <a:xfrm>
            <a:off x="6915240" y="3132000"/>
            <a:ext cx="20444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iscussion.jpg"/>
          <p:cNvPicPr/>
          <p:nvPr/>
        </p:nvPicPr>
        <p:blipFill>
          <a:blip r:embed="rId3"/>
          <a:stretch/>
        </p:blipFill>
        <p:spPr>
          <a:xfrm>
            <a:off x="7442280" y="4537080"/>
            <a:ext cx="15174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Welcome.jpg"/>
          <p:cNvPicPr/>
          <p:nvPr/>
        </p:nvPicPr>
        <p:blipFill>
          <a:blip r:embed="rId1"/>
          <a:stretch/>
        </p:blipFill>
        <p:spPr>
          <a:xfrm>
            <a:off x="6491160" y="2482920"/>
            <a:ext cx="2644920" cy="17542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changing donor ro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49192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rst listen, listen again ….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you relevant to your partn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alogue, negotiate, influence, facilit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rok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0" name="Picture 3" descr="Ear.jpg"/>
          <p:cNvPicPr/>
          <p:nvPr/>
        </p:nvPicPr>
        <p:blipFill>
          <a:blip r:embed="rId2"/>
          <a:stretch/>
        </p:blipFill>
        <p:spPr>
          <a:xfrm>
            <a:off x="6932520" y="1822320"/>
            <a:ext cx="827280" cy="132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Negotiate.jpg"/>
          <p:cNvPicPr/>
          <p:nvPr/>
        </p:nvPicPr>
        <p:blipFill>
          <a:blip r:embed="rId3"/>
          <a:stretch/>
        </p:blipFill>
        <p:spPr>
          <a:xfrm>
            <a:off x="7346880" y="4237200"/>
            <a:ext cx="1339920" cy="1608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Broker.jpg"/>
          <p:cNvPicPr/>
          <p:nvPr/>
        </p:nvPicPr>
        <p:blipFill>
          <a:blip r:embed="rId4"/>
          <a:stretch/>
        </p:blipFill>
        <p:spPr>
          <a:xfrm>
            <a:off x="2236680" y="4799160"/>
            <a:ext cx="1679760" cy="1116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1167120" y="593244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……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o watch your languag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big picture challen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5" name="Diagram 3" descr=""/>
          <p:cNvPicPr/>
          <p:nvPr/>
        </p:nvPicPr>
        <p:blipFill>
          <a:blip r:embed="rId1"/>
          <a:stretch/>
        </p:blipFill>
        <p:spPr>
          <a:xfrm>
            <a:off x="853920" y="2511360"/>
            <a:ext cx="7382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752120"/>
            <a:ext cx="853416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The CD Quality Criteria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ffers guidance on how on to apply good practice in supporting capacity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0821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409" name="Group 1"/>
          <p:cNvGrpSpPr/>
          <p:nvPr/>
        </p:nvGrpSpPr>
        <p:grpSpPr>
          <a:xfrm>
            <a:off x="1111320" y="1828800"/>
            <a:ext cx="7057800" cy="4713120"/>
            <a:chOff x="1111320" y="1828800"/>
            <a:chExt cx="7057800" cy="4713120"/>
          </a:xfrm>
        </p:grpSpPr>
        <p:grpSp>
          <p:nvGrpSpPr>
            <p:cNvPr id="410" name="Group 42"/>
            <p:cNvGrpSpPr/>
            <p:nvPr/>
          </p:nvGrpSpPr>
          <p:grpSpPr>
            <a:xfrm>
              <a:off x="3066480" y="2885040"/>
              <a:ext cx="3289680" cy="3295800"/>
              <a:chOff x="3066480" y="2885040"/>
              <a:chExt cx="3289680" cy="3295800"/>
            </a:xfrm>
          </p:grpSpPr>
          <p:grpSp>
            <p:nvGrpSpPr>
              <p:cNvPr id="411" name="Group 41"/>
              <p:cNvGrpSpPr/>
              <p:nvPr/>
            </p:nvGrpSpPr>
            <p:grpSpPr>
              <a:xfrm>
                <a:off x="3066480" y="2885040"/>
                <a:ext cx="3289680" cy="3295800"/>
                <a:chOff x="3066480" y="2885040"/>
                <a:chExt cx="3289680" cy="3295800"/>
              </a:xfrm>
            </p:grpSpPr>
            <p:sp>
              <p:nvSpPr>
                <p:cNvPr id="412" name="AutoShape 6"/>
                <p:cNvSpPr/>
                <p:nvPr/>
              </p:nvSpPr>
              <p:spPr>
                <a:xfrm rot="18850800">
                  <a:off x="3472560" y="3443040"/>
                  <a:ext cx="2477160" cy="2179800"/>
                </a:xfrm>
                <a:custGeom>
                  <a:avLst/>
                  <a:gdLst>
                    <a:gd name="textAreaLeft" fmla="*/ 619920 w 2477160"/>
                    <a:gd name="textAreaRight" fmla="*/ 1857240 w 2477160"/>
                    <a:gd name="textAreaTop" fmla="*/ 546120 h 2179800"/>
                    <a:gd name="textAreaBottom" fmla="*/ 1633680 h 217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5400"/>
                      </a:moveTo>
                      <a:lnTo>
                        <a:pt x="9450" y="5400"/>
                      </a:lnTo>
                      <a:lnTo>
                        <a:pt x="9450" y="2700"/>
                      </a:lnTo>
                      <a:lnTo>
                        <a:pt x="8100" y="2700"/>
                      </a:lnTo>
                      <a:lnTo>
                        <a:pt x="10800" y="0"/>
                      </a:lnTo>
                      <a:lnTo>
                        <a:pt x="13500" y="2700"/>
                      </a:lnTo>
                      <a:lnTo>
                        <a:pt x="12150" y="2700"/>
                      </a:lnTo>
                      <a:lnTo>
                        <a:pt x="12150" y="5400"/>
                      </a:lnTo>
                      <a:lnTo>
                        <a:pt x="16200" y="5400"/>
                      </a:lnTo>
                      <a:lnTo>
                        <a:pt x="16200" y="9450"/>
                      </a:lnTo>
                      <a:lnTo>
                        <a:pt x="18900" y="9450"/>
                      </a:lnTo>
                      <a:lnTo>
                        <a:pt x="18900" y="8100"/>
                      </a:lnTo>
                      <a:lnTo>
                        <a:pt x="21600" y="10800"/>
                      </a:lnTo>
                      <a:lnTo>
                        <a:pt x="18900" y="13500"/>
                      </a:lnTo>
                      <a:lnTo>
                        <a:pt x="18900" y="12150"/>
                      </a:lnTo>
                      <a:lnTo>
                        <a:pt x="16200" y="12150"/>
                      </a:lnTo>
                      <a:lnTo>
                        <a:pt x="16200" y="16200"/>
                      </a:lnTo>
                      <a:lnTo>
                        <a:pt x="12150" y="16200"/>
                      </a:lnTo>
                      <a:lnTo>
                        <a:pt x="12150" y="18900"/>
                      </a:lnTo>
                      <a:lnTo>
                        <a:pt x="13500" y="18900"/>
                      </a:lnTo>
                      <a:lnTo>
                        <a:pt x="10800" y="21600"/>
                      </a:lnTo>
                      <a:lnTo>
                        <a:pt x="8100" y="18900"/>
                      </a:lnTo>
                      <a:lnTo>
                        <a:pt x="9450" y="18900"/>
                      </a:lnTo>
                      <a:lnTo>
                        <a:pt x="9450" y="16200"/>
                      </a:lnTo>
                      <a:lnTo>
                        <a:pt x="5400" y="16200"/>
                      </a:lnTo>
                      <a:lnTo>
                        <a:pt x="5400" y="12150"/>
                      </a:lnTo>
                      <a:lnTo>
                        <a:pt x="2700" y="12150"/>
                      </a:lnTo>
                      <a:lnTo>
                        <a:pt x="2700" y="13500"/>
                      </a:lnTo>
                      <a:lnTo>
                        <a:pt x="0" y="10800"/>
                      </a:lnTo>
                      <a:lnTo>
                        <a:pt x="2700" y="8100"/>
                      </a:lnTo>
                      <a:lnTo>
                        <a:pt x="2700" y="9450"/>
                      </a:lnTo>
                      <a:lnTo>
                        <a:pt x="5400" y="9450"/>
                      </a:lnTo>
                      <a:lnTo>
                        <a:pt x="5400" y="540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413" name="AutoShape 6"/>
                <p:cNvSpPr/>
                <p:nvPr/>
              </p:nvSpPr>
              <p:spPr>
                <a:xfrm>
                  <a:off x="3555360" y="3435480"/>
                  <a:ext cx="2322000" cy="2196720"/>
                </a:xfrm>
                <a:custGeom>
                  <a:avLst/>
                  <a:gdLst>
                    <a:gd name="textAreaLeft" fmla="*/ 581040 w 2322000"/>
                    <a:gd name="textAreaRight" fmla="*/ 1740960 w 2322000"/>
                    <a:gd name="textAreaTop" fmla="*/ 549360 h 2196720"/>
                    <a:gd name="textAreaBottom" fmla="*/ 1647360 h 21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5400"/>
                      </a:moveTo>
                      <a:lnTo>
                        <a:pt x="9450" y="5400"/>
                      </a:lnTo>
                      <a:lnTo>
                        <a:pt x="9450" y="2700"/>
                      </a:lnTo>
                      <a:lnTo>
                        <a:pt x="8100" y="2700"/>
                      </a:lnTo>
                      <a:lnTo>
                        <a:pt x="10800" y="0"/>
                      </a:lnTo>
                      <a:lnTo>
                        <a:pt x="13500" y="2700"/>
                      </a:lnTo>
                      <a:lnTo>
                        <a:pt x="12150" y="2700"/>
                      </a:lnTo>
                      <a:lnTo>
                        <a:pt x="12150" y="5400"/>
                      </a:lnTo>
                      <a:lnTo>
                        <a:pt x="16200" y="5400"/>
                      </a:lnTo>
                      <a:lnTo>
                        <a:pt x="16200" y="9450"/>
                      </a:lnTo>
                      <a:lnTo>
                        <a:pt x="18900" y="9450"/>
                      </a:lnTo>
                      <a:lnTo>
                        <a:pt x="18900" y="8100"/>
                      </a:lnTo>
                      <a:lnTo>
                        <a:pt x="21600" y="10800"/>
                      </a:lnTo>
                      <a:lnTo>
                        <a:pt x="18900" y="13500"/>
                      </a:lnTo>
                      <a:lnTo>
                        <a:pt x="18900" y="12150"/>
                      </a:lnTo>
                      <a:lnTo>
                        <a:pt x="16200" y="12150"/>
                      </a:lnTo>
                      <a:lnTo>
                        <a:pt x="16200" y="16200"/>
                      </a:lnTo>
                      <a:lnTo>
                        <a:pt x="12150" y="16200"/>
                      </a:lnTo>
                      <a:lnTo>
                        <a:pt x="12150" y="18900"/>
                      </a:lnTo>
                      <a:lnTo>
                        <a:pt x="13500" y="18900"/>
                      </a:lnTo>
                      <a:lnTo>
                        <a:pt x="10800" y="21600"/>
                      </a:lnTo>
                      <a:lnTo>
                        <a:pt x="8100" y="18900"/>
                      </a:lnTo>
                      <a:lnTo>
                        <a:pt x="9450" y="18900"/>
                      </a:lnTo>
                      <a:lnTo>
                        <a:pt x="9450" y="16200"/>
                      </a:lnTo>
                      <a:lnTo>
                        <a:pt x="5400" y="16200"/>
                      </a:lnTo>
                      <a:lnTo>
                        <a:pt x="5400" y="12150"/>
                      </a:lnTo>
                      <a:lnTo>
                        <a:pt x="2700" y="12150"/>
                      </a:lnTo>
                      <a:lnTo>
                        <a:pt x="2700" y="13500"/>
                      </a:lnTo>
                      <a:lnTo>
                        <a:pt x="0" y="10800"/>
                      </a:lnTo>
                      <a:lnTo>
                        <a:pt x="2700" y="8100"/>
                      </a:lnTo>
                      <a:lnTo>
                        <a:pt x="2700" y="9450"/>
                      </a:lnTo>
                      <a:lnTo>
                        <a:pt x="5400" y="9450"/>
                      </a:lnTo>
                      <a:lnTo>
                        <a:pt x="5400" y="54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14" name="Oval 8"/>
              <p:cNvSpPr/>
              <p:nvPr/>
            </p:nvSpPr>
            <p:spPr>
              <a:xfrm>
                <a:off x="3954240" y="3720600"/>
                <a:ext cx="1551240" cy="1632960"/>
              </a:xfrm>
              <a:prstGeom prst="ellipse">
                <a:avLst/>
              </a:prstGeom>
              <a:solidFill>
                <a:srgbClr val="ebf5f5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Quality EC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Capacity 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Development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15" name="AutoShape 10"/>
            <p:cNvSpPr/>
            <p:nvPr/>
          </p:nvSpPr>
          <p:spPr>
            <a:xfrm>
              <a:off x="5953680" y="2635920"/>
              <a:ext cx="2201760" cy="144504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2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00"/>
                  </a:solidFill>
                  <a:latin typeface="Verdana"/>
                </a:rPr>
                <a:t>Adequate demand, and ownership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6" name="AutoShape 12"/>
            <p:cNvSpPr/>
            <p:nvPr/>
          </p:nvSpPr>
          <p:spPr>
            <a:xfrm>
              <a:off x="3612960" y="1828800"/>
              <a:ext cx="1998720" cy="143820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1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Fit to the context and existing capacity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7" name="AutoShape 13"/>
            <p:cNvSpPr/>
            <p:nvPr/>
          </p:nvSpPr>
          <p:spPr>
            <a:xfrm>
              <a:off x="1339560" y="4896720"/>
              <a:ext cx="1997280" cy="164520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4.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8" name="AutoShape 15"/>
            <p:cNvSpPr/>
            <p:nvPr/>
          </p:nvSpPr>
          <p:spPr>
            <a:xfrm>
              <a:off x="5621760" y="4971960"/>
              <a:ext cx="2547360" cy="149508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3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Clear link to results and outcome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9" name="AutoShape 12"/>
            <p:cNvSpPr/>
            <p:nvPr/>
          </p:nvSpPr>
          <p:spPr>
            <a:xfrm>
              <a:off x="1111320" y="3022560"/>
              <a:ext cx="2225520" cy="113868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5.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Appropriate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PIA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20" name="Rectangle 13"/>
          <p:cNvSpPr/>
          <p:nvPr/>
        </p:nvSpPr>
        <p:spPr>
          <a:xfrm>
            <a:off x="1257480" y="5487840"/>
            <a:ext cx="216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7920"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Harmonized suppor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Cross 3"/>
          <p:cNvSpPr/>
          <p:nvPr/>
        </p:nvSpPr>
        <p:spPr>
          <a:xfrm>
            <a:off x="3984480" y="1501920"/>
            <a:ext cx="914400" cy="91440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Capacity Development in EU Cooper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key driver of aid and development effectiveness: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aris to Busa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central theme shaping the way the EU provides development assistance, address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Agenda for Chang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feature of most if not all projects and programmes – much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more than TC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distinct area of work or a key cross-cutting theme?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imary or complementary action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upport for Capacity Developm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43000" y="1752120"/>
            <a:ext cx="8702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Quality criteria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ffer guidance on how to apply good practice for supporting capacity develop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pplying quality criteria raises questions for the EU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hat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expertise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does it require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hat scope to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adapt procedur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o realities on the ground?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How to manage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trade-off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08000"/>
                </a:solidFill>
                <a:latin typeface="Verdana"/>
              </a:rPr>
              <a:t>-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investing in complex and long CD process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hort-term expectations for quick concrete results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meeting disbursement targe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973760" y="3645000"/>
            <a:ext cx="3419280" cy="1944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95280" y="1980720"/>
            <a:ext cx="8291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h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EC has developed tools for monitoring the quality of implementation, which provide the framework for good desig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QSG (Quality Gr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RO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annual EAM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AC evalu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e novelty of the EC approach lies in translating the Aid Effectiveness principles into quality criteria to be mainstreamed into the EC Project Cycle and be monitored regularl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b4377"/>
                </a:solidFill>
                <a:latin typeface="Verdana"/>
              </a:rPr>
              <a:t>How the QC are applied in PCM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9591-DF8C-46A8-83F2-3C723E8D6F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548-A4ED-4BFF-9796-B0DFC3B90B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4b83"/>
                </a:solidFill>
                <a:latin typeface="Verdana"/>
              </a:rPr>
              <a:t>Definition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493560" y="1828800"/>
            <a:ext cx="8442360" cy="4925880"/>
          </a:xfrm>
          <a:prstGeom prst="rect">
            <a:avLst/>
          </a:prstGeom>
          <a:ln w="0">
            <a:noFill/>
          </a:ln>
        </p:spPr>
      </p:pic>
      <p:sp>
        <p:nvSpPr>
          <p:cNvPr id="149" name="Explosion 2 4"/>
          <p:cNvSpPr/>
          <p:nvPr/>
        </p:nvSpPr>
        <p:spPr>
          <a:xfrm>
            <a:off x="2514600" y="2743200"/>
            <a:ext cx="914400" cy="30492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Explosion 2 5"/>
          <p:cNvSpPr/>
          <p:nvPr/>
        </p:nvSpPr>
        <p:spPr>
          <a:xfrm>
            <a:off x="3429000" y="2895480"/>
            <a:ext cx="457200" cy="15264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xplosion 2 6"/>
          <p:cNvSpPr/>
          <p:nvPr/>
        </p:nvSpPr>
        <p:spPr>
          <a:xfrm>
            <a:off x="2514600" y="274320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Cloud Callout 7"/>
          <p:cNvSpPr/>
          <p:nvPr/>
        </p:nvSpPr>
        <p:spPr>
          <a:xfrm>
            <a:off x="2438280" y="2819520"/>
            <a:ext cx="914400" cy="612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Cloud Callout 8"/>
          <p:cNvSpPr/>
          <p:nvPr/>
        </p:nvSpPr>
        <p:spPr>
          <a:xfrm>
            <a:off x="2666880" y="2743200"/>
            <a:ext cx="1371600" cy="5335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ff6600">
              <a:alpha val="3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914040"/>
            <a:ext cx="34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onceptual Mod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0080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hat is Capacit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What is Capacity?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apacity Leve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apacity For What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0148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Capacity Leve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219240" y="2305080"/>
            <a:ext cx="8742240" cy="4211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481920" y="21636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Lev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6790680" y="214308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Areas (exampl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ounded Rectangle 1"/>
          <p:cNvSpPr/>
          <p:nvPr/>
        </p:nvSpPr>
        <p:spPr>
          <a:xfrm>
            <a:off x="0" y="1600200"/>
            <a:ext cx="9144000" cy="502920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ECTOR 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8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Regular Pentagon 29"/>
          <p:cNvSpPr/>
          <p:nvPr/>
        </p:nvSpPr>
        <p:spPr>
          <a:xfrm>
            <a:off x="4495680" y="29718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egular Pentagon 30"/>
          <p:cNvSpPr/>
          <p:nvPr/>
        </p:nvSpPr>
        <p:spPr>
          <a:xfrm>
            <a:off x="1905120" y="3048120"/>
            <a:ext cx="53316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egular Pentagon 31"/>
          <p:cNvSpPr/>
          <p:nvPr/>
        </p:nvSpPr>
        <p:spPr>
          <a:xfrm>
            <a:off x="2514600" y="20574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Regular Pentagon 32"/>
          <p:cNvSpPr/>
          <p:nvPr/>
        </p:nvSpPr>
        <p:spPr>
          <a:xfrm>
            <a:off x="2514600" y="4495680"/>
            <a:ext cx="533520" cy="60984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Regular Pentagon 33"/>
          <p:cNvSpPr/>
          <p:nvPr/>
        </p:nvSpPr>
        <p:spPr>
          <a:xfrm>
            <a:off x="4495680" y="43434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Isosceles Triangle 34"/>
          <p:cNvSpPr/>
          <p:nvPr/>
        </p:nvSpPr>
        <p:spPr>
          <a:xfrm>
            <a:off x="4905360" y="3211560"/>
            <a:ext cx="824040" cy="8240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Isosceles Triangle 35"/>
          <p:cNvSpPr/>
          <p:nvPr/>
        </p:nvSpPr>
        <p:spPr>
          <a:xfrm>
            <a:off x="5715000" y="4038480"/>
            <a:ext cx="1060560" cy="9144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Isosceles Triangle 36"/>
          <p:cNvSpPr/>
          <p:nvPr/>
        </p:nvSpPr>
        <p:spPr>
          <a:xfrm>
            <a:off x="1752480" y="38862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Isosceles Triangle 37"/>
          <p:cNvSpPr/>
          <p:nvPr/>
        </p:nvSpPr>
        <p:spPr>
          <a:xfrm>
            <a:off x="3809880" y="20574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Isosceles Triangle 38"/>
          <p:cNvSpPr/>
          <p:nvPr/>
        </p:nvSpPr>
        <p:spPr>
          <a:xfrm>
            <a:off x="3733920" y="4952880"/>
            <a:ext cx="533160" cy="60984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Isosceles Triangle 39"/>
          <p:cNvSpPr/>
          <p:nvPr/>
        </p:nvSpPr>
        <p:spPr>
          <a:xfrm>
            <a:off x="2971800" y="32004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ounded Rectangle 40"/>
          <p:cNvSpPr/>
          <p:nvPr/>
        </p:nvSpPr>
        <p:spPr>
          <a:xfrm>
            <a:off x="2057400" y="25909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41"/>
          <p:cNvSpPr/>
          <p:nvPr/>
        </p:nvSpPr>
        <p:spPr>
          <a:xfrm>
            <a:off x="365760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Rounded Rectangle 42"/>
          <p:cNvSpPr/>
          <p:nvPr/>
        </p:nvSpPr>
        <p:spPr>
          <a:xfrm>
            <a:off x="24382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Rounded Rectangle 43"/>
          <p:cNvSpPr/>
          <p:nvPr/>
        </p:nvSpPr>
        <p:spPr>
          <a:xfrm>
            <a:off x="3809880" y="31240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Organisations, Sectors, Networ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8:05:14Z</dcterms:created>
  <dc:creator>turneem</dc:creator>
  <dc:description/>
  <dc:language>en-US</dc:language>
  <cp:lastModifiedBy>DI PILLO Daniele (DEVCO)</cp:lastModifiedBy>
  <dcterms:modified xsi:type="dcterms:W3CDTF">2013-10-22T13:09:22Z</dcterms:modified>
  <cp:revision>198</cp:revision>
  <dc:subject/>
  <dc:title>Slide 1</dc:title>
</cp:coreProperties>
</file>