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89F19-7CC0-4172-A8AF-F0FC2B82D72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6BB4ED-4260-44BB-A646-A56C948267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A7C647-06CC-410C-AB21-377888F2B2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A1F674-611A-4F8A-983B-B1AFBE35B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CA4A81-EA42-4691-9848-5780A9E606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53F3E6-DA35-466E-BF3B-9A3F8ADBFA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1AB68C-8BB4-407D-AD7A-2BC7D1447A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3FCAD2-B699-4BB0-A081-6342181F36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834DA7-597C-4E70-8A4F-32FA3C3E8F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668C36-9591-4F2C-A8BC-B810915D70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404040"/>
                </a:solidFill>
                <a:latin typeface="Calibri"/>
              </a:rPr>
              <a:t>The economic fields linked to Environ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gestion et la protection des ressource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: gestion des services publics, maîtrise de l’énergie, énergies renouvelables…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a prévention des risques et du traitement des pollution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: risques naturels, risques industriels, gestion des déchets, assainissement et gestion de l’eau… 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ménagement et cadre de vie :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-construction et éco-réhabilitation 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Les services à l’environnement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: éco-conception, management environnemental, activités juridiques spécialisées, recherche et développement, études et conseils, formation, éducation à l’environne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9F371-61F8-4BB1-A835-84F8A59213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FFC9-0E76-4B95-B97F-44A113E21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5015-489B-473D-BD35-63448E6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C40B-3DFD-41C5-B529-3156A96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97D7-881D-4061-9778-F7C24F794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08D1-F9B6-49F7-AB9A-AEA10E9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A7C7-DF04-41D3-A03B-6FCB7E4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34EC-F84D-4A1C-9DBF-1C31FC1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B2A4F-A997-4E04-BB1B-DA2C8362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E70E-FC32-41C1-856A-C646EB82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B154-F63B-4B9D-ADC6-7A9F021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2A21-C5C4-4254-95F2-264C23AF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7BE1-D44C-457B-99FE-EAE5DE6A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8CD61F-96D5-4D09-963F-7009A9C7498F}" type="slidenum"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384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468360" y="50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GIONAL INSTITUTE FOR ENVIRONMENT AND SUSTAINABLE DEVELOPMENT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Risk prevention and Pollution 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natural risks : protecting forests, restorating moutain soil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industrial risks : preventing water pollution, no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recycling, waste management, cleaning, water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404040"/>
                </a:solidFill>
                <a:latin typeface="Calibri"/>
              </a:rPr>
              <a:t>Planning and way of l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dscape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motion of natural and cultural heri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ricultural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eco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100" spc="-1" strike="noStrike">
                <a:solidFill>
                  <a:srgbClr val="404040"/>
                </a:solidFill>
                <a:latin typeface="Calibri"/>
              </a:rPr>
              <a:t>Environment service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Eco conception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Environmental management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Specialized legal activities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Research and Development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Design, marke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Studies and counsul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400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000" spc="-1" strike="noStrike">
                <a:solidFill>
                  <a:srgbClr val="e46c0a"/>
                </a:solidFill>
                <a:latin typeface="Calibri"/>
              </a:rPr>
              <a:t>Environment and SD edu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84807"/>
                </a:solidFill>
                <a:latin typeface="Calibri"/>
                <a:ea typeface="Arial"/>
              </a:rPr>
              <a:t>Formations 2012-2013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24000" y="765000"/>
            <a:ext cx="8712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84807"/>
                </a:solidFill>
                <a:latin typeface="Calibri"/>
              </a:rPr>
              <a:t>Towards youth and adults searching for jo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84807"/>
                </a:solidFill>
                <a:latin typeface="Calibri"/>
              </a:rPr>
              <a:t>Regional Training Program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Calibri"/>
              </a:rPr>
              <a:t>Chantier école  en technique d’éco-réhabilitation 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ec le CFPPA d’Ant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Calibri"/>
              </a:rPr>
              <a:t>Pré-qualification bâtiment , modules sur l’éco-construction </a:t>
            </a:r>
            <a:r>
              <a:rPr b="0" lang="fr-FR" sz="2400" spc="-1" strike="noStrike">
                <a:solidFill>
                  <a:srgbClr val="262626"/>
                </a:solidFill>
                <a:latin typeface="Calibri"/>
              </a:rPr>
              <a:t>à Marseille (Adef, GRETA, ACPM, Formations et Méti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Calibri"/>
              </a:rPr>
              <a:t>CAP Gardiens d’immeuble </a:t>
            </a:r>
            <a:r>
              <a:rPr b="0" lang="fr-FR" sz="2400" spc="-1" strike="noStrike">
                <a:solidFill>
                  <a:srgbClr val="262626"/>
                </a:solidFill>
                <a:latin typeface="Calibri"/>
              </a:rPr>
              <a:t>avec l’ADREP à Marse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Calibri"/>
              </a:rPr>
              <a:t>CAP GDPU </a:t>
            </a:r>
            <a:r>
              <a:rPr b="0" lang="fr-FR" sz="2400" spc="-1" strike="noStrike">
                <a:solidFill>
                  <a:srgbClr val="262626"/>
                </a:solidFill>
                <a:latin typeface="Calibri"/>
              </a:rPr>
              <a:t>(Gestion des Déchets et Propreté Urbaine) avec l’ADEF à Aubag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Calibri"/>
              </a:rPr>
              <a:t>CAP Couvreur- module énergies renouvelables </a:t>
            </a:r>
            <a:r>
              <a:rPr b="0" lang="fr-FR" sz="2400" spc="-1" strike="noStrike">
                <a:solidFill>
                  <a:srgbClr val="262626"/>
                </a:solidFill>
                <a:latin typeface="Calibri"/>
              </a:rPr>
              <a:t>avec le GRETA Marseille 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48592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IRFEDD 05-02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Image 5" descr="PACA1-coul(N).jpg"/>
          <p:cNvPicPr/>
          <p:nvPr/>
        </p:nvPicPr>
        <p:blipFill>
          <a:blip r:embed="rId1"/>
          <a:stretch/>
        </p:blipFill>
        <p:spPr>
          <a:xfrm>
            <a:off x="8064360" y="6323040"/>
            <a:ext cx="10796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600" spc="-1" strike="noStrike">
                <a:solidFill>
                  <a:srgbClr val="984807"/>
                </a:solidFill>
                <a:latin typeface="Calibri"/>
                <a:ea typeface="Arial"/>
              </a:rPr>
              <a:t>Formations 2012-2013 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24000" y="641520"/>
            <a:ext cx="882000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84807"/>
                </a:solidFill>
                <a:latin typeface="Arial"/>
              </a:rPr>
              <a:t>Towards youth and adults searching for jo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84807"/>
                </a:solidFill>
                <a:latin typeface="Arial"/>
              </a:rPr>
              <a:t>Regional Training 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84807"/>
                </a:solidFill>
                <a:latin typeface="Calibri"/>
              </a:rPr>
              <a:t>Bac Pro Hygiène et Environnement </a:t>
            </a:r>
            <a:r>
              <a:rPr b="0" lang="fr-FR" sz="2800" spc="-1" strike="noStrike">
                <a:solidFill>
                  <a:srgbClr val="262626"/>
                </a:solidFill>
                <a:latin typeface="Calibri"/>
              </a:rPr>
              <a:t>avec Performance Méditerranée à Marsei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84807"/>
                </a:solidFill>
                <a:latin typeface="Calibri"/>
              </a:rPr>
              <a:t>Bac Pro Vente, option Développement Durable </a:t>
            </a:r>
            <a:r>
              <a:rPr b="0" lang="fr-FR" sz="2800" spc="-1" strike="noStrike">
                <a:solidFill>
                  <a:srgbClr val="262626"/>
                </a:solidFill>
                <a:latin typeface="Calibri"/>
              </a:rPr>
              <a:t>avec Performance Méditerranée à Marseille et Salon de P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84807"/>
                </a:solidFill>
                <a:latin typeface="Calibri"/>
              </a:rPr>
              <a:t>Installateur chauffe eau solaire individuel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Venelles avec AC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84807"/>
                </a:solidFill>
                <a:latin typeface="Calibri"/>
              </a:rPr>
              <a:t>Métiers du solaire thermique et du photovoltaïqu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vec le GRETA 04 à Dignes et le GRETA 84 à 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Espace réservé du pied de page 4"/>
          <p:cNvSpPr/>
          <p:nvPr/>
        </p:nvSpPr>
        <p:spPr>
          <a:xfrm>
            <a:off x="33480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IRFEDD 05-02-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Image 5" descr="PACA1-coul(N).jpg"/>
          <p:cNvPicPr/>
          <p:nvPr/>
        </p:nvPicPr>
        <p:blipFill>
          <a:blip r:embed="rId1"/>
          <a:stretch/>
        </p:blipFill>
        <p:spPr>
          <a:xfrm>
            <a:off x="8064360" y="6323040"/>
            <a:ext cx="10796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595959"/>
                </a:solidFill>
                <a:latin typeface="Calibri"/>
              </a:rPr>
              <a:t>Cont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600200"/>
            <a:ext cx="822960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Europôle de l’Arbo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venue Louis Philib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13857 Aix-en-Provence cedex 3 - F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el/fax : +33 4 42 61 17 2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www.irfedd.f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276720" y="5516640"/>
            <a:ext cx="280800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IRFEDD missio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24000" y="1341360"/>
            <a:ext cx="8229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marL="495360" indent="-493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95360" indent="-493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065240"/>
                <a:tab algn="l" pos="1979640"/>
                <a:tab algn="l" pos="2894040"/>
                <a:tab algn="l" pos="3808440"/>
                <a:tab algn="l" pos="4722840"/>
                <a:tab algn="l" pos="5637240"/>
                <a:tab algn="l" pos="6551640"/>
                <a:tab algn="l" pos="7466040"/>
                <a:tab algn="l" pos="8380440"/>
                <a:tab algn="l" pos="9294840"/>
                <a:tab algn="l" pos="102092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55640" y="1166760"/>
            <a:ext cx="756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gulating the regional training o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ticipating in School and professional ori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Broadcasting information towards a large publ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ticipating new training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mpleting qualified and professionalized training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verall,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ssisting in the evolution of study courses, professions and trainings, according to the mutations expected in the field of sustainable developmen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mage 4" descr="Logo IRFEDD réduit.jpg"/>
          <p:cNvPicPr/>
          <p:nvPr/>
        </p:nvPicPr>
        <p:blipFill>
          <a:blip r:embed="rId1"/>
          <a:stretch/>
        </p:blipFill>
        <p:spPr>
          <a:xfrm>
            <a:off x="0" y="0"/>
            <a:ext cx="193032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Image 5" descr="Logo CFA MEDD réduit.jpg"/>
          <p:cNvPicPr/>
          <p:nvPr/>
        </p:nvPicPr>
        <p:blipFill>
          <a:blip r:embed="rId2"/>
          <a:stretch/>
        </p:blipFill>
        <p:spPr>
          <a:xfrm>
            <a:off x="6588000" y="0"/>
            <a:ext cx="253548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11280" y="620640"/>
            <a:ext cx="7777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operative Socie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of Collective  Inte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395280" y="754200"/>
            <a:ext cx="8229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404040"/>
                </a:solidFill>
                <a:latin typeface="Calibri"/>
              </a:rPr>
              <a:t>Creation of the S.C.I.C IRFEDD on the 16/10/09</a:t>
            </a:r>
            <a:br>
              <a:rPr sz="2800"/>
            </a:br>
            <a:r>
              <a:rPr b="1" i="1" lang="en-US" sz="2800" spc="-1" strike="noStrike">
                <a:solidFill>
                  <a:srgbClr val="595959"/>
                </a:solidFill>
                <a:latin typeface="Calibri"/>
              </a:rPr>
              <a:t>&gt; 1st created in France on regional training in the field of sustainable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59595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132000" y="5445000"/>
            <a:ext cx="28101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embers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4"/>
          <p:cNvSpPr/>
          <p:nvPr/>
        </p:nvSpPr>
        <p:spPr>
          <a:xfrm>
            <a:off x="2428920" y="1285920"/>
            <a:ext cx="6715080" cy="66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A / 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PUBLIC ACTORS and LOCAL COMMUNITIES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onseil Régional PACA, AREA, AR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B/ 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CONSULAR CORPS :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RESS, Chambre Régionale des Métiers et de l’Artisan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 ;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CC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C/ 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ECO CLUSTERS :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Bois et Construction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DM,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Capénergies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Eco-entreprises et Développement Durabl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Mer,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Risques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Trimatec 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/ FIRMS :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Veolia Eau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Veolia Propreté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Veolia Transport, Dalkia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EDF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Sophed, Pizzorno environnement, Giordano industries, SEM, Compagnie Nationale du Rhône,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GDF Suez,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Epur Méditerranée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Beaver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E/</a:t>
            </a:r>
            <a:r>
              <a:rPr b="1" i="1" lang="fr-FR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RESOURCE CENTER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Cité des Métiers de Marseille et PACA, Méditerranée Technologies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EnviroBAT Méditerranée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Graine PACA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ARDL, 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ARDML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, IPGR, Union Régionale des SCOP,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and employe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714680"/>
            <a:ext cx="235728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5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35 sharehol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17 administrators</a:t>
            </a:r>
            <a:br>
              <a:rPr sz="2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 8" descr="Logo IRFEDD réduit.jpg"/>
          <p:cNvPicPr/>
          <p:nvPr/>
        </p:nvPicPr>
        <p:blipFill>
          <a:blip r:embed="rId1"/>
          <a:stretch/>
        </p:blipFill>
        <p:spPr>
          <a:xfrm>
            <a:off x="34920" y="0"/>
            <a:ext cx="1930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595959"/>
                </a:solidFill>
                <a:latin typeface="Calibri"/>
              </a:rPr>
              <a:t>SCIC 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Diagramme 5" descr=""/>
          <p:cNvPicPr/>
          <p:nvPr/>
        </p:nvPicPr>
        <p:blipFill>
          <a:blip r:embed="rId1"/>
          <a:stretch/>
        </p:blipFill>
        <p:spPr>
          <a:xfrm>
            <a:off x="523800" y="1335240"/>
            <a:ext cx="8382240" cy="4906800"/>
          </a:xfrm>
          <a:prstGeom prst="rect">
            <a:avLst/>
          </a:prstGeom>
          <a:ln w="0">
            <a:noFill/>
          </a:ln>
        </p:spPr>
      </p:pic>
      <p:pic>
        <p:nvPicPr>
          <p:cNvPr id="65" name="Image 3" descr="Logo IRFEDD réduit.jpg"/>
          <p:cNvPicPr/>
          <p:nvPr/>
        </p:nvPicPr>
        <p:blipFill>
          <a:blip r:embed="rId2"/>
          <a:stretch/>
        </p:blipFill>
        <p:spPr>
          <a:xfrm>
            <a:off x="0" y="0"/>
            <a:ext cx="193032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Image 6" descr="Logo CFA MEDD réduit.jpg"/>
          <p:cNvPicPr/>
          <p:nvPr/>
        </p:nvPicPr>
        <p:blipFill>
          <a:blip r:embed="rId3"/>
          <a:stretch/>
        </p:blipFill>
        <p:spPr>
          <a:xfrm>
            <a:off x="6588000" y="0"/>
            <a:ext cx="25354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250920" y="333360"/>
            <a:ext cx="86421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 study that enabled us to contrast the point of views of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vironmental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source centers on the training /employment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ucation and training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24000" y="5661000"/>
            <a:ext cx="65700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547640" y="5877000"/>
            <a:ext cx="1589400" cy="59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419640" y="5805360"/>
            <a:ext cx="2365200" cy="72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4"/>
          <a:stretch/>
        </p:blipFill>
        <p:spPr>
          <a:xfrm>
            <a:off x="5997600" y="5877000"/>
            <a:ext cx="18162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5"/>
          <a:stretch/>
        </p:blipFill>
        <p:spPr>
          <a:xfrm>
            <a:off x="8101080" y="5877000"/>
            <a:ext cx="684000" cy="685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50920" y="3333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he preliminar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1600200"/>
            <a:ext cx="82296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13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1197000"/>
            <a:ext cx="820728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points stud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 analyse of the H.R pratices of regional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 definition of the economic fields linked to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e inventory of the Environmental Training offer in PACA region: 849 trainings invento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50920" y="33336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he preliminar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Calibri"/>
              </a:rPr>
              <a:t>Les secteurs de l’environnement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981000"/>
            <a:ext cx="468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anagement and Protection of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3640" y="764640"/>
            <a:ext cx="4321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isk Prevention and Pollution 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 6" descr="20070316_eoliennes.jpg"/>
          <p:cNvPicPr/>
          <p:nvPr/>
        </p:nvPicPr>
        <p:blipFill>
          <a:blip r:embed="rId1"/>
          <a:stretch/>
        </p:blipFill>
        <p:spPr>
          <a:xfrm>
            <a:off x="539640" y="1747800"/>
            <a:ext cx="331164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Image 7" descr="20050516_decharge.jpg"/>
          <p:cNvPicPr/>
          <p:nvPr/>
        </p:nvPicPr>
        <p:blipFill>
          <a:blip r:embed="rId2"/>
          <a:stretch/>
        </p:blipFill>
        <p:spPr>
          <a:xfrm>
            <a:off x="5292720" y="1628640"/>
            <a:ext cx="3214800" cy="21114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9"/>
          <p:cNvSpPr/>
          <p:nvPr/>
        </p:nvSpPr>
        <p:spPr>
          <a:xfrm>
            <a:off x="324000" y="407664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anning and Way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ZoneTexte 10"/>
          <p:cNvSpPr/>
          <p:nvPr/>
        </p:nvSpPr>
        <p:spPr>
          <a:xfrm>
            <a:off x="5219640" y="407664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vironem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Image 11" descr="20050523_animenvir2.jpg"/>
          <p:cNvPicPr/>
          <p:nvPr/>
        </p:nvPicPr>
        <p:blipFill>
          <a:blip r:embed="rId3"/>
          <a:stretch/>
        </p:blipFill>
        <p:spPr>
          <a:xfrm>
            <a:off x="5435640" y="4653000"/>
            <a:ext cx="316872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Image 12" descr="batiment.jpg"/>
          <p:cNvPicPr/>
          <p:nvPr/>
        </p:nvPicPr>
        <p:blipFill>
          <a:blip r:embed="rId4"/>
          <a:stretch/>
        </p:blipFill>
        <p:spPr>
          <a:xfrm>
            <a:off x="755640" y="4724280"/>
            <a:ext cx="3311640" cy="1860840"/>
          </a:xfrm>
          <a:prstGeom prst="rect">
            <a:avLst/>
          </a:prstGeom>
          <a:ln w="0">
            <a:noFill/>
          </a:ln>
        </p:spPr>
      </p:pic>
      <p:sp>
        <p:nvSpPr>
          <p:cNvPr id="86" name="Titre 3"/>
          <p:cNvSpPr/>
          <p:nvPr/>
        </p:nvSpPr>
        <p:spPr>
          <a:xfrm>
            <a:off x="539640" y="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404040"/>
                </a:solidFill>
                <a:latin typeface="Calibri"/>
              </a:rPr>
              <a:t>The economic fields linked to Environ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404040"/>
                </a:solidFill>
                <a:latin typeface="Calibri"/>
              </a:rPr>
              <a:t>Management and Protection of Resour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agement of natural spaces’ biod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gricultural engineering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Management of public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Energ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3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►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Production of renewabl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7:47:21Z</dcterms:created>
  <dc:creator>PC</dc:creator>
  <dc:description/>
  <dc:language>en-US</dc:language>
  <cp:lastModifiedBy>jaeger-a</cp:lastModifiedBy>
  <dcterms:modified xsi:type="dcterms:W3CDTF">2013-10-08T06:59:32Z</dcterms:modified>
  <cp:revision>133</cp:revision>
  <dc:subject/>
  <dc:title>IRFEDD  Institut Régional de Formation à l’Environnement et au Développement Durable</dc:title>
</cp:coreProperties>
</file>