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2"/>
          </p:nvPr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932040" y="739440"/>
            <a:ext cx="4937040" cy="3701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Click to move the slide</a:t>
            </a:r>
            <a:endParaRPr b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3"/>
          </p:nvPr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4"/>
          </p:nvPr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5BB7B-FBD5-4CDB-9A4A-EFFA72AD781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09CC9-9630-4BA4-A047-D7AE51EAC21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99A22-962C-434C-B486-5E949834560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5761C-57C1-48A9-9BD7-EEC5DFF6359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5DF38-C583-45DE-8A82-AA2404597C3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A7D77-4CF0-47CB-AC67-A0876ECC825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671BC-51E8-44AD-AFE3-D02500D4E13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57965-7763-4A5A-AEE7-39DEE843B1A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EDA54-62E9-4014-A1ED-800EFF517D1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DCF0A-2ABF-44A6-AA40-8D248CE7C0D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E68C3-53FB-4BAE-BFE4-256D5E68F98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7FD16-6B08-4621-B7F5-A2DA2E28C5D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3AE4D-4A26-4874-A15E-594E359E45C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B2922-D032-49FB-98CD-832BD0DF9F1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7A66B-90A7-46BA-BAD4-39FB89A085C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476000" y="333000"/>
            <a:ext cx="7381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7772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77720" indent="-477720">
              <a:spcBef>
                <a:spcPts val="799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477720" indent="-4777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477720" indent="-4777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477720" indent="-4777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477720" indent="-4777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477720" indent="-4777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79280" y="6381360"/>
            <a:ext cx="432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" name="Object 6"/>
          <p:cNvGraphicFramePr/>
          <p:nvPr/>
        </p:nvGraphicFramePr>
        <p:xfrm>
          <a:off x="179280" y="189000"/>
          <a:ext cx="1079640" cy="717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9280" y="189000"/>
                    <a:ext cx="1079640" cy="71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" name="Object 8"/>
          <p:cNvGraphicFramePr/>
          <p:nvPr/>
        </p:nvGraphicFramePr>
        <p:xfrm>
          <a:off x="179280" y="189000"/>
          <a:ext cx="1079640" cy="717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79280" y="189000"/>
                    <a:ext cx="1079640" cy="71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55680" y="2048040"/>
            <a:ext cx="6400800" cy="333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Budget Support and Governanc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ey elements of the draft communication on budget suppor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7th July 2011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DEVCO-Europeaid  A/2: Macroeconomic Analysis, Public Finance and Budget Sup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European Com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Design and Implementation</a:t>
            </a: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11280" y="1699920"/>
            <a:ext cx="77724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82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Improved risk management frame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50920" indent="-477720"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Political governance, macroeconomic, development, PFM, corruption and frau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15092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150920" indent="-477720"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Complementary tool in programming, design and implementation, and to inform decision-making and policy dialog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15092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150920" indent="-477720"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Focus on risks with high impact and high likeliho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15092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Design and Implementation</a:t>
            </a: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11280" y="1699920"/>
            <a:ext cx="77724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82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Policy Dialog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To ensure that major reforms are discussed, objectives are identified and results assess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Involvement of relevant Commission services, delegated cooperation with MS, improved access to TA and trai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Committed to promote inclusion of domestic stakeholders in policy dialogue and annual revie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1509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Performance Incentives and Condi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Base tranches linked to eligibil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Performance tranches linked to progress against indicators (mix of process, output and outcome indicator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Good governance contracts: conditions may be attached to supporting “deep and sustainable democracy and human right values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Summary</a:t>
            </a: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82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0000"/>
                </a:solidFill>
                <a:latin typeface="Times New Roman"/>
              </a:rPr>
              <a:t>Governance matters in budget support op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ntinued importance of budget support instru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tronger link with fundamental values of the EU (human rights, democracy and rule of la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trengthened eligibility crit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tronger focus on accountability and transpar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trengthened risk management framework (covering political, developmental, macroeconomic, public financial management and corruption risk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8276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Times New Roman"/>
              </a:rPr>
              <a:t>Thank you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Times New Roman"/>
              </a:rPr>
              <a:t>for your attention 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Communication: Draft Outline</a:t>
            </a: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hat is Budget Support, and Why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 Modern Approach to Budget Support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esign and Implem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What is Budget Support, and Why</a:t>
            </a: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1280" y="1557360"/>
            <a:ext cx="77724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82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BS: Policy dialogue, financial transfers, performance assessment and capacity buil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Means of delivering better aid (not an end in itself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Most suitable form of aid consistent with aid effectiveness agen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But not a blank cheque, nor provided to every coun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Questions about quality, value for money and impact, hence Green Paper October 201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A Modern Approach to Budget Support</a:t>
            </a: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1280" y="1557360"/>
            <a:ext cx="77724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82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Building on succ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Dynamic approach to eligibility criter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50920" indent="-477720"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But more structured assess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Predictability, ownership, performance related tranches, resul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50920" indent="-477720"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Use of more intermediate process and output indicators to better demonstrate and communicate partner country development resul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Portfolio approach: no global targets for use of budget sup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Risk management to be strengthene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A Modern Approach to Budget Support</a:t>
            </a: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11280" y="1557360"/>
            <a:ext cx="77724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82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Promoting human and democratic val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50920" indent="-477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GBS only when confidence that aid will be spent pursuing values to which EU subscrib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1509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150920" indent="-477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Where commitment deteriorates: adequate and coordinated EU response, but also progressive and proportion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1509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150920" indent="-477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SBS: focus on needs of populations, not subject to political conditional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1509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Promoting sector reforms and improving sector service deliv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50920" indent="-477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SBS in framework of sector reform support program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1509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150920" indent="-477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Sector focused conditions covering 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inter alia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budget allocations, reform implementation, institutional strengthening and sector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1509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150920" indent="-477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Strengthened focus on results, incentives to perform and improved accountability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1509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A Modern Approach to Budget Support</a:t>
            </a: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11280" y="1557360"/>
            <a:ext cx="77724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82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State Building in fragile st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50920" indent="-47772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ragile states: focus on state building, coherent and coordinated approaches, reinforced political and policy dialogue. Decisions  case by cas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Improving domestic revenue mobilisation and reducing dependency on a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5092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50920" indent="-47772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BS should complement, not substitute, domestic reven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50920" indent="-47772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Promote natural resource governance and transparency in resource rich count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5092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5092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A Modern Approach to Budget Support</a:t>
            </a: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11280" y="1557360"/>
            <a:ext cx="77724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82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Differentiating EU Budget Sup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5092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50920" indent="-47772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Good Governance Contr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50920" indent="-47772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ector Reform Contr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50920" indent="-47772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tate Building Contr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Design and Implementation</a:t>
            </a: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11280" y="1557360"/>
            <a:ext cx="77724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827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Precond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EU to decide whether preconditions for GBS exist: fundamental values of human rights, democracy and rule of law or a clear path towards these values exi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Eligibility Criter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Stable macroeconomic framew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50920" indent="-477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creased focus on domestic revenue mobilis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National/sector policy and refor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50920" indent="-477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ntinued focus on national ownershi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150920" indent="-477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tronger focus on specifying Commission comparative advant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Public financial 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50920" indent="-477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ssessment of PFM system to establish a base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150920" indent="-477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ay require short-term measures from PFM reform strategy before commencing 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150920" indent="-477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artner countries to be actively engaged in fight against fraud and corrup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NEW: transparency and oversight of budg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50920" indent="-477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ublic availability of budgetary in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150920" indent="-477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ntry point” to be defined, combined with dynamic approa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Design and Implementation</a:t>
            </a: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11280" y="1699920"/>
            <a:ext cx="77724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827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Strengthening domestic and mutual accountabi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trengthening openness, transparency and accountability of the budget process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upporting a participatory budget support approach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ncreasing programmes to support national legislative and oversight bodies and CSOs in budget support 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ncreasing transparency on budget support by publishing  relevant information on budget support financing agreements with partner countries and performance review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Defining a contractual relationship between a given partner country and the EU clearly implying concrete obligations and commitments on both si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2T16:42:01Z</dcterms:created>
  <dc:creator>JON</dc:creator>
  <dc:description/>
  <dc:language>en-US</dc:language>
  <cp:lastModifiedBy>MUGERIN Coralie (DEVCO)</cp:lastModifiedBy>
  <dcterms:modified xsi:type="dcterms:W3CDTF">2012-07-12T12:57:49Z</dcterms:modified>
  <cp:revision>425</cp:revision>
  <dc:subject/>
  <dc:title>PowerPoint Presentation</dc:title>
</cp:coreProperties>
</file>