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32040" y="739440"/>
            <a:ext cx="4937040" cy="37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6995-C771-475A-A187-80F5A97F3A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E1E7-D246-425B-9978-D3677E1008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EB42-F257-43D5-B0F0-00AC1C8B70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48AE-1E93-40A4-9D9A-965056EC2A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292A-CE12-460B-AD00-8BDAF0ACCF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A71D-C70F-44A2-B060-A868F489A5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F573-02BD-4A2E-8558-BB3F00561B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56D2-237A-4C01-8829-CC52E1FDF9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C721-7674-492E-9F2A-4CC366C539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CD6B-8A46-4D35-B1C2-249E18642D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CD0B-8D07-4D18-87E6-92BDDAAB60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BD5B-4BEA-46B7-AB2D-3B108B7B74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0CB2-8765-466E-BCDA-1EFD1D525F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F6DF-EC23-4FEB-AAA3-7AEBD3A5DD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0DDE-BB78-41AA-A9F6-9A8664EA48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000" y="333000"/>
            <a:ext cx="738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77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 indent="-477720">
              <a:spcBef>
                <a:spcPts val="799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9280" y="6381360"/>
            <a:ext cx="432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" name="Object 6"/>
          <p:cNvGraphicFramePr/>
          <p:nvPr/>
        </p:nvGraphicFramePr>
        <p:xfrm>
          <a:off x="179280" y="189000"/>
          <a:ext cx="1079640" cy="71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89000"/>
                    <a:ext cx="10796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" name="Object 8"/>
          <p:cNvGraphicFramePr/>
          <p:nvPr/>
        </p:nvGraphicFramePr>
        <p:xfrm>
          <a:off x="179280" y="189000"/>
          <a:ext cx="1079640" cy="71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189000"/>
                    <a:ext cx="10796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55680" y="2048040"/>
            <a:ext cx="6400800" cy="33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dget Support and Governa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elements of the draft communication on budget sup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7th July 201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EVCO-Europeaid  A/2: Macroeconomic Analysis, Public Finance and Budget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uropean Com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sign and Implementation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mproved risk management frame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olitical governance, macroeconomic, development, PFM, corruption and fra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plementary tool in programming, design and implementation, and to inform decision-making and policy dialog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ocus on risks with high impact and high likeliho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sign and Implementation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olicy Dialo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o ensure that major reforms are discussed, objectives are identified and results asses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volvement of relevant Commission services, delegated cooperation with MS, improved access to TA and trai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mitted to promote inclusion of domestic stakeholders in policy dialogue and annual revie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Performance Incentives and Cond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ase tranches linked to elig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erformance tranches linked to progress against indicators (mix of process, output and outcome indicato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Good governance contracts: conditions may be attached to supporting “deep and sustainable democracy and human right value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Times New Roman"/>
              </a:rPr>
              <a:t>Governance matters in budget support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inued importance of budget support instr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onger link with fundamental values of the EU (human rights, democracy and rule of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engthened eligibility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onger focus on accountability and transpa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engthened risk management framework (covering political, developmental, macroeconomic, public financial management and corruption ris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Thank you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for your attention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mmunication: Draft Outline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Budget Support, and Why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Modern Approach to Budget Support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ign and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hat is Budget Support, and Why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S: Policy dialogue, financial transfers, performance assessment and capacity 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eans of delivering better aid (not an end in itsel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st suitable form of aid consistent with aid effectiveness ag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ut not a blank cheque, nor provided to every cou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Questions about quality, value for money and impact, hence Green Paper October 20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 Modern Approach to Budget Support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uilding on su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ynamic approach to eligibility crit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ut more structured assess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edictability, ownership, performance related tranches,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se of more intermediate process and output indicators to better demonstrate and communicate partner country development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rtfolio approach: no global targets for use of budget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isk management to be strengthen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 Modern Approach to Budget Support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moting human and democratic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GBS only when confidence that aid will be spent pursuing values to which EU subscrib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Where commitment deteriorates: adequate and coordinated EU response, but also progressive and proportion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BS: focus on needs of populations, not subject to political condition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moting sector reforms and improving sector service deli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BS in framework of sector reform support program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ector focused conditions covering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nter alia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budget allocations, reform implementation, institutional strengthening and sector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rengthened focus on results, incentives to perform and improved accountabilit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 Modern Approach to Budget Support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tate Building in fragile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agile states: focus on state building, coherent and coordinated approaches, reinforced political and policy dialogue. Decisions  case by c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mproving domestic revenue mobilisation and reducing dependency on a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S should complement, not substitute, domestic reven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omote natural resource governance and transparency in resource rich cou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 Modern Approach to Budget Support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ifferentiating EU Budget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ood Governance Con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ctor Reform Con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ate Building Con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sign and Implementation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e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U to decide whether preconditions for GBS exist: fundamental values of human rights, democracy and rule of law or a clear path towards these values ex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ligibility Crit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table macroeconomic frame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reased focus on domestic revenue mob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National/sector policy and re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tinued focus on national owner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onger focus on specifying Commission comparative adva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ublic financial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sessment of PFM system to establish a base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y require short-term measures from PFM reform strategy before commencing 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ner countries to be actively engaged in fight against fraud and corrup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NEW: transparency and oversight of bud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blic availability of budgetary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try point” to be defined, combined with dynamic appro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sign and Implementation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trengthening domestic and mutual accoun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rengthening openness, transparency and accountability of the budget proces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upporting a participatory budget support approa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creasing programmes to support national legislative and oversight bodies and CSOs in budget support 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creasing transparency on budget support by publishing  relevant information on budget support financing agreements with partner countries and performance revi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fining a contractual relationship between a given partner country and the EU clearly implying concrete obligations and commitments on both s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2T16:42:01Z</dcterms:created>
  <dc:creator>JON</dc:creator>
  <dc:description/>
  <dc:language>en-US</dc:language>
  <cp:lastModifiedBy>MUGERIN Coralie (DEVCO)</cp:lastModifiedBy>
  <dcterms:modified xsi:type="dcterms:W3CDTF">2012-07-12T12:57:49Z</dcterms:modified>
  <cp:revision>425</cp:revision>
  <dc:subject/>
  <dc:title>PowerPoint Presentation</dc:title>
</cp:coreProperties>
</file>