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673E-8BFD-4D62-9898-AAA6B38DB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3FE0-939B-4686-A81F-9FBFB97AD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7BA7-D3AA-4A4A-A2AC-6D9397E21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433A-0B0B-4974-B095-70FB68287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BDE3F-3C31-4B46-8975-E73603039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16236-49F7-4546-B08C-C9CD02D9D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132C9-F0BD-4A98-9A7A-E3A049452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2D0C2-9F39-44F3-BD01-EC9D7D631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7201D-984A-462C-8E78-C0A19DBBB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C01D5-A475-4990-948C-937A39C94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B3AB4-BEDD-4C60-A4B5-050F5EE8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7158-48E9-4D27-A6DD-3DE09F10F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762EC-78F5-44CB-BC25-F65C1F83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94D42-EAA8-4C9A-90C3-896279B5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B9B7F-18D8-4A6E-84B1-91FF1AE78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61095-4C05-4216-AF7A-A2AD08F1A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969B7-3054-4E47-AC71-D524CFBA5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71E49-8273-4F73-90E2-7FA09883A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D5590-993E-44E2-A089-12630057C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DE09B-903F-4F7C-822F-15AE40F38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EAE25-1B6D-4664-B25F-E06CDECC2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9A76C-BF76-4E5F-9B9B-CE625320B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295E-2AD0-4FBA-B3B6-79121A756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08EC7-2847-47BF-9F73-366AC9B10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9549E-E100-46F6-ACF4-FA5CC89B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3F35E-94A3-49A1-9DEE-1A68A644A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76C8D-1EE8-42B7-81B5-43576576C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53202-7C73-4C12-83F9-D6C9BF59B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6A4FC-5D2F-4816-9FE8-F906A7E12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4E240-8665-49CC-A13B-FBFC6EEBE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66CF-0DA9-4AD9-9A6B-FDFFC56DC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FF39-FE58-4EDA-AB7C-2A73C2983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BFD0-AD8A-47D0-8B42-7702C73F2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CA53-1F6B-44FB-BB86-44B8B1D1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5143-C029-4B03-9B41-D3C3C8E05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923F-57EB-4C9F-B3D1-C37BBC3EB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95481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9548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33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A7DB7-0F70-45A6-91DD-8D935A6124D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HGU_ENG_CMYK"/>
          <p:cNvPicPr/>
          <p:nvPr/>
        </p:nvPicPr>
        <p:blipFill>
          <a:blip r:embed="rId2"/>
          <a:stretch/>
        </p:blipFill>
        <p:spPr>
          <a:xfrm>
            <a:off x="6588000" y="6261120"/>
            <a:ext cx="2089440" cy="48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72553-245B-4149-9EA9-3F56A43375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9" descr="HGU_ENG_CMYK"/>
          <p:cNvPicPr/>
          <p:nvPr/>
        </p:nvPicPr>
        <p:blipFill>
          <a:blip r:embed="rId2"/>
          <a:stretch/>
        </p:blipFill>
        <p:spPr>
          <a:xfrm>
            <a:off x="6588000" y="6261120"/>
            <a:ext cx="2089440" cy="4809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95481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9548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33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50EA2-2770-4A2B-9D42-72D161AF2507}" type="slidenum">
              <a:rPr b="0" lang="sv-SE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200" spc="-1" strike="noStrike">
                <a:solidFill>
                  <a:srgbClr val="003399"/>
                </a:solidFill>
                <a:latin typeface="Garamond"/>
              </a:rPr>
              <a:t>Mapping of donor agency (internal) training initiatives on climate change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898989"/>
                </a:solidFill>
                <a:latin typeface="Arial"/>
              </a:rPr>
              <a:t>Ulrika Åkesson, S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898989"/>
                </a:solidFill>
                <a:latin typeface="Arial"/>
              </a:rPr>
              <a:t>Olof Drakenberg, Sida Helpdesk for Environment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642960" y="642960"/>
            <a:ext cx="250488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200" spc="-1" strike="noStrike">
                <a:solidFill>
                  <a:srgbClr val="003399"/>
                </a:solidFill>
                <a:latin typeface="Garamond"/>
              </a:rPr>
              <a:t>Background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143000"/>
            <a:ext cx="45720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000000"/>
                </a:solidFill>
                <a:latin typeface="Arial"/>
              </a:rPr>
              <a:t>Internal need for capacity develop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000000"/>
                </a:solidFill>
                <a:latin typeface="Arial"/>
              </a:rPr>
              <a:t>Avoid duplication of effort and increase harmonis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000000"/>
                </a:solidFill>
                <a:latin typeface="Arial"/>
              </a:rPr>
              <a:t>What is your thinking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000000"/>
                </a:solidFill>
                <a:latin typeface="Arial"/>
              </a:rPr>
              <a:t>What are your experience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000000"/>
                </a:solidFill>
                <a:latin typeface="Arial"/>
              </a:rPr>
              <a:t>What are your plan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000000"/>
                </a:solidFill>
                <a:latin typeface="Arial"/>
              </a:rPr>
              <a:t>Answers from: CH, UK, NO, DE, DK, IR, EC, WB, 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rcRect l="0" t="0" r="7006" b="10721"/>
          <a:stretch/>
        </p:blipFill>
        <p:spPr>
          <a:xfrm>
            <a:off x="5500800" y="1071720"/>
            <a:ext cx="2971800" cy="19047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"/>
          <p:cNvPicPr/>
          <p:nvPr/>
        </p:nvPicPr>
        <p:blipFill>
          <a:blip r:embed="rId2"/>
          <a:srcRect l="0" t="23943" r="0" b="14494"/>
          <a:stretch/>
        </p:blipFill>
        <p:spPr>
          <a:xfrm>
            <a:off x="5500800" y="2976480"/>
            <a:ext cx="29750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200" spc="-1" strike="noStrike">
                <a:solidFill>
                  <a:srgbClr val="003399"/>
                </a:solidFill>
                <a:latin typeface="Garamond"/>
              </a:rPr>
              <a:t>Making hard choices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141120" y="1219320"/>
            <a:ext cx="9002880" cy="5181480"/>
          </a:xfrm>
          <a:prstGeom prst="rect">
            <a:avLst/>
          </a:prstGeom>
          <a:ln w="0">
            <a:noFill/>
          </a:ln>
        </p:spPr>
      </p:pic>
      <p:sp>
        <p:nvSpPr>
          <p:cNvPr id="138" name="6-Point Star 5"/>
          <p:cNvSpPr/>
          <p:nvPr/>
        </p:nvSpPr>
        <p:spPr>
          <a:xfrm>
            <a:off x="4495680" y="2362320"/>
            <a:ext cx="381240" cy="304560"/>
          </a:xfrm>
          <a:custGeom>
            <a:avLst/>
            <a:gdLst>
              <a:gd name="textAreaLeft" fmla="*/ 63360 w 381240"/>
              <a:gd name="textAreaRight" fmla="*/ 317880 w 3812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381000" h="304800">
                <a:moveTo>
                  <a:pt x="0" y="76200"/>
                </a:moveTo>
                <a:lnTo>
                  <a:pt x="126999" y="76199"/>
                </a:lnTo>
                <a:lnTo>
                  <a:pt x="190500" y="0"/>
                </a:lnTo>
                <a:lnTo>
                  <a:pt x="254001" y="76199"/>
                </a:lnTo>
                <a:lnTo>
                  <a:pt x="381000" y="76200"/>
                </a:lnTo>
                <a:lnTo>
                  <a:pt x="317502" y="152400"/>
                </a:lnTo>
                <a:lnTo>
                  <a:pt x="381000" y="228600"/>
                </a:lnTo>
                <a:lnTo>
                  <a:pt x="254001" y="228601"/>
                </a:lnTo>
                <a:lnTo>
                  <a:pt x="190500" y="304800"/>
                </a:lnTo>
                <a:lnTo>
                  <a:pt x="126999" y="228601"/>
                </a:lnTo>
                <a:lnTo>
                  <a:pt x="0" y="228600"/>
                </a:lnTo>
                <a:lnTo>
                  <a:pt x="63498" y="1524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23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6-Point Star 6"/>
          <p:cNvSpPr/>
          <p:nvPr/>
        </p:nvSpPr>
        <p:spPr>
          <a:xfrm>
            <a:off x="4495680" y="1676520"/>
            <a:ext cx="381240" cy="304560"/>
          </a:xfrm>
          <a:custGeom>
            <a:avLst/>
            <a:gdLst>
              <a:gd name="textAreaLeft" fmla="*/ 63360 w 381240"/>
              <a:gd name="textAreaRight" fmla="*/ 317880 w 3812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381000" h="304800">
                <a:moveTo>
                  <a:pt x="0" y="76200"/>
                </a:moveTo>
                <a:lnTo>
                  <a:pt x="126999" y="76199"/>
                </a:lnTo>
                <a:lnTo>
                  <a:pt x="190500" y="0"/>
                </a:lnTo>
                <a:lnTo>
                  <a:pt x="254001" y="76199"/>
                </a:lnTo>
                <a:lnTo>
                  <a:pt x="381000" y="76200"/>
                </a:lnTo>
                <a:lnTo>
                  <a:pt x="317502" y="152400"/>
                </a:lnTo>
                <a:lnTo>
                  <a:pt x="381000" y="228600"/>
                </a:lnTo>
                <a:lnTo>
                  <a:pt x="254001" y="228601"/>
                </a:lnTo>
                <a:lnTo>
                  <a:pt x="190500" y="304800"/>
                </a:lnTo>
                <a:lnTo>
                  <a:pt x="126999" y="228601"/>
                </a:lnTo>
                <a:lnTo>
                  <a:pt x="0" y="228600"/>
                </a:lnTo>
                <a:lnTo>
                  <a:pt x="63498" y="1524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23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6-Point Star 7"/>
          <p:cNvSpPr/>
          <p:nvPr/>
        </p:nvSpPr>
        <p:spPr>
          <a:xfrm>
            <a:off x="4495680" y="5943600"/>
            <a:ext cx="381240" cy="304920"/>
          </a:xfrm>
          <a:custGeom>
            <a:avLst/>
            <a:gdLst>
              <a:gd name="textAreaLeft" fmla="*/ 63360 w 381240"/>
              <a:gd name="textAreaRight" fmla="*/ 317880 w 381240"/>
              <a:gd name="textAreaTop" fmla="*/ 75960 h 304920"/>
              <a:gd name="textAreaBottom" fmla="*/ 228960 h 304920"/>
            </a:gdLst>
            <a:ahLst/>
            <a:rect l="textAreaLeft" t="textAreaTop" r="textAreaRight" b="textAreaBottom"/>
            <a:pathLst>
              <a:path w="381000" h="304800">
                <a:moveTo>
                  <a:pt x="0" y="76200"/>
                </a:moveTo>
                <a:lnTo>
                  <a:pt x="126999" y="76199"/>
                </a:lnTo>
                <a:lnTo>
                  <a:pt x="190500" y="0"/>
                </a:lnTo>
                <a:lnTo>
                  <a:pt x="254001" y="76199"/>
                </a:lnTo>
                <a:lnTo>
                  <a:pt x="381000" y="76200"/>
                </a:lnTo>
                <a:lnTo>
                  <a:pt x="317502" y="152400"/>
                </a:lnTo>
                <a:lnTo>
                  <a:pt x="381000" y="228600"/>
                </a:lnTo>
                <a:lnTo>
                  <a:pt x="254001" y="228601"/>
                </a:lnTo>
                <a:lnTo>
                  <a:pt x="190500" y="304800"/>
                </a:lnTo>
                <a:lnTo>
                  <a:pt x="126999" y="228601"/>
                </a:lnTo>
                <a:lnTo>
                  <a:pt x="0" y="228600"/>
                </a:lnTo>
                <a:lnTo>
                  <a:pt x="63498" y="1524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23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200" spc="-1" strike="noStrike">
                <a:solidFill>
                  <a:srgbClr val="003399"/>
                </a:solidFill>
                <a:latin typeface="Garamond"/>
              </a:rPr>
              <a:t>Key observations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6840" y="1600200"/>
            <a:ext cx="6248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000000"/>
                </a:solidFill>
                <a:latin typeface="Arial"/>
              </a:rPr>
              <a:t>Different approaches in how to position climate change/environ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000000"/>
                </a:solidFill>
                <a:latin typeface="Arial"/>
              </a:rPr>
              <a:t>Training sessions is just one part of the s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000000"/>
                </a:solidFill>
                <a:latin typeface="Arial"/>
              </a:rPr>
              <a:t>Need to be concrete, to discuss and share experiences, ”coach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000000"/>
                </a:solidFill>
                <a:latin typeface="Arial"/>
              </a:rPr>
              <a:t>Opportunities to involve partn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000000"/>
                </a:solidFill>
                <a:latin typeface="Arial"/>
              </a:rPr>
              <a:t>Unexplored opportunities for joint work –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95481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Train4Dev, Reciprocal Partner Learning Initiative, OECD TT Cap dev and natural resources governance, OECD Guid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C:\Documents and Settings\olodra\Local Settings\Temporary Internet Files\Content.IE5\ROQJGTK0\j0434854[1].png"/>
          <p:cNvPicPr/>
          <p:nvPr/>
        </p:nvPicPr>
        <p:blipFill>
          <a:blip r:embed="rId1"/>
          <a:stretch/>
        </p:blipFill>
        <p:spPr>
          <a:xfrm>
            <a:off x="6629400" y="152388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200" spc="-1" strike="noStrike">
                <a:solidFill>
                  <a:srgbClr val="003399"/>
                </a:solidFill>
                <a:latin typeface="Garamond"/>
              </a:rPr>
              <a:t>Key reflexions/questions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sv-SE" sz="2600" spc="-1" strike="noStrike">
                <a:solidFill>
                  <a:srgbClr val="000000"/>
                </a:solidFill>
                <a:latin typeface="Arial"/>
              </a:rPr>
              <a:t>It takes two to tango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95481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Cap dev of partner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000000"/>
                </a:solidFill>
                <a:latin typeface="Arial"/>
              </a:rPr>
              <a:t>Climate focus at the expense of the environmen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000000"/>
                </a:solidFill>
                <a:latin typeface="Arial"/>
              </a:rPr>
              <a:t>Synergies are there, get concrete with existing initiativ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000000"/>
                </a:solidFill>
                <a:latin typeface="Arial"/>
              </a:rPr>
              <a:t>Remember, that local donor harmonisation is ke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1"/>
          <a:srcRect l="20755" t="0" r="11321" b="0"/>
          <a:stretch/>
        </p:blipFill>
        <p:spPr>
          <a:xfrm>
            <a:off x="4648320" y="1523880"/>
            <a:ext cx="403848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200" spc="-1" strike="noStrike">
                <a:solidFill>
                  <a:srgbClr val="003399"/>
                </a:solidFill>
                <a:latin typeface="Garamond"/>
              </a:rPr>
              <a:t>How far have we come?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2514600" cy="37782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"/>
          <p:cNvPicPr/>
          <p:nvPr/>
        </p:nvPicPr>
        <p:blipFill>
          <a:blip r:embed="rId2"/>
          <a:stretch/>
        </p:blipFill>
        <p:spPr>
          <a:xfrm>
            <a:off x="3200400" y="1676520"/>
            <a:ext cx="5641920" cy="378288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0"/>
          <p:cNvSpPr/>
          <p:nvPr/>
        </p:nvSpPr>
        <p:spPr>
          <a:xfrm>
            <a:off x="1441800" y="5638680"/>
            <a:ext cx="636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Next stop Paris 24-25/9 OECD TT Cap dev and Nat Res G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2T12:51:17Z</dcterms:created>
  <dc:creator>Daniel Slunge</dc:creator>
  <dc:description/>
  <dc:language>en-US</dc:language>
  <cp:lastModifiedBy>olodra</cp:lastModifiedBy>
  <dcterms:modified xsi:type="dcterms:W3CDTF">2009-09-10T09:39:25Z</dcterms:modified>
  <cp:revision>9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ED8C6AAB66289E4F8C8736123A0A4E0C</vt:lpwstr>
  </property>
</Properties>
</file>