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21DF-F876-49B1-9E0D-187522994F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9C88-351B-4650-99BE-A5214EB91A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7EB3-389C-41EF-B8E6-B9E77F59B34C}" type="datetime">
              <a:rPr b="0" lang="en-US" sz="1200" spc="-1" strike="noStrike">
                <a:solidFill>
                  <a:srgbClr val="ffffff"/>
                </a:solidFill>
                <a:latin typeface="Verdana"/>
              </a:rPr>
              <a:t>07/29/26</a:t>
            </a:fld>
            <a:r>
              <a:rPr b="0" lang="en-US" sz="1200" spc="-1" strike="noStrike">
                <a:solidFill>
                  <a:srgbClr val="ffffff"/>
                </a:solidFill>
                <a:latin typeface="Verdana"/>
              </a:rPr>
              <a:t> </a:t>
            </a:r>
            <a:fld id="{D2B598A8-7FA5-4B47-97C5-56BC700A1792}"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5113-D5D9-4C82-BA57-6D8AC931D0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6140-9070-4E9F-8D59-5D6745959C22}" type="datetime">
              <a:rPr b="0" lang="en-US" sz="1200" spc="-1" strike="noStrike">
                <a:solidFill>
                  <a:srgbClr val="ffffff"/>
                </a:solidFill>
                <a:latin typeface="Verdana"/>
              </a:rPr>
              <a:t>07/29/26</a:t>
            </a:fld>
            <a:r>
              <a:rPr b="0" lang="en-US" sz="1200" spc="-1" strike="noStrike">
                <a:solidFill>
                  <a:srgbClr val="ffffff"/>
                </a:solidFill>
                <a:latin typeface="Verdana"/>
              </a:rPr>
              <a:t> </a:t>
            </a:r>
            <a:fld id="{FA72A64C-A564-4E9F-84AE-F4D546A79501}"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98A0-2D76-4EE1-B217-53AE1EBFEC0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8E83-7F66-4AB4-A5E4-47BA9F57222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CDC0-D0ED-45DE-8FA7-39983BB110C7}" type="datetime">
              <a:rPr b="0" lang="en-US" sz="1200" spc="-1" strike="noStrike">
                <a:solidFill>
                  <a:srgbClr val="ffffff"/>
                </a:solidFill>
                <a:latin typeface="Verdana"/>
              </a:rPr>
              <a:t>07/29/26</a:t>
            </a:fld>
            <a:r>
              <a:rPr b="0" lang="en-US" sz="1200" spc="-1" strike="noStrike">
                <a:solidFill>
                  <a:srgbClr val="ffffff"/>
                </a:solidFill>
                <a:latin typeface="Verdana"/>
              </a:rPr>
              <a:t> </a:t>
            </a:r>
            <a:fld id="{20E20449-5F4C-4622-B607-AEC3041D0AB0}"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6662-1413-4B0A-B367-EE69CC7AD9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81A5-409D-447E-8AEA-FCBAA4E7DAF9}" type="datetime">
              <a:rPr b="0" lang="en-US" sz="1200" spc="-1" strike="noStrike">
                <a:solidFill>
                  <a:srgbClr val="ffffff"/>
                </a:solidFill>
                <a:latin typeface="Verdana"/>
              </a:rPr>
              <a:t>07/29/26</a:t>
            </a:fld>
            <a:r>
              <a:rPr b="0" lang="en-US" sz="1200" spc="-1" strike="noStrike">
                <a:solidFill>
                  <a:srgbClr val="ffffff"/>
                </a:solidFill>
                <a:latin typeface="Verdana"/>
              </a:rPr>
              <a:t> </a:t>
            </a:r>
            <a:fld id="{9D9EEEFE-5048-43C1-9AB0-6DCD677B6200}"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0E01-D06B-424C-B4E7-6EE3223DAD3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A0D8-A832-4DEC-A3B1-D7ADBCB5E0CE}" type="datetime">
              <a:rPr b="0" lang="en-US" sz="1200" spc="-1" strike="noStrike">
                <a:solidFill>
                  <a:srgbClr val="ffffff"/>
                </a:solidFill>
                <a:latin typeface="Verdana"/>
              </a:rPr>
              <a:t>07/29/26</a:t>
            </a:fld>
            <a:r>
              <a:rPr b="0" lang="en-US" sz="1200" spc="-1" strike="noStrike">
                <a:solidFill>
                  <a:srgbClr val="ffffff"/>
                </a:solidFill>
                <a:latin typeface="Verdana"/>
              </a:rPr>
              <a:t> </a:t>
            </a:r>
            <a:fld id="{159EACCB-2ABE-43C4-86F5-F5622CC683C4}"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D191-F67D-4884-B1E9-620EAD9D6E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5F9A-F344-405C-B9DC-EEECC1012A21}" type="datetime">
              <a:rPr b="0" lang="en-US" sz="1200" spc="-1" strike="noStrike">
                <a:solidFill>
                  <a:srgbClr val="ffffff"/>
                </a:solidFill>
                <a:latin typeface="Verdana"/>
              </a:rPr>
              <a:t>07/29/26</a:t>
            </a:fld>
            <a:r>
              <a:rPr b="0" lang="en-US" sz="1200" spc="-1" strike="noStrike">
                <a:solidFill>
                  <a:srgbClr val="ffffff"/>
                </a:solidFill>
                <a:latin typeface="Verdana"/>
              </a:rPr>
              <a:t> </a:t>
            </a:r>
            <a:fld id="{3017BE60-6299-4222-9594-C67E1EB08FBA}"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F127-37C3-4410-BDA8-F51EFD6714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D85C-5535-4240-9F6D-F799812316B0}" type="datetime">
              <a:rPr b="0" lang="en-US" sz="1200" spc="-1" strike="noStrike">
                <a:solidFill>
                  <a:srgbClr val="ffffff"/>
                </a:solidFill>
                <a:latin typeface="Verdana"/>
              </a:rPr>
              <a:t>07/29/26</a:t>
            </a:fld>
            <a:r>
              <a:rPr b="0" lang="en-US" sz="1200" spc="-1" strike="noStrike">
                <a:solidFill>
                  <a:srgbClr val="ffffff"/>
                </a:solidFill>
                <a:latin typeface="Verdana"/>
              </a:rPr>
              <a:t> </a:t>
            </a:r>
            <a:fld id="{9CC36066-AA93-4F56-A7CB-63D90EC11B6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9B21-3A3D-4DCE-BF64-E62F90A5A90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9AC3-1736-4E95-9274-25C33620BEE1}" type="datetime">
              <a:rPr b="0" lang="en-US" sz="1200" spc="-1" strike="noStrike">
                <a:solidFill>
                  <a:srgbClr val="ffffff"/>
                </a:solidFill>
                <a:latin typeface="Verdana"/>
              </a:rPr>
              <a:t>07/29/26</a:t>
            </a:fld>
            <a:r>
              <a:rPr b="0" lang="en-US" sz="1200" spc="-1" strike="noStrike">
                <a:solidFill>
                  <a:srgbClr val="ffffff"/>
                </a:solidFill>
                <a:latin typeface="Verdana"/>
              </a:rPr>
              <a:t> </a:t>
            </a:r>
            <a:fld id="{6BE3B2D7-043B-4145-98C4-34A84D1EAB7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894D-41BF-40A5-9511-7D63CE0B7B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682E-7C54-42BC-9823-45D6CA53BE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FFA4-94F4-4E2F-8E51-DC1DD4EDDD1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3E77-B4B5-4F3B-8D73-D42767EBB9C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55CB-3772-4C1A-8CC3-75545BDB94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409D-3AAD-4756-A283-ED7ED2D46E56}" type="datetime">
              <a:rPr b="0" lang="en-US" sz="1200" spc="-1" strike="noStrike">
                <a:solidFill>
                  <a:srgbClr val="ffffff"/>
                </a:solidFill>
                <a:latin typeface="Verdana"/>
              </a:rPr>
              <a:t>07/29/26</a:t>
            </a:fld>
            <a:r>
              <a:rPr b="0" lang="en-US" sz="1200" spc="-1" strike="noStrike">
                <a:solidFill>
                  <a:srgbClr val="ffffff"/>
                </a:solidFill>
                <a:latin typeface="Verdana"/>
              </a:rPr>
              <a:t> </a:t>
            </a:r>
            <a:fld id="{0D1799DC-F3BB-4138-AC86-C363B7310E9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BED6-2DA6-40C5-A4B4-534D68064A7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29DA-44F8-4F4E-9E80-E34634DF49A4}" type="datetime">
              <a:rPr b="0" lang="en-US" sz="1200" spc="-1" strike="noStrike">
                <a:solidFill>
                  <a:srgbClr val="ffffff"/>
                </a:solidFill>
                <a:latin typeface="Verdana"/>
              </a:rPr>
              <a:t>07/29/26</a:t>
            </a:fld>
            <a:r>
              <a:rPr b="0" lang="en-US" sz="1200" spc="-1" strike="noStrike">
                <a:solidFill>
                  <a:srgbClr val="ffffff"/>
                </a:solidFill>
                <a:latin typeface="Verdana"/>
              </a:rPr>
              <a:t> </a:t>
            </a:r>
            <a:fld id="{17E85B29-117E-482E-96C8-BEE4B277A1B5}"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6305-1B69-466B-9F35-3B6BEEB91EA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DDBA-FB4F-49DF-B784-DCF23538E51A}" type="datetime">
              <a:rPr b="0" lang="en-US" sz="1200" spc="-1" strike="noStrike">
                <a:solidFill>
                  <a:srgbClr val="ffffff"/>
                </a:solidFill>
                <a:latin typeface="Verdana"/>
              </a:rPr>
              <a:t>07/29/26</a:t>
            </a:fld>
            <a:r>
              <a:rPr b="0" lang="en-US" sz="1200" spc="-1" strike="noStrike">
                <a:solidFill>
                  <a:srgbClr val="ffffff"/>
                </a:solidFill>
                <a:latin typeface="Verdana"/>
              </a:rPr>
              <a:t> </a:t>
            </a:r>
            <a:fld id="{913BE9BD-3498-4187-A97C-EC7B8808719F}"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2B8-467B-4C77-A638-B16BA27FC81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77BAF-DFCF-45A7-8942-9157D9C5B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470D2-031D-409B-A2F3-CB18CF3AB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D0232-BF9D-4CAB-9EDB-B8BEA0DA7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DCE4-88A4-4C0D-9D62-74E47367A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ADFCF-FBE0-4D7F-B833-70AC39F9D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A5D81-7770-4656-9537-38AF3D983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FA8F3-84C6-4B09-9812-AB6DE24A2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07B5E-FB13-4CE4-A1AC-D16B38055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FB746-9E25-4380-9D60-7F37FDB28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3579D-9558-49AA-A7BB-FA220BDD4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06416-5CBB-4068-95CE-7542297BD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B0382-F5C5-4801-AE4D-A5C5BBC38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2C5FA-12B4-4EB2-B33F-60653BE5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E9FDA-1336-4F5D-8367-BA62EA0B0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30829-1824-49CE-A410-673C81176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60F4E-0063-471F-A9DC-0A0C9A0D1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9F70F-ADFB-4884-9405-D9B5D8704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4773-78EA-452A-B6EF-15817F34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8260-C51E-4B37-8406-55E678D7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0FE43-C51D-433F-B8FA-1AF8C9803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64E6F-4585-452B-8CC0-254653C8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2781-DA35-431B-8F8E-1F9EE117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0577-C61E-4AFE-88D6-DC53DE56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A371B-BB90-483E-9524-D8D936A8B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31A7-5076-4946-8A00-3E74B78364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7487-9465-473A-935A-5B6944AE25E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7755-AD5F-44F1-9582-7061E334811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