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1FEC-9855-4305-A6FF-BCC265442EB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44D3-BFFE-4EB4-9314-2A2672F3B66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F4B2-34ED-4E27-BA19-B9E114C0B362}" type="datetime">
              <a:rPr b="0" lang="en-US" sz="1200" spc="-1" strike="noStrike">
                <a:solidFill>
                  <a:srgbClr val="ffffff"/>
                </a:solidFill>
                <a:latin typeface="Verdana"/>
              </a:rPr>
              <a:t>07/30/26</a:t>
            </a:fld>
            <a:r>
              <a:rPr b="0" lang="en-US" sz="1200" spc="-1" strike="noStrike">
                <a:solidFill>
                  <a:srgbClr val="ffffff"/>
                </a:solidFill>
                <a:latin typeface="Verdana"/>
              </a:rPr>
              <a:t> </a:t>
            </a:r>
            <a:fld id="{65139D0B-29C4-4E02-8263-2856267F7739}"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2AD3-7948-41C9-BC03-24729F16C9D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318C-20C0-4F98-B277-7A51D7CFC0D9}" type="datetime">
              <a:rPr b="0" lang="en-US" sz="1200" spc="-1" strike="noStrike">
                <a:solidFill>
                  <a:srgbClr val="ffffff"/>
                </a:solidFill>
                <a:latin typeface="Verdana"/>
              </a:rPr>
              <a:t>07/30/26</a:t>
            </a:fld>
            <a:r>
              <a:rPr b="0" lang="en-US" sz="1200" spc="-1" strike="noStrike">
                <a:solidFill>
                  <a:srgbClr val="ffffff"/>
                </a:solidFill>
                <a:latin typeface="Verdana"/>
              </a:rPr>
              <a:t> </a:t>
            </a:r>
            <a:fld id="{09EED20E-F9E5-49FA-8193-7413E4FAB759}"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5E59-934F-4921-85F9-C7E882BEC42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C902-904C-4BE0-AD9F-60532E74968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6D18-F434-4882-9B68-92E7549F1BA7}" type="datetime">
              <a:rPr b="0" lang="en-US" sz="1200" spc="-1" strike="noStrike">
                <a:solidFill>
                  <a:srgbClr val="ffffff"/>
                </a:solidFill>
                <a:latin typeface="Verdana"/>
              </a:rPr>
              <a:t>07/30/26</a:t>
            </a:fld>
            <a:r>
              <a:rPr b="0" lang="en-US" sz="1200" spc="-1" strike="noStrike">
                <a:solidFill>
                  <a:srgbClr val="ffffff"/>
                </a:solidFill>
                <a:latin typeface="Verdana"/>
              </a:rPr>
              <a:t> </a:t>
            </a:r>
            <a:fld id="{AA14CB72-B52E-419E-901F-B471095EF7EB}"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3D6D-D791-4C7F-9307-C62AC714539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5FEFF-FC85-483D-B54D-EB33721980CE}" type="datetime">
              <a:rPr b="0" lang="en-US" sz="1200" spc="-1" strike="noStrike">
                <a:solidFill>
                  <a:srgbClr val="ffffff"/>
                </a:solidFill>
                <a:latin typeface="Verdana"/>
              </a:rPr>
              <a:t>07/30/26</a:t>
            </a:fld>
            <a:r>
              <a:rPr b="0" lang="en-US" sz="1200" spc="-1" strike="noStrike">
                <a:solidFill>
                  <a:srgbClr val="ffffff"/>
                </a:solidFill>
                <a:latin typeface="Verdana"/>
              </a:rPr>
              <a:t> </a:t>
            </a:r>
            <a:fld id="{BE0FF45C-5DDD-4A28-B274-D5BF88C9764C}"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5C81-554A-48AB-87E4-0A68C8B6C74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14C3-77AF-4F72-9F39-228AC454ED66}" type="datetime">
              <a:rPr b="0" lang="en-US" sz="1200" spc="-1" strike="noStrike">
                <a:solidFill>
                  <a:srgbClr val="ffffff"/>
                </a:solidFill>
                <a:latin typeface="Verdana"/>
              </a:rPr>
              <a:t>07/30/26</a:t>
            </a:fld>
            <a:r>
              <a:rPr b="0" lang="en-US" sz="1200" spc="-1" strike="noStrike">
                <a:solidFill>
                  <a:srgbClr val="ffffff"/>
                </a:solidFill>
                <a:latin typeface="Verdana"/>
              </a:rPr>
              <a:t> </a:t>
            </a:r>
            <a:fld id="{C47BFA64-8793-4062-BE92-160037EE873D}"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87C9-45A9-4EB4-B288-9C3AEF46F9E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20B1-FC07-4E63-A354-CD155B1E2110}" type="datetime">
              <a:rPr b="0" lang="en-US" sz="1200" spc="-1" strike="noStrike">
                <a:solidFill>
                  <a:srgbClr val="ffffff"/>
                </a:solidFill>
                <a:latin typeface="Verdana"/>
              </a:rPr>
              <a:t>07/30/26</a:t>
            </a:fld>
            <a:r>
              <a:rPr b="0" lang="en-US" sz="1200" spc="-1" strike="noStrike">
                <a:solidFill>
                  <a:srgbClr val="ffffff"/>
                </a:solidFill>
                <a:latin typeface="Verdana"/>
              </a:rPr>
              <a:t> </a:t>
            </a:r>
            <a:fld id="{197978E3-8D42-4DFB-9734-D22DFCACBC0A}"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DA28-FAE5-43BB-95AC-83712EC9878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71B0-6FB4-426A-9B30-060B1A9DBEEC}" type="datetime">
              <a:rPr b="0" lang="en-US" sz="1200" spc="-1" strike="noStrike">
                <a:solidFill>
                  <a:srgbClr val="ffffff"/>
                </a:solidFill>
                <a:latin typeface="Verdana"/>
              </a:rPr>
              <a:t>07/30/26</a:t>
            </a:fld>
            <a:r>
              <a:rPr b="0" lang="en-US" sz="1200" spc="-1" strike="noStrike">
                <a:solidFill>
                  <a:srgbClr val="ffffff"/>
                </a:solidFill>
                <a:latin typeface="Verdana"/>
              </a:rPr>
              <a:t> </a:t>
            </a:r>
            <a:fld id="{74F767F2-8BAC-41D5-9A3E-BD9AC1F18F6A}"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0426-14A9-4DDC-B127-73D38858169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65FE-2C66-4B70-AA8B-80666344113B}" type="datetime">
              <a:rPr b="0" lang="en-US" sz="1200" spc="-1" strike="noStrike">
                <a:solidFill>
                  <a:srgbClr val="ffffff"/>
                </a:solidFill>
                <a:latin typeface="Verdana"/>
              </a:rPr>
              <a:t>07/30/26</a:t>
            </a:fld>
            <a:r>
              <a:rPr b="0" lang="en-US" sz="1200" spc="-1" strike="noStrike">
                <a:solidFill>
                  <a:srgbClr val="ffffff"/>
                </a:solidFill>
                <a:latin typeface="Verdana"/>
              </a:rPr>
              <a:t> </a:t>
            </a:r>
            <a:fld id="{ED989CC8-D03E-41F6-9174-8125C5EA493F}"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D84D-8787-4BD0-A431-9BFC2A4C5FD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893D-C5A9-4245-8181-6410B31B077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9950-04AE-4DBF-9FEC-20D5FCA4D7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C0D8-9A21-4637-B29C-F9BD1DDA4E4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FDDB-84F4-4A20-85C6-6394F0C0875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05CB-A275-4B0A-B565-06F5A298A56D}" type="datetime">
              <a:rPr b="0" lang="en-US" sz="1200" spc="-1" strike="noStrike">
                <a:solidFill>
                  <a:srgbClr val="ffffff"/>
                </a:solidFill>
                <a:latin typeface="Verdana"/>
              </a:rPr>
              <a:t>07/30/26</a:t>
            </a:fld>
            <a:r>
              <a:rPr b="0" lang="en-US" sz="1200" spc="-1" strike="noStrike">
                <a:solidFill>
                  <a:srgbClr val="ffffff"/>
                </a:solidFill>
                <a:latin typeface="Verdana"/>
              </a:rPr>
              <a:t> </a:t>
            </a:r>
            <a:fld id="{A9FB05DA-CADD-429F-842B-2F3EA5AC1FB7}"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0FCC-3402-434B-A563-5593B8B8E5C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C813-4140-4933-8FC0-FF4D82CAF391}" type="datetime">
              <a:rPr b="0" lang="en-US" sz="1200" spc="-1" strike="noStrike">
                <a:solidFill>
                  <a:srgbClr val="ffffff"/>
                </a:solidFill>
                <a:latin typeface="Verdana"/>
              </a:rPr>
              <a:t>07/30/26</a:t>
            </a:fld>
            <a:r>
              <a:rPr b="0" lang="en-US" sz="1200" spc="-1" strike="noStrike">
                <a:solidFill>
                  <a:srgbClr val="ffffff"/>
                </a:solidFill>
                <a:latin typeface="Verdana"/>
              </a:rPr>
              <a:t> </a:t>
            </a:r>
            <a:fld id="{AEDC88B4-838B-4D7A-8905-04B8744A5310}"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8277-9CB7-41FE-B7A1-00296167D73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79CC-CE05-419B-84FE-5ABA31B1D7BE}" type="datetime">
              <a:rPr b="0" lang="en-US" sz="1200" spc="-1" strike="noStrike">
                <a:solidFill>
                  <a:srgbClr val="ffffff"/>
                </a:solidFill>
                <a:latin typeface="Verdana"/>
              </a:rPr>
              <a:t>07/30/26</a:t>
            </a:fld>
            <a:r>
              <a:rPr b="0" lang="en-US" sz="1200" spc="-1" strike="noStrike">
                <a:solidFill>
                  <a:srgbClr val="ffffff"/>
                </a:solidFill>
                <a:latin typeface="Verdana"/>
              </a:rPr>
              <a:t> </a:t>
            </a:r>
            <a:fld id="{1A07FDC2-A3DA-4337-A885-B83E9DA974B5}"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4261-F454-4C6A-B110-F7C8B65CA7B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437A7-CEA0-4A9A-BCE6-5F7C5C0F5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285E5-DF14-433D-AB0B-47B5003CD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DB9E3-8C0D-419F-AC15-6D4F38389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5FF9D-3752-4AC7-87BE-33CE39FC6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8FABF-5355-4440-9F44-EDA3C421A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FFF5C-2067-4ACE-84E7-C034A209F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8CA38-CD80-4D53-8438-73CFD0647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3546A-BDC9-40E3-8431-2F8F29FAE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8BA09-A5CD-4A62-96C7-CD7D861D4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4F540-6E5C-4AE8-8DFF-FB1E49E4D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B2EEA-98C8-4835-8AA8-63FC5A3F9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EB785-F02B-4A46-A2BE-4A5F58641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2869B-698C-45DA-85A2-6AD203B1E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BE5A1-E7F9-43D1-8DCE-DF4734133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968FB-1FA7-4D20-96E8-D6CCF78AB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7EBF2-E3F4-43CF-BA09-6903C0AA0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17418-4B3B-4368-B8BB-AEF983128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92BFE-10A1-4079-A6F8-A6817215C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1189C-1D60-4B62-8BFA-D6C079705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AA634-8108-4215-B853-61860DA16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DC8D4-C26E-43A0-A3B7-04766359E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38450-4570-4BBF-90FA-46F32E004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7251D-1C32-42DD-8C09-EACBA26FF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142E3-9F98-454B-B8D7-92EFE46D6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5C5E-E4CA-4AF9-80B8-1DD25F102BA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97F6-F004-43A9-B298-DF156AC40E2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BEF7-8FE5-4689-ABEC-2249A436A571}"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