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wmf" ContentType="image/x-wmf"/>
  <Override PartName="/ppt/media/image8.wmf" ContentType="image/x-wmf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DA2F-5BD5-45F7-A75F-B7F56158D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8897-2D54-4619-9ACD-5FD30FAA9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70A8-CF6B-40BD-BB3F-F6B953C28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CBA8-E811-40F7-B229-C91A08B86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360DA-AC60-400B-B240-294F6C949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471DB-94C9-49EB-9A96-DC161610E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4396C-D5E3-4B8A-8347-3D600864F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4FCD6-942C-4436-B072-6879C210E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1F138-343F-419F-88F9-7F413941B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08477-87F1-47EC-80E9-ACAC3A7F1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BF5B4-5ABB-445F-BE1F-6C094A22B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FE11-CC8B-448C-BB79-80ECB18EA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9C7B7-51FC-49FF-A90B-BD7169970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CF80D-A596-4DE4-ADAF-A950A804C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85D56-B571-423B-BB58-4FFB25006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C1761-E57C-4B2C-9EE4-8DAB549E8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76A8F-14FB-4911-961C-F9D74A01F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F8074C-772D-40F5-9A3C-8C57729FE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6DAD00-C2E7-4D9B-9269-184C8E7CB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E2BEB5-048D-4423-AE56-024EE984F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8DB0BB-B312-4135-9B20-BEFCF52C2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E47C8F-D2A7-48D1-9C1C-5EE74E276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A370-1D8D-452D-81EA-365C2C226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77A4C5-C5D1-401D-8AF4-BA9E2D7BA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E4A9D5-5CAE-4BE5-8E37-C4DA14F2D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5185B6-FEC0-46F3-B186-2E741952B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30E246-DB13-41BE-99B6-4F76D6EE8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D92682-5096-4CBB-ADD3-0FA4E74F9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3F62C4-57B1-4EA3-AC12-3FF038033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2C2318-84FA-4D96-8750-03357F5D1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8E8F26-E967-4FF5-BE9B-CA236E557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725D95-BD55-490E-9A90-AFDB2578E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E9A32C-9C8E-464F-B279-1E23D441C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6D49-63F0-434E-9AE8-BC986AF5B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E74A0E-948A-4212-A1E2-01D2285B7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1E61B3-239E-432F-B141-A74604ECB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462318-180C-434E-9157-330BFF56D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5E6F99-6C24-4416-B01D-DA0ACF15D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032005-9B6B-4E26-837C-84E937A3B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D85DB8-E388-4551-87CB-B1F0D0097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FB2E35-8550-41CD-9989-14EFEA6E6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7AF993-B1B7-4039-8707-B11149333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DEFF3D-6CC8-45A5-916D-147D36D26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C188-4459-44F1-9390-15FC83AE4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4EAB-7615-4769-9992-E15648AFD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90A4-CE7F-4931-A6F5-01D6283C6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332D-FBCF-4D0F-8068-B696D5F61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DDF9-CEC0-4F72-ABD2-A8C645569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54222-A5E1-4C03-971D-FA06E5DE95AA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1BA93-648C-46C2-9754-225674DFC357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1BBA5-9A68-4148-BADA-22918102E4B8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DEED0-3036-4C03-9CF5-BBFB3A0A7FEC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530280" y="701640"/>
            <a:ext cx="7832520" cy="250524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403280" y="3142800"/>
            <a:ext cx="6383520" cy="21430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Presentation at the Workshop Held  on  the 07</a:t>
            </a:r>
            <a:r>
              <a:rPr b="0" lang="en-US" sz="2000" spc="-1" strike="noStrike" baseline="30000">
                <a:solidFill>
                  <a:srgbClr val="ffffff"/>
                </a:solidFill>
                <a:latin typeface="Constantia"/>
              </a:rPr>
              <a:t>th</a:t>
            </a: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 April 2011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Lisema Lekhooana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ff"/>
                </a:solidFill>
                <a:latin typeface="Calibri"/>
              </a:rPr>
              <a:t>PAF OBJECTIV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o serve as a tool to measure sector performance on selected indicators which represents key sector performance area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o provide evidence that investments are actually achieving the intended development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o influence Government and donors in deciding on priority areas for suppor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alibri"/>
              </a:rPr>
              <a:t>STRATEGIC PRIORITY AREAS FOR 2010-2012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rban Domestic Wat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ural Water Suppl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omestic Sanit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stitutional and Capacity Developme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ff"/>
                </a:solidFill>
                <a:latin typeface="Calibri"/>
              </a:rPr>
              <a:t>SECTOR PERFOMANCE INDICATOR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ACCESS TO RURAL WATER SUPPLY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: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oportion of the rural households using piped water and public boreholes as their main source of drinking wate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ACCESS TO URBAN WATER SUPPLY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:    Proportion of the urban households using piped water as their main source of drinking wate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ff"/>
                </a:solidFill>
                <a:latin typeface="Calibri"/>
              </a:rPr>
              <a:t>SECTOR PERFOMANCE INDICATORS (cont.)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ACCESS TO RURAL SANITATION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: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Proportion of the rural households using in their place of residence a sewage system, septic tank, own VIP or own latrin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ACCESS TO URBAN SANITATION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: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Proportion of the rural households using in their place of residence a sewage system, septic tank, own VIP or own latrin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ff"/>
                </a:solidFill>
                <a:latin typeface="Calibri"/>
              </a:rPr>
              <a:t>BASELINE AND TARGET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6" name="Picture 2" descr=""/>
          <p:cNvPicPr/>
          <p:nvPr/>
        </p:nvPicPr>
        <p:blipFill>
          <a:blip r:embed="rId1"/>
          <a:stretch/>
        </p:blipFill>
        <p:spPr>
          <a:xfrm>
            <a:off x="571680" y="1785960"/>
            <a:ext cx="8332560" cy="38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ff"/>
                </a:solidFill>
                <a:latin typeface="Calibri"/>
              </a:rPr>
              <a:t>INFORMATION FLOW CHAR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8" name="Content Placeholder 3" descr=""/>
          <p:cNvPicPr/>
          <p:nvPr/>
        </p:nvPicPr>
        <p:blipFill>
          <a:blip r:embed="rId1"/>
          <a:stretch/>
        </p:blipFill>
        <p:spPr>
          <a:xfrm>
            <a:off x="728640" y="2082960"/>
            <a:ext cx="7686720" cy="40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ff"/>
                </a:solidFill>
                <a:latin typeface="Calibri"/>
              </a:rPr>
              <a:t>CHALLENGES and POTENTIAL CONSTRAINT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armonization of Sector Information and analysi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takeholder Capacity for Monitoring and Evaluation especially key sector departments and agenci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takeholder information flow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onor Coordination and agreement to common approach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Rectangle 2" descr=""/>
          <p:cNvPicPr/>
          <p:nvPr/>
        </p:nvPicPr>
        <p:blipFill>
          <a:blip r:embed="rId1"/>
          <a:stretch/>
        </p:blipFill>
        <p:spPr>
          <a:xfrm>
            <a:off x="420840" y="414360"/>
            <a:ext cx="832140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6T10:04:22Z</dcterms:created>
  <dc:creator> </dc:creator>
  <dc:description/>
  <dc:language>en-US</dc:language>
  <cp:lastModifiedBy>user</cp:lastModifiedBy>
  <dcterms:modified xsi:type="dcterms:W3CDTF">2011-04-06T14:05:57Z</dcterms:modified>
  <cp:revision>110</cp:revision>
  <dc:subject/>
  <dc:title>MONITORING AND EVALUATION</dc:title>
</cp:coreProperties>
</file>