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456C-54A1-44D5-A748-51002404C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EDEC-3617-4982-9343-1BDFF2AB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185D-ABE7-45F6-8C68-648BF0B37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36C9-DC03-4FE7-966C-196DE0FCD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B69E-D504-4644-9603-3D18AE2E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28F6-254B-4488-8E63-BB6FDDA5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EE3C-9E5A-4436-949D-9E8C916E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DAC1-5C80-4206-A710-5FF5BC13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F0B8-8DE6-4135-AE24-919DFF5C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E527-D263-4493-9001-12730C83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3EAD-DA05-422F-81BC-B08A1461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3386-1266-4B9D-B35E-173F7463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1658-15C5-4E24-A697-ACA112EFC3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D202-7182-4E25-A666-1509ED8B16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Week 201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Urbanization for Water and Sanitation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st Effects of a Lack of Spatial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orld Ba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A3C8-F0A5-4A99-8D2D-0BA14E341D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ing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is new infrastructure financ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es the larger community pay (taxes on existing residents to provide services to new residents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residents of the new community pa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velopment Charges = entry fee for urban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asiest when you have greenfield and organized develop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ill possible when there are multiple ow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en still possible for servicing in-si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E941-22D6-4BEF-A9E6-CE8CD378D4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sts, Choices, and Trade-Off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ment charges make explicit the cost of providing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o expensive?  There is a choi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it another 10 or 20 years for someone else to pay for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e and pay for services that you can enjoy now and that increases the value of the proper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DC8A-DADE-46D0-929E-8866DF9C4E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Case of Water Supp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and sanitation is the most difficult and expensive infrastructure to prov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Co is one of the better utilities in Africa, but it doesn’t generate enough excess funds through existing tariffs to pay for major network exten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an’t “pre-invest” in new development areas without up-front ca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59D0-5E10-4B65-A249-7D3769187A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s of funding for water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entral government or local authority – to service a specific industrial or residential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utside donors – to provide services to underserved areas, at concessional r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mal real estate developers?  Effectively paying development charges to pay for the cost of extending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rganized communities?  Pooling or raising funds to pay for the cost of extending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CDC6-0977-4515-8F87-BA074D0777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6887-EE6D-4AB0-8F43-6F28C18B07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ECB2-8AF0-4381-A22A-3A6E210173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roduction and Characteristics of Urban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wnership 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erty marketability and transfer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ail financial sector / willingness to l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of urban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characteristics of urban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7898-5DC9-4EB1-ADB6-E5FDEC4589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mpressions of Maser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fficult to draw conclusions about Maseru and envir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limited planning; some haphazard grow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“leapfrog”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x of housing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able road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able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058B-3845-4433-B590-C3668DB017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baniz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al defini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ns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sion of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practice: the addition of new resi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raw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a cause and consequence of a lack of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2AE8-5959-44A3-9101-782BDABB73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ban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cope of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re:  roads and paths, water and sanitation, solid waste management, public ligh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:  schools, health clinics, space for places of wo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enities: parks, places for civic gathering, playgr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vision of (and financing of)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rect tax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tax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099D-3F2D-4F0D-9811-1DB450CE0A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sts of Unplanned Spra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costs to residen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ime and monetary costs for transportation and fo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duced mo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or safety and secur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unclear costs with respect to electricity and solid waste managemen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costs to service providers for later retrofitt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rticularly high for water and sanitation servi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E7D5-2D86-49FF-BEC3-A212426802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me incidental benefits of spra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sity (or lack of density) means that existing sanitation is accep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lth effects of poor sanitation are relatively mi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visible mix in the quality of housing = neighborhoods are not limited to a single incom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C754-A4CA-47B2-9359-A54622DE90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easuring th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alu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of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 the value of serviced land vs. unserviced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 competitive property market, this is the value that society places on those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may or may not be a good approximation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providing those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aseru, cost &gt;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pt the state of affairs (and wait…), 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to reduce the costs of providing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9B67-3C3C-4CC0-AF29-888799526D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lanning for Growt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ning ahead for grow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ea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human capa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parent, enforceable land-use regu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dible and transparent way to convert land from non-urban to urban 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ily transferable land righ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06DC-F3D1-45FB-881B-834E1F54D1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02:43:31Z</dcterms:created>
  <dc:creator>wb112884</dc:creator>
  <dc:description/>
  <dc:language>en-US</dc:language>
  <cp:lastModifiedBy>new</cp:lastModifiedBy>
  <dcterms:modified xsi:type="dcterms:W3CDTF">2011-04-05T09:09:27Z</dcterms:modified>
  <cp:revision>16</cp:revision>
  <dc:subject/>
  <dc:title>Slide 1</dc:title>
</cp:coreProperties>
</file>