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3E37-947F-4835-A6ED-79B9B1E67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5F1F-0D04-4D78-97F4-15B601E5D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4FBC-7831-415C-85E5-B72FA1821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3960-48A8-40F6-94A9-D9AE7F234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5934-3A7A-4C73-BAF0-6F11A79FC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DEB5-5066-4558-ACA2-C15CF9E10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98B1-B426-4135-A949-EF06CD136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7CBE-2E55-4F56-B206-606BCA3B0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3DC1-9F53-43DE-BC89-BABA6EAC2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CD6C-D409-4622-8D80-B97BF16E0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0547-8DB1-4D42-949C-9A0757B7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A472-0553-481A-B359-69783A187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1801B-D4A3-4655-A54E-07F8FDE0CF9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AF161-13CD-4B49-B582-9873BF6EB6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 Week 2011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llenges of Urbanization for Water and Sanitation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ost Effects of a Lack of Spatial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World Ban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7F146-55E0-4874-815A-6CFE11C881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ancing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ow is new infrastructure financed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es the larger community pay (taxes on existing residents to provide services to new residents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 residents of the new community pay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velopment Charges = entry fee for urban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asiest when you have greenfield and organized develop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ill possible when there are multiple ow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ven still possible for servicing in-sit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F5010-CF61-46E0-ACA1-77F2CEDFAF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sts, Choices, and Trade-Off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elopment charges make explicit the cost of providing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o expensive?  There is a choi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it another 10 or 20 years for someone else to pay for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ize and pay for services that you can enjoy now and that increases the value of the proper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02FDA-B7F6-42F3-BBFF-1AC4EF9AF5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Case of Water Suppl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 and sanitation is the most difficult and expensive infrastructure to prov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SCo is one of the better utilities in Africa, but it doesn’t generate enough excess funds through existing tariffs to pay for major network exten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can’t “pre-invest” in new development areas without up-front capit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ECBDE-53D8-4203-809C-F1AD2973EB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urces of funding for water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entral government or local authority – to service a specific industrial or residential develop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utside donors – to provide services to underserved areas, at concessional rat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rmal real estate developers?  Effectively paying development charges to pay for the cost of extending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rganized communities?  Pooling or raising funds to pay for the cost of extending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6A84D-6824-4CBB-966D-3B1FADD1F9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2407D-68D9-49F2-AD2F-56D707E77B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F52B1-2284-4476-A189-0C1329480D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troduction and Characteristics of Urban Develop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wnership characteris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perty marketability and transfer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tail financial sector / willingness to le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e of urban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characteristics of urban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27936-F751-4114-B0A0-25CA9661AA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1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mpressions of Maser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fficult to draw conclusions about Maseru and envir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me limited planning; some haphazard grow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me “leapfrog” develop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ix of housing qua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ariable road qua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ariable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02CED-97B9-4ED3-B733-E3D25A3474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rbaniz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al definiti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ns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version of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practice: the addition of new resid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raw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th a cause and consequence of a lack of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ED856-AB7C-4199-A851-F125AC5615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rban Servi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cope of servic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re:  roads and paths, water and sanitation, solid waste management, public ligh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cial:  schools, health clinics, space for places of wor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menities: parks, places for civic gathering, playgrou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rovision of (and financing of) servic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rect tax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rect tax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5A368-A5DD-49A7-B6E0-141F3B8CA6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sts of Unplanned Spraw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ditional costs to resident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ime and monetary costs for transportation and fo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duced mobil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oor safety and secur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unclear costs with respect to electricity and solid waste management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ditional costs to service providers for later retrofitt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articularly high for water and sanitation servi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68AC5-C972-4087-9F39-50B5FB5967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ome incidental benefits of spraw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nsity (or lack of density) means that existing sanitation is accept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alth effects of poor sanitation are relatively min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visible mix in the quality of housing = neighborhoods are not limited to a single incom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BE28A-A016-4BD5-88D1-1D6E85F0EF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easuring th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Valu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of Servi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asure the value of serviced land vs. unserviced 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a competitive property market, this is the value that society places on those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may or may not be a good approximation of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o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providing those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Maseru, cost &gt; val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ept the state of affairs (and wait…), 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k to reduce the costs of providing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B7BD7-A758-4F85-87F3-CCF9EE3DA8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lanning for Growt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ning ahead for growth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eas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od human capac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parent, enforceable land-use regul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edible and transparent way to convert land from non-urban to urban u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sily transferable land righ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4FEE5-A648-4B21-B348-518E683BE6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5T02:43:31Z</dcterms:created>
  <dc:creator>wb112884</dc:creator>
  <dc:description/>
  <dc:language>en-US</dc:language>
  <cp:lastModifiedBy>new</cp:lastModifiedBy>
  <dcterms:modified xsi:type="dcterms:W3CDTF">2011-04-05T09:09:27Z</dcterms:modified>
  <cp:revision>16</cp:revision>
  <dc:subject/>
  <dc:title>Slide 1</dc:title>
</cp:coreProperties>
</file>