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67C-E770-42E3-8557-AEC64262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B17-F2F6-43F4-8525-FA03F2FBDF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07E-87DD-4995-8590-C885D383C8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C5C3-7104-4226-99BF-DC72FAC04B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5B1-1E2E-4926-8392-FFFB08EB9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D57-094D-4E9E-8F5C-982A5726C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C54-A516-4F1D-94EA-76ACD93B02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966-2232-458C-AEFE-0A41AB183F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5898-2A80-45B6-98D1-5A43DCFD7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/KY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DFB7-6AA6-4084-8BEB-93BF6C56A2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52400"/>
            <a:ext cx="4940280" cy="3706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7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EA5-E90D-4295-B12E-60166827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B64-7E39-4710-B10A-0145541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698-1F55-4937-A36E-1A2B941D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615-F5CA-435F-8CD3-AF6FF045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9A8-9A6E-43E8-B960-25E9F3C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625560"/>
            <a:ext cx="26424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1B8-ADA6-4255-82AC-26358A8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382-81D0-492C-BE1A-FC3B18E1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8C3-3DD0-4662-BCB2-F92B422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904-0461-46A2-BFCC-6251EC6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B87-96D7-4CC0-B45A-D390FF0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6255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73B-6902-4690-BBE3-D22E7D1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25560"/>
            <a:ext cx="820728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A7D-CCB5-4E58-A527-297A9BE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920" y="6453000"/>
            <a:ext cx="25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72360" y="6633720"/>
            <a:ext cx="252072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818-DBBF-4112-842D-4A4380632553}" type="slidenum">
              <a:rPr b="0" lang="en-GB" sz="10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ckblue"/>
          <p:cNvPicPr/>
          <p:nvPr/>
        </p:nvPicPr>
        <p:blipFill>
          <a:blip r:embed="rId2"/>
          <a:stretch/>
        </p:blipFill>
        <p:spPr>
          <a:xfrm>
            <a:off x="0" y="565776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26352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1080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82800" indent="-26208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5680" indent="-271440">
              <a:spcAft>
                <a:spcPts val="550"/>
              </a:spcAft>
              <a:buClr>
                <a:srgbClr val="7f92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5680" indent="-271440">
              <a:spcAft>
                <a:spcPts val="5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Timo.voipio@formin.f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284720" y="0"/>
            <a:ext cx="48592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2009)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uture work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Timo Voi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FA-Fin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cc13"/>
                </a:solidFill>
                <a:uFillTx/>
                <a:latin typeface="Arial"/>
                <a:hlinkClick r:id="rId2"/>
              </a:rPr>
              <a:t>timo.voipio@formin.fi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/EU Partn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So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irobi 10-11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Millennium Development Go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Multi-dimensi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E3F1-63F6-4208-AB3C-AA56C327EF13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A573-945F-41EA-A2AD-29CDC474EC92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7"/>
          <p:cNvSpPr/>
          <p:nvPr/>
        </p:nvSpPr>
        <p:spPr>
          <a:xfrm>
            <a:off x="6084720" y="4941720"/>
            <a:ext cx="19432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067280" y="5516640"/>
            <a:ext cx="40338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10"/>
          <p:cNvSpPr/>
          <p:nvPr/>
        </p:nvSpPr>
        <p:spPr>
          <a:xfrm>
            <a:off x="4140360" y="6093000"/>
            <a:ext cx="2376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12"/>
          <p:cNvSpPr/>
          <p:nvPr/>
        </p:nvSpPr>
        <p:spPr>
          <a:xfrm>
            <a:off x="6659640" y="3141720"/>
            <a:ext cx="144144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13"/>
          <p:cNvSpPr/>
          <p:nvPr/>
        </p:nvSpPr>
        <p:spPr>
          <a:xfrm>
            <a:off x="3780000" y="1125360"/>
            <a:ext cx="216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37D5-7BDF-4DB5-AE6A-90FFEC3D7928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026"/>
          <p:cNvSpPr/>
          <p:nvPr/>
        </p:nvSpPr>
        <p:spPr>
          <a:xfrm>
            <a:off x="4572000" y="2743200"/>
            <a:ext cx="3657600" cy="3429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59284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VELOPMENT and PovReduction ?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growth + redistribution, if any...?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~ redistribution of opportunity...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All the other s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1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where poor peopl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29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30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31"/>
          <p:cNvSpPr/>
          <p:nvPr/>
        </p:nvSpPr>
        <p:spPr>
          <a:xfrm>
            <a:off x="5105520" y="3276720"/>
            <a:ext cx="2590560" cy="2438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032"/>
          <p:cNvSpPr/>
          <p:nvPr/>
        </p:nvSpPr>
        <p:spPr>
          <a:xfrm rot="13623600">
            <a:off x="6561720" y="3030840"/>
            <a:ext cx="1057320" cy="1611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33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34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35"/>
          <p:cNvSpPr/>
          <p:nvPr/>
        </p:nvSpPr>
        <p:spPr>
          <a:xfrm rot="19941000">
            <a:off x="5715000" y="312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36"/>
          <p:cNvSpPr/>
          <p:nvPr/>
        </p:nvSpPr>
        <p:spPr>
          <a:xfrm rot="16048200">
            <a:off x="4952880" y="40384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37"/>
          <p:cNvSpPr/>
          <p:nvPr/>
        </p:nvSpPr>
        <p:spPr>
          <a:xfrm rot="6979200">
            <a:off x="7390440" y="4571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038"/>
          <p:cNvSpPr/>
          <p:nvPr/>
        </p:nvSpPr>
        <p:spPr>
          <a:xfrm rot="11289600">
            <a:off x="6019920" y="53334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2715000">
            <a:off x="6933600" y="34290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40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41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03640" y="256536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3"/>
          <p:cNvSpPr/>
          <p:nvPr/>
        </p:nvSpPr>
        <p:spPr>
          <a:xfrm flipH="1">
            <a:off x="2916360" y="2997360"/>
            <a:ext cx="576000" cy="7128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5"/>
          <p:cNvSpPr/>
          <p:nvPr/>
        </p:nvSpPr>
        <p:spPr>
          <a:xfrm flipH="1" flipV="1">
            <a:off x="2123640" y="5300280"/>
            <a:ext cx="144360" cy="576360"/>
          </a:xfrm>
          <a:prstGeom prst="line">
            <a:avLst/>
          </a:prstGeom>
          <a:ln w="9360">
            <a:solidFill>
              <a:srgbClr val="f8d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P-strategies of Africa + POVN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unis, 27-30 June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FA2-0F0D-403E-98F4-81872B1E7C47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"/>
          <p:cNvSpPr/>
          <p:nvPr/>
        </p:nvSpPr>
        <p:spPr>
          <a:xfrm>
            <a:off x="3733920" y="2133720"/>
            <a:ext cx="5257800" cy="4419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64864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with trust and social protection, people dare to move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57200" y="3124080"/>
            <a:ext cx="2438280" cy="213372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4022600">
            <a:off x="1618200" y="2831040"/>
            <a:ext cx="1362240" cy="1560600"/>
          </a:xfrm>
          <a:prstGeom prst="triangle">
            <a:avLst>
              <a:gd name="adj" fmla="val 40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5029200" y="3124080"/>
            <a:ext cx="2590920" cy="2438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 rot="13623600">
            <a:off x="6543000" y="2446920"/>
            <a:ext cx="1595520" cy="2301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895480" y="3733920"/>
            <a:ext cx="304920" cy="685800"/>
          </a:xfrm>
          <a:custGeom>
            <a:avLst/>
            <a:gdLst>
              <a:gd name="textAreaLeft" fmla="*/ 40680 w 304920"/>
              <a:gd name="textAreaRight" fmla="*/ 264240 w 304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2936400">
            <a:off x="1967400" y="2588400"/>
            <a:ext cx="134640" cy="635040"/>
          </a:xfrm>
          <a:custGeom>
            <a:avLst/>
            <a:gdLst>
              <a:gd name="textAreaLeft" fmla="*/ 18000 w 134640"/>
              <a:gd name="textAreaRight" fmla="*/ 116640 w 13464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 rot="19941000">
            <a:off x="5022720" y="2133360"/>
            <a:ext cx="1432080" cy="1690560"/>
          </a:xfrm>
          <a:prstGeom prst="upArrow">
            <a:avLst>
              <a:gd name="adj1" fmla="val 50000"/>
              <a:gd name="adj2" fmla="val 2951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 rot="16048200">
            <a:off x="3986640" y="3395880"/>
            <a:ext cx="1305000" cy="1675080"/>
          </a:xfrm>
          <a:prstGeom prst="upArrow">
            <a:avLst>
              <a:gd name="adj1" fmla="val 50000"/>
              <a:gd name="adj2" fmla="val 3209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6979200">
            <a:off x="7299720" y="4137480"/>
            <a:ext cx="1493640" cy="1508400"/>
          </a:xfrm>
          <a:prstGeom prst="upArrow">
            <a:avLst>
              <a:gd name="adj1" fmla="val 50000"/>
              <a:gd name="adj2" fmla="val 25247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rot="11289600">
            <a:off x="5616360" y="5365440"/>
            <a:ext cx="1617480" cy="1311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rot="2715000">
            <a:off x="6927120" y="2481840"/>
            <a:ext cx="1339560" cy="1859040"/>
          </a:xfrm>
          <a:prstGeom prst="upArrow">
            <a:avLst>
              <a:gd name="adj1" fmla="val 50000"/>
              <a:gd name="adj2" fmla="val 34695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rot="3121800">
            <a:off x="2285640" y="32000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c7a20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Straight Arrow Connector 21"/>
          <p:cNvCxnSpPr/>
          <p:nvPr/>
        </p:nvCxnSpPr>
        <p:spPr>
          <a:xfrm flipV="1">
            <a:off x="6515640" y="4005000"/>
            <a:ext cx="648360" cy="172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3" name="Straight Arrow Connector 22"/>
          <p:cNvCxnSpPr/>
          <p:nvPr/>
        </p:nvCxnSpPr>
        <p:spPr>
          <a:xfrm>
            <a:off x="5435640" y="2997360"/>
            <a:ext cx="1729440" cy="57636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4" name="Straight Arrow Connector 23"/>
          <p:cNvCxnSpPr/>
          <p:nvPr/>
        </p:nvCxnSpPr>
        <p:spPr>
          <a:xfrm flipH="1" flipV="1">
            <a:off x="5002920" y="4436280"/>
            <a:ext cx="1513800" cy="136908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5" name="Straight Arrow Connector 24"/>
          <p:cNvCxnSpPr/>
          <p:nvPr/>
        </p:nvCxnSpPr>
        <p:spPr>
          <a:xfrm flipV="1">
            <a:off x="5219280" y="3933360"/>
            <a:ext cx="1801080" cy="504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cxnSp>
        <p:nvCxnSpPr>
          <p:cNvPr id="216" name="Straight Arrow Connector 30"/>
          <p:cNvCxnSpPr/>
          <p:nvPr/>
        </p:nvCxnSpPr>
        <p:spPr>
          <a:xfrm flipH="1" flipV="1">
            <a:off x="5002920" y="4365360"/>
            <a:ext cx="2233080" cy="288000"/>
          </a:xfrm>
          <a:prstGeom prst="straightConnector1">
            <a:avLst/>
          </a:prstGeom>
          <a:ln w="57240">
            <a:solidFill>
              <a:srgbClr val="001b5e"/>
            </a:solidFill>
            <a:miter/>
            <a:tailEnd len="med" type="arrow" w="med"/>
          </a:ln>
        </p:spPr>
      </p:cxnSp>
      <p:sp>
        <p:nvSpPr>
          <p:cNvPr id="217" name="TextBox 33"/>
          <p:cNvSpPr/>
          <p:nvPr/>
        </p:nvSpPr>
        <p:spPr>
          <a:xfrm>
            <a:off x="6948360" y="189000"/>
            <a:ext cx="22622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African sm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er agric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6 x larger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n in overseas export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324000" y="2637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0" y="5805360"/>
            <a:ext cx="58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structural change           from sector to 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38"/>
          <p:cNvSpPr/>
          <p:nvPr/>
        </p:nvSpPr>
        <p:spPr>
          <a:xfrm flipV="1">
            <a:off x="4647600" y="5157360"/>
            <a:ext cx="1003320" cy="862200"/>
          </a:xfrm>
          <a:prstGeom prst="line">
            <a:avLst/>
          </a:prstGeom>
          <a:ln w="38160">
            <a:solidFill>
              <a:srgbClr val="001b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Helsinki Process Round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Dar es Salaam 15 Nov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2E82-C46F-48CE-9B97-60B9529191BC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47d"/>
                </a:solidFill>
                <a:latin typeface="Arial"/>
              </a:rPr>
              <a:t>Credible Social Protection needed for poor people to be able to participate in and contribute to grow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>
            <a:off x="826920" y="2421000"/>
            <a:ext cx="180036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3B3E-43D6-4447-B18B-08724F6C086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109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4724280" y="5943600"/>
            <a:ext cx="403884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0" y="1268280"/>
            <a:ext cx="3348000" cy="39344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ECD-POVNE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Prot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Good for Pro-Po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POVNET Plenary Par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17 April,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 Voipio, MFA-Fin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FA8F-94DD-4EC8-AAF6-E9333C0BE489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y Social Protection 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280" y="1071720"/>
            <a:ext cx="44960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-poor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void shocks that derail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innovation,    risk taking and entrepreneu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eracts irreversible asset de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t accumulation + broadening tax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gregate demand in the economy/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0" y="1071720"/>
            <a:ext cx="4572000" cy="67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ights-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.22-28 UDH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DGs, bas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socio-economic ‘floor’ /’compact’ (minimum standar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cratic partic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able dev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cycle and inter-generation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9528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+ Fastest way to achieve MD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5010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Universal Declaration of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Human Rights (1948)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341000"/>
            <a:ext cx="861084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Everyone, as a member of society, has the 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ocial security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 (Art 2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Right to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k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 freely chosen...under just conditions and remuneration...and to join unions..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 algn="just">
              <a:lnSpc>
                <a:spcPct val="90000"/>
              </a:lnSpc>
              <a:spcAft>
                <a:spcPts val="1001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..and to a decent 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andard of living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.” </a:t>
            </a:r>
            <a:r>
              <a:rPr b="0" i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(Art 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7"/>
          <p:cNvSpPr/>
          <p:nvPr/>
        </p:nvSpPr>
        <p:spPr>
          <a:xfrm>
            <a:off x="5651640" y="2924280"/>
            <a:ext cx="331308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3564000" y="3645000"/>
            <a:ext cx="4680000" cy="0"/>
          </a:xfrm>
          <a:prstGeom prst="line">
            <a:avLst/>
          </a:prstGeom>
          <a:ln w="381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2771640" y="0"/>
            <a:ext cx="70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4500720" y="476280"/>
            <a:ext cx="0" cy="6381720"/>
          </a:xfrm>
          <a:prstGeom prst="line">
            <a:avLst/>
          </a:prstGeom>
          <a:ln w="9360">
            <a:solidFill>
              <a:srgbClr val="002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10880" cy="58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nor polic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Guidelines on: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71424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PRO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  Cash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wth-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form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ord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-cycle r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, 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gil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change ada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saster Risk Reduc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5580000" y="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ECD-POV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643280" y="546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47d"/>
                </a:solidFill>
                <a:latin typeface="Arial"/>
              </a:rPr>
              <a:t>www.oecd.org/dac/pov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47d"/>
                </a:solidFill>
                <a:latin typeface="Bauhaus Hv BT"/>
              </a:rPr>
              <a:t>The ILO Campaign on Social Security and Coverage for 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-468360" y="1052640"/>
            <a:ext cx="10296720" cy="64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0" y="189000"/>
            <a:ext cx="91440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Social Protection </a:t>
            </a:r>
            <a:r>
              <a:rPr b="1" lang="en-US" sz="4400" spc="-1" strike="noStrike" u="sng">
                <a:solidFill>
                  <a:srgbClr val="fae073"/>
                </a:solidFill>
                <a:uFillTx/>
                <a:latin typeface="Calibri"/>
                <a:ea typeface="Gulim"/>
              </a:rPr>
              <a:t>Floor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</a:t>
            </a:r>
            <a:r>
              <a:rPr b="1" lang="en-US" sz="4400" spc="-1" strike="noStrike">
                <a:solidFill>
                  <a:srgbClr val="fae073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ae073"/>
                </a:solidFill>
                <a:latin typeface="Calibri"/>
                <a:ea typeface="Gulim"/>
              </a:rPr>
              <a:t> towards higher level services and protection…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y: Our Concept of Development and Progr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uld we measure progress in terms of GDP 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in terms of numbers of women and men, young, old and disabled who have gain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ecent jobs, sustainable livelihoods or reliable social prote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8680" indent="-238680">
              <a:spcAft>
                <a:spcPts val="799"/>
              </a:spcAft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who are therefore able to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articipate as active citizens and economic actor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’transformative’ process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55736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spcAft>
                <a:spcPts val="700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elines on EMPOWERMENT and Pro-Poor Growth soon…(2009-20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Making Green Growth Pro-Poor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Food Security/Access to Food 201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4) Social Protection Flo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ask Team 2011-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ordinate with EU/AU + UN-SPF-I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olicy / social protection analytic capacity + staff train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Social protection statistics (DAC-co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080" indent="-406080">
              <a:spcAft>
                <a:spcPts val="799"/>
              </a:spcAft>
              <a:buClr>
                <a:srgbClr val="ffffff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0" descr="pov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2916360" y="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</a:rPr>
              <a:t>POVNET WORK 2009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0" y="1557360"/>
            <a:ext cx="9144000" cy="58226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TOWARDS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now to show DEMAND and require BUDGETS and ACTION by EUC/AUC + M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+ Network of EU and African Experts (+ POVNET + UN SocProtFloor Initiat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372360" y="6453360"/>
            <a:ext cx="2520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ICSW Global Conference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Brasilia 16-19 July, 2006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50920" y="645336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Entry points for ICSW to promo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7d"/>
                </a:solidFill>
                <a:latin typeface="Arial"/>
              </a:rPr>
              <a:t>Social Justice in PRS-proc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372360" y="6634080"/>
            <a:ext cx="2520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818E-0B39-4267-8FD0-5B3358027AAB}" type="slidenum">
              <a:rPr b="0" lang="en-US" sz="1000" spc="-1" strike="noStrike">
                <a:solidFill>
                  <a:srgbClr val="0024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47d"/>
                </a:solidFill>
                <a:latin typeface="Arial"/>
              </a:rPr>
              <a:t>timo.voipio@formin.f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2578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3505320"/>
            <a:ext cx="34290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NOM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876312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O-1992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IO-2012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stainable dev’t 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dev’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505320" y="990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19720" y="1523880"/>
            <a:ext cx="304560" cy="4114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5397000">
            <a:off x="4419360" y="-761760"/>
            <a:ext cx="304920" cy="48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33720" y="182880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858000" y="1752480"/>
            <a:ext cx="15228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556272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47d"/>
                </a:solidFill>
                <a:latin typeface="Arial"/>
              </a:rPr>
              <a:t>ECOLOG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0" y="0"/>
            <a:ext cx="144360" cy="6858000"/>
          </a:xfrm>
          <a:prstGeom prst="rect">
            <a:avLst/>
          </a:prstGeom>
          <a:solidFill>
            <a:srgbClr val="88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50540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332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-D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094800" y="530064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I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836640"/>
            <a:ext cx="84265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0"/>
            <a:ext cx="846144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ich Country Club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61 - 201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C = ’Donor brainstorming forum’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0,7% GDP, aid untying, ’ownership’, ’aid coordination’, ’aid harmonization’, (Paris/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00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VNET = Poverty Network 1998 – 20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DERNET + ENVIRONET +  GOV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cid:image001.gif@01CB536A.B5658840"/>
          <p:cNvPicPr/>
          <p:nvPr/>
        </p:nvPicPr>
        <p:blipFill>
          <a:blip r:embed="rId1"/>
          <a:stretch/>
        </p:blipFill>
        <p:spPr>
          <a:xfrm>
            <a:off x="0" y="0"/>
            <a:ext cx="3203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64000" y="148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47d"/>
                </a:solidFill>
                <a:uFillTx/>
                <a:latin typeface="Arial"/>
              </a:rPr>
              <a:t>www.oecd.org/dac/pover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403280" y="623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7d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47d"/>
                </a:solidFill>
                <a:latin typeface="Arial"/>
              </a:rPr>
              <a:t>Poverty is context-specific, 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fae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…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Poverty is </a:t>
            </a:r>
            <a:r>
              <a:rPr b="1" lang="en-US" sz="3600" spc="-1" strike="noStrike" u="sng">
                <a:solidFill>
                  <a:srgbClr val="00247d"/>
                </a:solidFill>
                <a:uFillTx/>
                <a:latin typeface="Arial"/>
                <a:ea typeface="Arial Unicode MS"/>
              </a:rPr>
              <a:t>multi-dimensional</a:t>
            </a:r>
            <a:r>
              <a:rPr b="1" lang="en-US" sz="3600" spc="-1" strike="noStrike">
                <a:solidFill>
                  <a:srgbClr val="00247d"/>
                </a:solidFill>
                <a:latin typeface="Arial"/>
                <a:ea typeface="Arial Unicode MS"/>
              </a:rPr>
              <a:t> (OEC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352680" y="838080"/>
            <a:ext cx="259092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ROTECTIVE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sk, vulnerability             social protection / social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238880" y="2208240"/>
            <a:ext cx="1905120" cy="1738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LITIC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ights        freedoms        voice &amp;    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791320" y="5049720"/>
            <a:ext cx="182880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OCIO-CULTURAL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status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spect,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2208240"/>
            <a:ext cx="1981440" cy="1433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CONOMIC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consump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come           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600200" y="5035680"/>
            <a:ext cx="1695600" cy="1592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ealth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ducation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hunger, th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733920" y="2743200"/>
            <a:ext cx="167616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DER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VIRON-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371600" y="1219320"/>
            <a:ext cx="182880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3600" y="1219320"/>
            <a:ext cx="190512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444840" y="572616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1219320" y="3429000"/>
            <a:ext cx="1044360" cy="14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2286000" y="24382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6773760" y="3771720"/>
            <a:ext cx="1046160" cy="1143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257800" y="2362320"/>
            <a:ext cx="1022400" cy="25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2849400" y="2286000"/>
            <a:ext cx="1036800" cy="2689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3352680" y="3349440"/>
            <a:ext cx="3587760" cy="1795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 flipV="1">
            <a:off x="2133720" y="3192120"/>
            <a:ext cx="3527280" cy="1839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ähän maapallo ja  lap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557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spcAft>
                <a:spcPts val="550"/>
              </a:spcAft>
              <a:buClr>
                <a:srgbClr val="7f92c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beleni - Future - Tulevaisu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http://www.unbotswana.org.bw/img/photo/system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3857760" y="4000680"/>
            <a:ext cx="642960" cy="2643120"/>
          </a:xfrm>
          <a:prstGeom prst="ellips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 2000 – Millennium Declar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and MD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42908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s. Tarja  Halonen, President of F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ir of the Millennium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51:28Z</dcterms:created>
  <dc:creator>kilpiha</dc:creator>
  <dc:description/>
  <dc:language>en-US</dc:language>
  <cp:lastModifiedBy>Timo Voipio</cp:lastModifiedBy>
  <dcterms:modified xsi:type="dcterms:W3CDTF">2011-03-10T09:29:51Z</dcterms:modified>
  <cp:revision>499</cp:revision>
  <dc:subject/>
  <dc:title>COMMUNCATION Ministry for Foreign Affairs Fin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dditional information">
    <vt:lpwstr/>
  </property>
  <property fmtid="{D5CDD505-2E9C-101B-9397-08002B2CF9AE}" pid="3" name="Creator">
    <vt:lpwstr/>
  </property>
  <property fmtid="{D5CDD505-2E9C-101B-9397-08002B2CF9AE}" pid="4" name="Date">
    <vt:lpwstr>2009-02-17T00:00:00Z</vt:lpwstr>
  </property>
  <property fmtid="{D5CDD505-2E9C-101B-9397-08002B2CF9AE}" pid="5" name="Unit">
    <vt:lpwstr/>
  </property>
</Properties>
</file>