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7.wmf" ContentType="image/x-wmf"/>
  <Override PartName="/ppt/media/image15.png" ContentType="image/png"/>
  <Override PartName="/ppt/media/image5.jpeg" ContentType="image/jpeg"/>
  <Override PartName="/ppt/media/image14.png" ContentType="image/png"/>
  <Override PartName="/ppt/media/image9.png" ContentType="image/png"/>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51752-D57C-4225-A75D-4DDEADA606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5A87D-157E-43E3-B34E-50FBDED74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6758D-070A-41A8-AB74-8070B8055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C68D57-C16D-4BCC-8566-24763A95B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9E6639-56E7-469D-864E-E990067724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51C2C-E058-48DD-920E-F32E04BFC8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EAE5A0-0D27-4541-927D-624EE50503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7AC13A-EE64-4B73-818D-5918A78A7B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AA347-D59A-41B6-95AD-A73FEAEC16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3D8B26-947D-44C6-8272-47467E7C80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61FBF-59EB-4E45-B392-BA7DDB37A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7DBD7-6CD7-4E00-AF92-5D699ED1D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2A2E3-4B0C-40CF-99CE-F8EDA5DF8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152BA-462B-4217-8C46-DDD4AA293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38A73-2096-439E-9811-F34D7D240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DDAB85-A46A-486E-B738-6B7436E9BA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B247A6-459D-4ECD-9341-C636B1ED6D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ABAFE5-DEA4-4773-8877-F238A08E93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EAED21-99BB-4440-8B09-D50FBFE097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917381-5CC1-46DD-A3CE-D53E1E310F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09863D-817C-4750-80AF-3AC076B0D2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8B65EA-9390-4116-B3D9-3BCC759197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72E3B-96A4-4EBF-99B6-B77A1271A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3FD29E-8883-4805-87C2-05D6418488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A76B50-2E53-4F4B-B69D-1E125983BF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13232B-AE17-45F9-9C27-DFD84B045D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632681-A97F-4B05-A3C3-0F5D6E1228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641E96-0939-4042-BBEB-E412F545D3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BC8A57-A1EB-4EA4-B427-87561D41B0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62B5C8-8D56-4601-9A5E-89BE8748B5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72BD1A-6140-41B9-9035-3A1F26A6B7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60597F-B77A-4AAE-8750-7EA642B6A8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3962D1-70C8-4BF3-A28C-BE416A1040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472E1-71E8-4300-9585-DE0176768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B0BE40-8BE2-4463-83B7-581383426F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7468A2-0312-49C7-8C07-E6DB166CC5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272BB2-77E8-4CCE-8AB9-FEBA704339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13E200-1EC0-4333-9DA6-CB5F8ECF91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8A4D6E-B2A5-4E0E-A2E6-D95FBFF580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F45C04-2486-4BCE-BBA7-8378E79794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E5CA9E-1839-4E5D-A8D6-734FF4C6E9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959925-D9D0-4BE9-AFE6-104B003730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E47BC1-9CEB-4BFB-BF7C-9CADF94193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0CAD0E-53B2-4A7A-8755-5BDDB6B879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C33ED-3078-45D8-BCE9-E1459D7DD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FAB171-8CC5-402F-B475-D6854E1965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FF1910-1900-4F35-BEE8-33CC034D6E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FF751D-8B63-4D3B-8C30-3D9306087F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A11A56-F394-4AD6-8FCD-0D0A3780DC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5FBBDD-FF55-4E08-A05D-D578AB0AE7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002446-4F56-4346-A03D-5394EB0DFA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A6DC14-33B8-489D-8458-9C6CAEE984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6D3D5F-8995-49DF-A5D3-A5E81A1403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2E8268-F372-4B7B-9FE1-C25F820A07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9A8118-743E-4696-9484-FE9A6C30C8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9EB9A-F81F-41E0-AA0A-3DE25350A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C15308-0546-489B-AB92-285EBD1F1B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FA8FC-83B3-4F31-96DB-9FDA70DA4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455BC-9319-47C1-8113-616EF5412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1AD6B-4334-4C1C-B49E-C0F2E70DA9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F51B8-DE7B-4E61-8D31-89FCB1A5C47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E47BF-8A3B-4C42-9CDA-1F45A09F251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3EFCB-6193-4029-8361-B7B3B228D05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3CD59-A498-489A-9EA0-B272882709E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B517D-C837-47DA-B9AF-B5D2C43963B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Subtitle 2" descr=""/>
          <p:cNvPicPr/>
          <p:nvPr/>
        </p:nvPicPr>
        <p:blipFill>
          <a:blip r:embed="rId1"/>
          <a:stretch/>
        </p:blipFill>
        <p:spPr>
          <a:xfrm>
            <a:off x="755640" y="3492360"/>
            <a:ext cx="7480440" cy="3067200"/>
          </a:xfrm>
          <a:prstGeom prst="rect">
            <a:avLst/>
          </a:prstGeom>
          <a:ln w="0">
            <a:noFill/>
          </a:ln>
        </p:spPr>
      </p:pic>
      <p:pic>
        <p:nvPicPr>
          <p:cNvPr id="229" name="Title 1" descr=""/>
          <p:cNvPicPr/>
          <p:nvPr/>
        </p:nvPicPr>
        <p:blipFill>
          <a:blip r:embed="rId2"/>
          <a:stretch/>
        </p:blipFill>
        <p:spPr>
          <a:xfrm>
            <a:off x="530280" y="2389320"/>
            <a:ext cx="7785000" cy="896760"/>
          </a:xfrm>
          <a:prstGeom prst="rect">
            <a:avLst/>
          </a:prstGeom>
          <a:ln w="0">
            <a:noFill/>
          </a:ln>
        </p:spPr>
      </p:pic>
      <p:sp>
        <p:nvSpPr>
          <p:cNvPr id="230" name="Rectangle 3"/>
          <p:cNvSpPr/>
          <p:nvPr/>
        </p:nvSpPr>
        <p:spPr>
          <a:xfrm>
            <a:off x="-3522600" y="2136600"/>
            <a:ext cx="183960" cy="922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6" descr="logo"/>
          <p:cNvPicPr/>
          <p:nvPr/>
        </p:nvPicPr>
        <p:blipFill>
          <a:blip r:embed="rId3"/>
          <a:stretch/>
        </p:blipFill>
        <p:spPr>
          <a:xfrm>
            <a:off x="3352680" y="152280"/>
            <a:ext cx="2171880" cy="218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3" descr=""/>
          <p:cNvPicPr/>
          <p:nvPr/>
        </p:nvPicPr>
        <p:blipFill>
          <a:blip r:embed="rId1"/>
          <a:stretch/>
        </p:blipFill>
        <p:spPr>
          <a:xfrm>
            <a:off x="208080" y="79200"/>
            <a:ext cx="8485200" cy="908280"/>
          </a:xfrm>
          <a:prstGeom prst="rect">
            <a:avLst/>
          </a:prstGeom>
          <a:ln w="0">
            <a:noFill/>
          </a:ln>
        </p:spPr>
      </p:pic>
      <p:sp>
        <p:nvSpPr>
          <p:cNvPr id="249" name=""/>
          <p:cNvSpPr txBox="1"/>
          <p:nvPr/>
        </p:nvSpPr>
        <p:spPr>
          <a:xfrm>
            <a:off x="457200" y="1599840"/>
            <a:ext cx="8229600" cy="4724280"/>
          </a:xfrm>
          <a:prstGeom prst="rect">
            <a:avLst/>
          </a:prstGeom>
          <a:noFill/>
          <a:ln w="0">
            <a:noFill/>
          </a:ln>
        </p:spPr>
        <p:txBody>
          <a:bodyPr lIns="90000" rIns="90000" tIns="46800" bIns="46800" anchor="t">
            <a:normAutofit/>
          </a:bodyPr>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Facilitate regional dialogue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latform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olicy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6" descr="logo"/>
          <p:cNvPicPr/>
          <p:nvPr/>
        </p:nvPicPr>
        <p:blipFill>
          <a:blip r:embed="rId1"/>
          <a:stretch/>
        </p:blipFill>
        <p:spPr>
          <a:xfrm>
            <a:off x="1638360" y="380880"/>
            <a:ext cx="5295960" cy="5105520"/>
          </a:xfrm>
          <a:prstGeom prst="rect">
            <a:avLst/>
          </a:prstGeom>
          <a:ln w="0">
            <a:noFill/>
          </a:ln>
        </p:spPr>
      </p:pic>
      <p:pic>
        <p:nvPicPr>
          <p:cNvPr id="251" name="Rectangle 3" descr=""/>
          <p:cNvPicPr/>
          <p:nvPr/>
        </p:nvPicPr>
        <p:blipFill>
          <a:blip r:embed="rId2"/>
          <a:stretch/>
        </p:blipFill>
        <p:spPr>
          <a:xfrm>
            <a:off x="244440" y="5857920"/>
            <a:ext cx="8539200" cy="78084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Title 3" descr=""/>
          <p:cNvPicPr/>
          <p:nvPr/>
        </p:nvPicPr>
        <p:blipFill>
          <a:blip r:embed="rId1"/>
          <a:stretch/>
        </p:blipFill>
        <p:spPr>
          <a:xfrm>
            <a:off x="208080" y="85680"/>
            <a:ext cx="8485200" cy="901800"/>
          </a:xfrm>
          <a:prstGeom prst="rect">
            <a:avLst/>
          </a:prstGeom>
          <a:ln w="0">
            <a:noFill/>
          </a:ln>
        </p:spPr>
      </p:pic>
      <p:pic>
        <p:nvPicPr>
          <p:cNvPr id="233" name="Picture 2" descr=""/>
          <p:cNvPicPr/>
          <p:nvPr/>
        </p:nvPicPr>
        <p:blipFill>
          <a:blip r:embed="rId2"/>
          <a:stretch/>
        </p:blipFill>
        <p:spPr>
          <a:xfrm>
            <a:off x="228600" y="990720"/>
            <a:ext cx="8610480" cy="548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mprised of seven countries  of East and Horn of Africa Region namely Djibouti, Eritrea, Ethiopia, Kenya, Uganda, Somalia, Suda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eadquarter in Djibouti</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reated in 1986 to combat drought and desertificat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andate expanded in 1996 to economic integration and Peace an Security</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GAD is one of the 8 RECS in the continent</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35" name="Rectangle 3" descr=""/>
          <p:cNvPicPr/>
          <p:nvPr/>
        </p:nvPicPr>
        <p:blipFill>
          <a:blip r:embed="rId1"/>
          <a:stretch/>
        </p:blipFill>
        <p:spPr>
          <a:xfrm>
            <a:off x="225360" y="268200"/>
            <a:ext cx="8547120" cy="1195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600200"/>
            <a:ext cx="8229600" cy="50292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ssion of IGAD is to assist Member States to achieve  regional integration through closer collaboration in the areas of :</a:t>
            </a:r>
            <a:endParaRPr b="0" lang="en-US" sz="26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conomic Integration</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eace and Security</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griculture, Food Security </a:t>
            </a:r>
            <a:r>
              <a:rPr b="1" lang="en-US" sz="3200" spc="-1" strike="noStrike">
                <a:solidFill>
                  <a:srgbClr val="000000"/>
                </a:solidFill>
                <a:latin typeface="Perpetua"/>
              </a:rPr>
              <a:t>&amp; </a:t>
            </a:r>
            <a:r>
              <a:rPr b="1" lang="en-US" sz="3200" spc="-1" strike="noStrike">
                <a:solidFill>
                  <a:srgbClr val="000000"/>
                </a:solidFill>
                <a:latin typeface="Arial Narrow"/>
              </a:rPr>
              <a:t>Environment</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ocial Development</a:t>
            </a:r>
            <a:endParaRPr b="0" lang="en-US" sz="3200" spc="-1" strike="noStrike">
              <a:solidFill>
                <a:srgbClr val="000000"/>
              </a:solidFill>
              <a:latin typeface="Perpetua"/>
            </a:endParaRPr>
          </a:p>
        </p:txBody>
      </p:sp>
      <p:pic>
        <p:nvPicPr>
          <p:cNvPr id="237" name="Rectangle 3" descr=""/>
          <p:cNvPicPr/>
          <p:nvPr/>
        </p:nvPicPr>
        <p:blipFill>
          <a:blip r:embed="rId1"/>
          <a:stretch/>
        </p:blipFill>
        <p:spPr>
          <a:xfrm>
            <a:off x="298440" y="281160"/>
            <a:ext cx="8089920" cy="101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599840"/>
            <a:ext cx="8229600" cy="487692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stablished in 2000</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Promote Social Policies ( Health-education-Social protection,, migration…</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Address the need of mobile population ( Nomads, Refugees, Migrants…etc</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Health: Provide basic  health package for the cross border and mobile populations mobile</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ducation: Access to the basic needs particularly for the remote people- Mobile schools</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gration: addressing  the issues if irregular migration in the region  and particularly the human trafficking</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39" name="Rectangle 3" descr=""/>
          <p:cNvPicPr/>
          <p:nvPr/>
        </p:nvPicPr>
        <p:blipFill>
          <a:blip r:embed="rId1"/>
          <a:stretch/>
        </p:blipFill>
        <p:spPr>
          <a:xfrm>
            <a:off x="285840" y="311040"/>
            <a:ext cx="8229600" cy="85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IGAD member countries share common concern about the movement of irregular migrant populations whether inspired by a search for economic opportunity or by other motivatio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3" descr=""/>
          <p:cNvPicPr/>
          <p:nvPr/>
        </p:nvPicPr>
        <p:blipFill>
          <a:blip r:embed="rId1"/>
          <a:stretch/>
        </p:blipFill>
        <p:spPr>
          <a:xfrm>
            <a:off x="208080" y="85680"/>
            <a:ext cx="8485200" cy="901800"/>
          </a:xfrm>
          <a:prstGeom prst="rect">
            <a:avLst/>
          </a:prstGeom>
          <a:ln w="0">
            <a:noFill/>
          </a:ln>
        </p:spPr>
      </p:pic>
      <p:sp>
        <p:nvSpPr>
          <p:cNvPr id="24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Social Protection &amp; Promote the role of social protection as an instrument in  reducing chronic poverty&amp; Food insecurity in the region</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region is one of the most environmental hostile part of the Worl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ortant population of nomadic pastoralist dependant  on long term foo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overty and Food Security are both pervasive &amp; Chronic</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rogram funded by EU trough the  9EDF and its objective is to:</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rove regional and national policies, to analyze policies and programs, to manage chronic food insecurity and to assess the role of Social protection approaches in sustainably reducing food insecurity and poverty</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3" descr=""/>
          <p:cNvPicPr/>
          <p:nvPr/>
        </p:nvPicPr>
        <p:blipFill>
          <a:blip r:embed="rId1"/>
          <a:stretch/>
        </p:blipFill>
        <p:spPr>
          <a:xfrm>
            <a:off x="208080" y="85680"/>
            <a:ext cx="8485200" cy="901800"/>
          </a:xfrm>
          <a:prstGeom prst="rect">
            <a:avLst/>
          </a:prstGeom>
          <a:ln w="0">
            <a:noFill/>
          </a:ln>
        </p:spPr>
      </p:pic>
      <p:sp>
        <p:nvSpPr>
          <p:cNvPr id="245" name=""/>
          <p:cNvSpPr txBox="1"/>
          <p:nvPr/>
        </p:nvSpPr>
        <p:spPr>
          <a:xfrm>
            <a:off x="457200" y="1143000"/>
            <a:ext cx="8229600" cy="541008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 </a:t>
            </a:r>
            <a:r>
              <a:rPr b="1" lang="en-US" sz="2300" spc="-1" strike="noStrike">
                <a:solidFill>
                  <a:srgbClr val="000000"/>
                </a:solidFill>
                <a:latin typeface="Arial Narrow"/>
              </a:rPr>
              <a:t>The program has the following main activitie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IGAD in collaboration with Member States have undertaken an inventory of existing Social Protection programs and Actor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The process of mapping and review  of social interventions are expected to:</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Provide learning opportunity</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Stimulate debate &amp; contribute towards the coordination and harmonization of efforts by all stakeholders implementing social protection</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Findings contribute to policy dialogue with government and key stakeholders</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contribute to the national protection strategy</a:t>
            </a:r>
            <a:endParaRPr b="0" lang="en-US" sz="19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3" descr=""/>
          <p:cNvPicPr/>
          <p:nvPr/>
        </p:nvPicPr>
        <p:blipFill>
          <a:blip r:embed="rId1"/>
          <a:stretch/>
        </p:blipFill>
        <p:spPr>
          <a:xfrm>
            <a:off x="208080" y="85680"/>
            <a:ext cx="8485200" cy="901800"/>
          </a:xfrm>
          <a:prstGeom prst="rect">
            <a:avLst/>
          </a:prstGeom>
          <a:ln w="0">
            <a:noFill/>
          </a:ln>
        </p:spPr>
      </p:pic>
      <p:sp>
        <p:nvSpPr>
          <p:cNvPr id="24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upport to countries in establishing  a national and platform  for sharing experience in the reg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ost countries have established national Platform</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sman</cp:lastModifiedBy>
  <dcterms:modified xsi:type="dcterms:W3CDTF">2011-03-10T08:21:36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