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7667-2C3E-4EEA-AB82-FA9C949987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6C97-102E-40D8-9CB6-A11DE5DD7D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D39-B0A4-4277-BBCF-7F068766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2A5-35C9-4FC4-A3BC-A88496EF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262-32E7-405E-B8EE-606D468B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AC2-D011-4150-A91B-CCD9954F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857-0296-4FC6-A6EB-281D6BB7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484-47E0-4FE3-AA08-E6F34B6F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484-A1E5-4AC4-91EC-9F436DC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B86-8A3A-4F23-B410-A8E23763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946-83C0-4F8D-A629-28E87C90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295-66FB-46CB-92B3-D94A8D7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2A8-77A0-401C-A2A2-CE3F0FB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1D3-30F7-4F7C-9A52-CDC05FF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20B-8AC6-467F-8F8A-F1B77FAFF6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CSOs’ Experiences in Social Prot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AUC/AU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Pan Afric Hotel, Nairob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Verdana"/>
                <a:ea typeface="Verdana"/>
              </a:rPr>
              <a:t>10-11  March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Tavengwa M Nh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98989"/>
                </a:solidFill>
                <a:latin typeface="Verdana"/>
                <a:ea typeface="Verdana"/>
              </a:rPr>
              <a:t>Africa Platform for Social Pro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757224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AP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Africa Platform for Social Protection (APSP) was established by a group of national and regional organisations from across the African continent as a response to the growing demand for “voice” and more active engagement of African civil society in the shaping of Social Protection policies, programmes, and practices in Africa. It is a network of individuals and organizations operating at national and regional levels, with a commitment to promoting and strengthening the social contract between states and citize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xperiences of CSO’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ining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grassroots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small organised groups and registered locally or na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big national/regional organis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SO’s as the large international NGO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ation looks at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O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made huge contributions to raising awareness on Social Prot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efforts to generate evidence through pilots, reviews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supported training/capacity building of those in government and the NGO’s (e.g. EPRI cour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funded and supported programmes on 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Franchophone West Africa has not had the same level of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eriences of CS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SO’s – national level and grassroots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remained out of the wider action on Social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not managed to push the demand for SP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largely not engaged with the policy  dialogue at the local and national government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alue the contributions of the CSO’s and involve them (donors, govts, UN, AU, REC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and along governments since their ownership of programmes will ensure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collaborate -not compete/duplicat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smaller organisations as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SO’s to work with grassroots organisations to increase demand of SP from the bott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e Franchophone Africa in the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vernment action and buy in                     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mand from the grass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TOSHIBA\Documents\ACSP - Admin docs\Letter head, Logo\APSP_Logo.jpg"/>
          <p:cNvPicPr/>
          <p:nvPr/>
        </p:nvPicPr>
        <p:blipFill>
          <a:blip r:embed="rId1"/>
          <a:stretch/>
        </p:blipFill>
        <p:spPr>
          <a:xfrm>
            <a:off x="8134200" y="6086520"/>
            <a:ext cx="1009800" cy="77148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7286760" y="20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Up Arrow 6"/>
          <p:cNvSpPr/>
          <p:nvPr/>
        </p:nvSpPr>
        <p:spPr>
          <a:xfrm>
            <a:off x="7358040" y="4286160"/>
            <a:ext cx="484200" cy="97812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6500880" y="342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44:29Z</dcterms:created>
  <dc:creator>user</dc:creator>
  <dc:description/>
  <dc:language>en-US</dc:language>
  <cp:lastModifiedBy>tnhongo</cp:lastModifiedBy>
  <dcterms:modified xsi:type="dcterms:W3CDTF">2011-03-09T18:16:16Z</dcterms:modified>
  <cp:revision>51</cp:revision>
  <dc:subject/>
  <dc:title>KENYA PLATFORM ON SOCIAL PROTECTION  STRATEGIC PLAN WORKSHOP 25TH -26TH JANUARY 2011  PANAFRIC HOTEL, NAIROBI.</dc:title>
</cp:coreProperties>
</file>