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move the slide</a:t>
            </a:r>
            <a:endParaRPr b="0" lang="en-US" sz="3600" spc="-1" strike="noStrike">
              <a:solidFill>
                <a:srgbClr val="333399"/>
              </a:solidFill>
              <a:latin typeface="Tahoma"/>
            </a:endParaRPr>
          </a:p>
        </p:txBody>
      </p:sp>
      <p:sp>
        <p:nvSpPr>
          <p:cNvPr id="10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C7EF-AC02-4A52-B6EA-23B799356C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377F-E8BA-4C28-8F68-ED5E4C19F84A}"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register is a criminal offence Sec 5 (4) Ca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Contribution is an offence Section 36 (a) Cap 258</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BC6-9ACF-45C4-855D-997C5D3BE53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vide legal basis and can provide an excellent basis for vertical extension of social security coverage but are much weaker when it comes to extending benefits to all on the basis of minimum set of Social guarantees</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9940-8344-445F-BB17-923A5CCC35F6}"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Economy Contributes significantly to the economic Development of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6</a:t>
            </a:r>
            <a:r>
              <a:rPr b="0" lang="en-US" sz="1200" spc="-1" strike="noStrike" baseline="30000">
                <a:solidFill>
                  <a:srgbClr val="000000"/>
                </a:solidFill>
                <a:latin typeface="Arial"/>
              </a:rPr>
              <a:t>th</a:t>
            </a:r>
            <a:r>
              <a:rPr b="0" lang="en-US" sz="1200" spc="-1" strike="noStrike">
                <a:solidFill>
                  <a:srgbClr val="000000"/>
                </a:solidFill>
                <a:latin typeface="Arial"/>
              </a:rPr>
              <a:t> Development plan Kenya – 1.9 m jobs created out of which 587,000 – informal economy</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A8DC-3782-4169-AC26-2F770F06E18F}"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xperience specific disadvantages and problems that vary across national, rural and urb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is preferable to informal sector because the workers and enterprises in question do not fall within any one sector of economic activity but cut across many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informal economy tends to downplay the linkages, grey areas and interdependencies between formal and informal activities </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4FE5-8F4E-49B0-BDEE-180D466399C8}"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work needs to take into account the conceptual difficulties arising from this considerable diversity</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2E9A-8604-4E98-B8AF-829749CE5607}"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cation for protection of domestic workers- The contribution of domestic workers is well understood all have house helps some way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ter is now receiving international recognition and found expression in the discussions at the 99</a:t>
            </a:r>
            <a:r>
              <a:rPr b="0" lang="en-US" sz="1200" spc="-1" strike="noStrike" baseline="30000">
                <a:solidFill>
                  <a:srgbClr val="000000"/>
                </a:solidFill>
                <a:latin typeface="Arial"/>
              </a:rPr>
              <a:t>th</a:t>
            </a:r>
            <a:r>
              <a:rPr b="0" lang="en-US" sz="1200" spc="-1" strike="noStrike">
                <a:solidFill>
                  <a:srgbClr val="000000"/>
                </a:solidFill>
                <a:latin typeface="Arial"/>
              </a:rPr>
              <a:t> Session of the International Labour Conference of 2010</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EA49-CFED-47DD-8F07-F17B515EBC52}"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272B4-010C-4D4D-8A40-53E58A5D8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6AE8E-3293-466F-A12B-5AF3A02AC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5D368-F70A-43CC-8CCD-01697026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FB917-0E1E-4ECF-A19F-34DFC176A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9D4D9-C3CA-45D0-B01C-0A2969E72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240E6-454A-4E3D-851F-18D76B99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6953D-A15A-41B0-8999-3E5173CF7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15760-8DE4-44F4-8792-55810BA08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17A2E-663A-4B20-A9B1-B01CEBE9F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8BDD-5CBB-4317-A68A-DBF38F110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3930B-FFCE-4842-AA9D-F0D8B55E9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7249-2D2F-49A1-9221-1153A161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11057-D4C0-45AA-92ED-7C23EF2BA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FCEDE-0FFD-4C3B-9039-4EE90AC7D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AE7BA-28E9-4E3A-9F6B-83D15D14B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DA119-0BB5-422E-989F-F621005FC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0A864-8F17-4F5F-B3D4-F5587E0E7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5A2AD-0A39-4F71-9BFA-02A0379D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F07A-BA3F-4EF6-B653-EB2F7AF5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59EEC-90C7-4F03-BE50-47CD4483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A89B-64E1-4BF1-97B8-BFE2BE81A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DF3D-B32D-4D3D-9503-137014A3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6401-5E67-4060-9C23-20F7902C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6BE5-11AF-4977-9800-83FA98D55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64A3-614D-4D5A-A72A-E8D1A68AAF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7EDA-C622-4C07-A01D-3D364E4EA6EC}"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1771560"/>
            <a:ext cx="82090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333399"/>
                </a:solidFill>
                <a:latin typeface="Tahoma"/>
              </a:rPr>
              <a:t>SOCIAL SECURITY - KENYA</a:t>
            </a:r>
            <a:endParaRPr b="0" lang="en-US" sz="3200" spc="-1" strike="noStrike">
              <a:solidFill>
                <a:srgbClr val="333399"/>
              </a:solidFill>
              <a:latin typeface="Tahoma"/>
            </a:endParaRPr>
          </a:p>
        </p:txBody>
      </p:sp>
      <p:sp>
        <p:nvSpPr>
          <p:cNvPr id="107" name="PlaceHolder 2"/>
          <p:cNvSpPr>
            <a:spLocks noGrp="1"/>
          </p:cNvSpPr>
          <p:nvPr>
            <p:ph type="subTitle"/>
          </p:nvPr>
        </p:nvSpPr>
        <p:spPr>
          <a:xfrm>
            <a:off x="4427280" y="3644640"/>
            <a:ext cx="3816360" cy="771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ahoma"/>
              </a:rPr>
              <a:t>By Geoffrey A Omondi – DLC Ministry of Labour </a:t>
            </a:r>
            <a:endParaRPr b="0" lang="en-US" sz="3600" spc="-1" strike="noStrike">
              <a:solidFill>
                <a:srgbClr val="000000"/>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6"/>
                                        </p:tgtEl>
                                        <p:attrNameLst>
                                          <p:attrName>style.visibility</p:attrName>
                                        </p:attrNameLst>
                                      </p:cBhvr>
                                      <p:to>
                                        <p:strVal val="visible"/>
                                      </p:to>
                                    </p:set>
                                    <p:animEffect filter="wipe(left)"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7"/>
                                        </p:tgtEl>
                                        <p:attrNameLst>
                                          <p:attrName>style.visibility</p:attrName>
                                        </p:attrNameLst>
                                      </p:cBhvr>
                                      <p:to>
                                        <p:strVal val="visible"/>
                                      </p:to>
                                    </p:set>
                                    <p:animEffect filter="wipe(left)" transition="in">
                                      <p:cBhvr additive="repl">
                                        <p:cTn id="1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NOTICE NO. 159</a:t>
            </a:r>
            <a:endParaRPr b="0" lang="en-US" sz="36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19</a:t>
            </a:r>
            <a:r>
              <a:rPr b="0" lang="en-US" sz="2800" spc="-1" strike="noStrike" baseline="30000">
                <a:solidFill>
                  <a:srgbClr val="000000"/>
                </a:solidFill>
                <a:latin typeface="Tahoma"/>
              </a:rPr>
              <a:t>th</a:t>
            </a:r>
            <a:r>
              <a:rPr b="0" lang="en-US" sz="2800" spc="-1" strike="noStrike">
                <a:solidFill>
                  <a:srgbClr val="000000"/>
                </a:solidFill>
                <a:latin typeface="Tahoma"/>
              </a:rPr>
              <a:t> October 2009, the Minister for labour made a commencement order which require that employers of 1 – 4 employees registers with the NSSF</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is order, all employers with at least 1 employee to start remitting contributions to NSS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emergence of a international framework for the protection of domestic work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YABLE BENEFITS</a:t>
            </a:r>
            <a:endParaRPr b="0" lang="en-US" sz="36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fall in six (6) categor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ge / Retirement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ithdrawal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Invalidity Benefi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Emigration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Funeral Gra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Survivors Benefi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 RETIREMENT BENEFIT</a:t>
            </a:r>
            <a:endParaRPr b="0" lang="en-US" sz="36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the age of 55 years or when they ultimately retire from regular paid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DRAWAL BENEFIT</a:t>
            </a:r>
            <a:endParaRPr b="0" lang="en-US" sz="3600" spc="-1" strike="noStrike">
              <a:solidFill>
                <a:srgbClr val="333399"/>
              </a:solidFill>
              <a:latin typeface="Tahoma"/>
            </a:endParaRPr>
          </a:p>
        </p:txBody>
      </p:sp>
      <p:sp>
        <p:nvSpPr>
          <p:cNvPr id="13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are eligible for this benefit when they reach 50 years of age and have retired from regular paid employ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would opt to apply for this benefit (over the age / retirement benefit if they retire before attaining 55 years of a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VALIDITY BENEFIT</a:t>
            </a:r>
            <a:endParaRPr b="0" lang="en-US" sz="36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mber certified to be permanently incapable of working because of physical or medical disabilit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who are at least 50 years of age and suffer from partial incapacity of a permanent nature that prevents them from undertaking employmen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form be endorsed by a qualified doctor at the hospital / clinic atten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IGRANT GRANT</a:t>
            </a:r>
            <a:endParaRPr b="0" lang="en-US" sz="36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grant is paid to members who are permanently emigrating from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davit of permanent emigr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ust contain the phrase without intention of coming back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tizenship of country of res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UNERAL GRANT</a:t>
            </a:r>
            <a:endParaRPr b="0" lang="en-US" sz="3600" spc="-1" strike="noStrike">
              <a:solidFill>
                <a:srgbClr val="333399"/>
              </a:solidFill>
              <a:latin typeface="Tahoma"/>
            </a:endParaRPr>
          </a:p>
        </p:txBody>
      </p:sp>
      <p:sp>
        <p:nvSpPr>
          <p:cNvPr id="13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rant is payable to a dependant of a deceased memb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ependant must be nominated by the family and must be identified by local administ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RVIVORS BENEFIT</a:t>
            </a:r>
            <a:endParaRPr b="0" lang="en-US" sz="36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enefit is payable to the survivor(s) dependants (s) relatives of a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ependant relatives qualify for this benefit in the following order :</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usband / wife of deceased member</a:t>
            </a:r>
            <a:endParaRPr b="0" lang="en-US" sz="2800" spc="-1" strike="noStrike">
              <a:solidFill>
                <a:srgbClr val="000000"/>
              </a:solidFill>
              <a:latin typeface="Tahoma"/>
            </a:endParaRPr>
          </a:p>
          <a:p>
            <a:pPr marL="332640" indent="-332640">
              <a:spcBef>
                <a:spcPts val="700"/>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hildren irrespective of age or gender (if the husband / wife of deceased member is also deceased, or if the deceased memb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a single parent) children who are minor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paid through bank accounts or</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ed guardians</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parents of the deceased ( if the deceased member was not married and had no children)</a:t>
            </a:r>
            <a:endParaRPr b="0" lang="en-US" sz="2800" spc="-1" strike="noStrike">
              <a:solidFill>
                <a:srgbClr val="000000"/>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isters / brothers of deceased (if the deceased was single, had no children and both parents are dece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he guardian to the children of the deceased member ( where both parents are deceased and all the deceased members' children are minor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cant who has letters of administr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ll dependants are exhaus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BASIS FOR SOCIAL PROTECTION</a:t>
            </a:r>
            <a:endParaRPr b="0" lang="en-US" sz="36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ILO standards in Social Security – Recommendation no. 67  and 69 of 1944</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Minimum standards) Convention 1952 no. 102</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LO Constitution and Declaration of Philadelphi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versal Declaration of Human Rights</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stitution of Kenya</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Legislation – Cap 258 Laws of Keny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UR &amp; INDUSTRIAL RELATIONSS</a:t>
            </a:r>
            <a:endParaRPr b="0" lang="en-US" sz="3600" spc="-1" strike="noStrike">
              <a:solidFill>
                <a:srgbClr val="333399"/>
              </a:solidFill>
              <a:latin typeface="Tahoma"/>
            </a:endParaRPr>
          </a:p>
        </p:txBody>
      </p:sp>
      <p:sp>
        <p:nvSpPr>
          <p:cNvPr id="145"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ment and underemployment remain a major challenge in Kenya</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 total employment  statistics in formal Sector</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ment in the informal econom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Population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young people with no special skill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t 2007, employment by sector was as follow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BY SECTOR</a:t>
            </a:r>
            <a:endParaRPr b="0" lang="en-US" sz="36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 – 7.5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sector – 0.26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sector – 0.34 mill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formal sector remains major employer creating over 426,000 jobs annually which account for over 89 % of all new job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tor is however characterized by low productivity, skills shortage and low w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ORMAL ECONOMY</a:t>
            </a:r>
            <a:endParaRPr b="0" lang="en-US" sz="36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universally accurate or accepted description or definition of the term 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however a broad understanding that the term accommodates considerable diversity in terms of workers, enterprises and entrepreneurs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CONOMIC ACTIVITIES</a:t>
            </a:r>
            <a:endParaRPr b="0" lang="en-US" sz="3600" spc="-1" strike="noStrike">
              <a:solidFill>
                <a:srgbClr val="333399"/>
              </a:solidFill>
              <a:latin typeface="Tahoma"/>
            </a:endParaRPr>
          </a:p>
        </p:txBody>
      </p:sp>
      <p:sp>
        <p:nvSpPr>
          <p:cNvPr id="151" name=""/>
          <p:cNvSpPr txBox="1"/>
          <p:nvPr/>
        </p:nvSpPr>
        <p:spPr>
          <a:xfrm>
            <a:off x="1182600" y="2017800"/>
            <a:ext cx="777240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fers to all activities by workers and economic units that are in law or practice not covered or insufficiently covered by formal arrangements</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activities are not included in law which means they are operating outside formal reach of law or is not applied or not enforced or the law discourages compliance because it is inappropriate, burdensome or imposes excessive cos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 OF WORKERS HERE</a:t>
            </a:r>
            <a:endParaRPr b="0" lang="en-US" sz="3600" spc="-1" strike="noStrike">
              <a:solidFill>
                <a:srgbClr val="333399"/>
              </a:solidFill>
              <a:latin typeface="Tahoma"/>
            </a:endParaRPr>
          </a:p>
        </p:txBody>
      </p:sp>
      <p:sp>
        <p:nvSpPr>
          <p:cNvPr id="15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include both wage worker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 account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wn account workers are as insecure and vulnerable as wage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rom one situation to the 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y both lack protection rights and lack representation, these workers often remain trapped in pover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LUSION IN COVERAGE</a:t>
            </a:r>
            <a:endParaRPr b="0" lang="en-US" sz="36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es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icial neglig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al of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SF for long covered only formal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 70 % of total employment is excluded from public social secur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MAIN SCHEMES</a:t>
            </a:r>
            <a:endParaRPr b="0" lang="en-US" sz="36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NSSF) which is a provident Fund model designed to cater for social protection upon retir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Hospital Insurance Fund (NHIF) catering for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 Voluntar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 Pension Schem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 Private Provident Funds and 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MITED COVERAGE</a:t>
            </a:r>
            <a:endParaRPr b="0" lang="en-US" sz="3600" spc="-1" strike="noStrike">
              <a:solidFill>
                <a:srgbClr val="333399"/>
              </a:solidFill>
              <a:latin typeface="Tahoma"/>
            </a:endParaRPr>
          </a:p>
        </p:txBody>
      </p:sp>
      <p:sp>
        <p:nvSpPr>
          <p:cNvPr id="15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ons to both NSSF  &amp; NHIF though mandatory for workers in both public and private sector is limited (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ong covered employers with five employees and abo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extended to domestic workers and other in informal econom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unt of benefits lo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CHALLENGES</a:t>
            </a:r>
            <a:endParaRPr b="0" lang="en-US" sz="3600" spc="-1" strike="noStrike">
              <a:solidFill>
                <a:srgbClr val="333399"/>
              </a:solidFill>
              <a:latin typeface="Tahoma"/>
            </a:endParaRPr>
          </a:p>
        </p:txBody>
      </p:sp>
      <p:sp>
        <p:nvSpPr>
          <p:cNvPr id="161"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mp; Families are not covered – lack of contributory scope / capacit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not granted or paid to elderly, survivors or disabled</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 numbers particularly elderly must continue to work often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wages in informal economy</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stance – women and youth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ance issues </a:t>
            </a:r>
            <a:endParaRPr b="0" lang="en-US" sz="2800" spc="-1" strike="noStrike">
              <a:solidFill>
                <a:srgbClr val="000000"/>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REALITIES ON GROUND</a:t>
            </a:r>
            <a:endParaRPr b="0" lang="en-US" sz="3600" spc="-1" strike="noStrike">
              <a:solidFill>
                <a:srgbClr val="333399"/>
              </a:solidFill>
              <a:latin typeface="Tahoma"/>
            </a:endParaRPr>
          </a:p>
        </p:txBody>
      </p:sp>
      <p:sp>
        <p:nvSpPr>
          <p:cNvPr id="16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and financial crises have presented challenges in formulation and implementation of the policies in support of Social prote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 much debate on technical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hare national inc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bears the risk burd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IONAL SECURITY FUND (NSSF) ORIGIN IN KENYA</a:t>
            </a:r>
            <a:endParaRPr b="0" lang="en-US" sz="36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ional social Security Fund was established in 1965 through an Act of Parlia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pter 258 of the Laws of Keny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nd initially operated as a Division under the Department of Labour in the Ministry of Lab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MENT PATTERNS</a:t>
            </a:r>
            <a:endParaRPr b="0" lang="en-US" sz="3600" spc="-1" strike="noStrike">
              <a:solidFill>
                <a:srgbClr val="333399"/>
              </a:solidFill>
              <a:latin typeface="Tahoma"/>
            </a:endParaRPr>
          </a:p>
        </p:txBody>
      </p:sp>
      <p:sp>
        <p:nvSpPr>
          <p:cNvPr id="16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sec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 contr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 and subcontr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e working all present major challe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SIC SOCIAL PROTECTION FLOOR</a:t>
            </a:r>
            <a:endParaRPr b="0" lang="en-US" sz="36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become important for the country to have an enhanced and well structured social security system – having a basic social security Floor with minimum set of Social Security benefits for all covering access to basic health care, income security, child benefits, unemployment benefits and maternity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MESTIC WORKERS</a:t>
            </a:r>
            <a:endParaRPr b="0" lang="en-US" sz="36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 in households, suffer imbalance of power relation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frequent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working hours, low wages and absence of Social Security, health car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eisure time, physically and sexually abuse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trade union representation and poor social statu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Y NEED TO WIDEN COVERAGE</a:t>
            </a:r>
            <a:endParaRPr b="0" lang="en-US" sz="3600" spc="-1" strike="noStrike">
              <a:solidFill>
                <a:srgbClr val="333399"/>
              </a:solidFill>
              <a:latin typeface="Tahoma"/>
            </a:endParaRPr>
          </a:p>
        </p:txBody>
      </p:sp>
      <p:sp>
        <p:nvSpPr>
          <p:cNvPr id="171"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Security or social protection is needed to provide resource allocation in an econom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ecessary for provision for old age, disability, accidents and sickness as well as safety nets and social assistance programmes to ameliorate the impact of adverse shocks particularly on the po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prevent child labour, malnutrition and school drop ou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VERNMENT INTERVENTIONS</a:t>
            </a:r>
            <a:endParaRPr b="0" lang="en-US" sz="3600" spc="-1" strike="noStrike">
              <a:solidFill>
                <a:srgbClr val="333399"/>
              </a:solidFill>
              <a:latin typeface="Tahoma"/>
            </a:endParaRPr>
          </a:p>
        </p:txBody>
      </p:sp>
      <p:sp>
        <p:nvSpPr>
          <p:cNvPr id="173"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improve situation in social security Government is reviewing NSSF Act to convert it from a provident Fund to a pension scheme and expand coverage to provide for requirement of people in the informal and other sector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flexible contributions to allow more contributors to social security scheme and non contributory schemes such as social assistance programmes to assist poor &amp; vulnerable group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MEASURES</a:t>
            </a:r>
            <a:endParaRPr b="0" lang="en-US" sz="36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ing possibility of Social Security Fund lending money to employees and employers for development purposes and especially for housing projects for their wor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HER INITIATIVES</a:t>
            </a:r>
            <a:endParaRPr b="0" lang="en-US" sz="36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employment to assist widen coverage such a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zi kwa vijana (KKV)</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Youth Enterprise Developmen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Enterprise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ty Development Trust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 -Rep  Development Age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nya Youth Business Tru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ON</a:t>
            </a:r>
            <a:endParaRPr b="0" lang="en-US" sz="36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7, the NSSF Act was amended transforming the Fund into a state Corporation under the Management of a Board of Trus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 OF TRUSTEES</a:t>
            </a:r>
            <a:endParaRPr b="0" lang="en-US" sz="36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its membership drawn fr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T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K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Lab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SSF CORE FUNCTIONS</a:t>
            </a:r>
            <a:endParaRPr b="0" lang="en-US" sz="36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ers memb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s Funds of the Sche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pays out benefits to eligible members or depend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RIBUTIONS</a:t>
            </a:r>
            <a:endParaRPr b="0" lang="en-US" sz="3600" spc="-1" strike="noStrike">
              <a:solidFill>
                <a:srgbClr val="333399"/>
              </a:solidFill>
              <a:latin typeface="Tahoma"/>
            </a:endParaRPr>
          </a:p>
        </p:txBody>
      </p:sp>
      <p:sp>
        <p:nvSpPr>
          <p:cNvPr id="119"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are made and received from workers who are memb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contribu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wor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now is on all including those in the informal econom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GISTRATION</a:t>
            </a:r>
            <a:endParaRPr b="0" lang="en-US" sz="3600" spc="-1" strike="noStrike">
              <a:solidFill>
                <a:srgbClr val="333399"/>
              </a:solidFill>
              <a:latin typeface="Tahoma"/>
            </a:endParaRPr>
          </a:p>
        </p:txBody>
      </p:sp>
      <p:sp>
        <p:nvSpPr>
          <p:cNvPr id="121"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Kenyan above 18 years can register with the NSSF</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at is required is production of an Identification Card (I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mployed, production of an introduction letter from employ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contribution to same account in event of change of employ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UNDERWAY</a:t>
            </a:r>
            <a:endParaRPr b="0" lang="en-US" sz="36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are underway to further amend the NSSF Act in order to convert the Fund into a mandatory National Social Insurance Pension Scheme to which every Kenyan with income shall contribute a percentage of their gross earnings to guarantee basic compensation in case of permanent disability, basic assistance to needy dependants in case of death and monthly life pension upon retir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09:47:51Z</dcterms:created>
  <dc:creator>ilo</dc:creator>
  <dc:description/>
  <dc:language>en-US</dc:language>
  <cp:lastModifiedBy> </cp:lastModifiedBy>
  <dcterms:modified xsi:type="dcterms:W3CDTF">2011-03-10T05:41:47Z</dcterms:modified>
  <cp:revision>79</cp:revision>
  <dc:subject/>
  <dc:title>Working out of Poverty</dc:title>
</cp:coreProperties>
</file>