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9492-67BA-44B1-A676-DAC16CCE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0f51"/>
                </a:solidFill>
                <a:latin typeface="Tahoma"/>
              </a:rPr>
              <a:t>WIEGOand Senior Research AssociateSchool of Development StudiesUniversity of KwaZulu-Natal4041 D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social security system remains fragmented, institutionally weak and unevenly regulated; there exist considerable disparities in social security coverage– by location (urban/rural), gender and employment status; coverage is particularly low among women workers and those in the rural a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Mapping and Analysis - legislation, national/local govt domain, who controls the physical environment where informal workers are active, training institutions and curricula, platforms/forums for involvement of informal workers in discussions of work conditions and work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stat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of the workforce is in the informal sector - they exist everywhere, in every sector and in every profession - for some it is their primary earning, for others informal work supplements their earnings from their formal job. Micro-traders are the largest group of informal opera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1 – this new expanded definition of the “informal economy” or “informal employment” has been endorsed by the 2002 International Labour Conference and the 2003 International Conference of Labour Statist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# 2 – the international definition of the “informal sector” that was adopted by the 1993 International Conference of Labour Statisticians included only those who work in informal enterprises (shown in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bo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minantly women &amp; youth : high poverty risk, low earnings - base of the pyra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E5FA-31EC-4C5E-B73C-C043EB6DB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engaged in the informal econo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cky entrepreneurs” – to borrow Hernando de Soto’s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poor – as depicted i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working Ghanaians &gt;15 yrs, ….% of working Tanzanians over 15 yrs are employed infor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forms should be done through dialogues and nego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ps = large and growing share of self-employment, especially own accou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5F7-FF74-427F-B2BD-CBCE6751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FAF-A249-4AA2-9C10-FF27B602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EC6-2723-4704-991D-B4AEF04B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01E-8A87-4A44-98B2-8464D80D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EBA2-FCDE-4224-A84F-5FB09633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22D4-5A86-42D1-96EB-341F9C08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9B36-8023-453F-A5F7-7D8F2C8F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5F86-7CA8-44EA-A4A5-D07AF9DF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158F-94CD-4DA0-83BB-D3F24FB3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8987-865E-4762-B6BE-7871FDBD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A43B-6512-4060-912D-F10BA1B9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558-C2F5-48F4-86D0-2150DCA0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1D2-F0D7-46E2-94EB-71AE90B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5D8C-D1FA-4915-970B-9DD1256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B94F-DD33-481D-82EC-791E3585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9211-9A10-4473-80AB-6B1AB52D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8C33-E5B3-4BF5-8A69-20991E94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357-74FA-4233-95A0-ECF35C2C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0C5-56E7-4A6A-8BFB-6DB4879F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1B2-9F8B-40B0-BB16-775A171C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D58-C34C-4779-B1B1-6F3C19CA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695-C94D-431B-904C-66A2DB7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56D-1F2D-4FF9-8C44-029757B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03B-446E-4202-BCDF-95ED969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92DC-4A10-4BDE-B030-1B1B4EB853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3B6E-E3FF-4E91-8F51-249E7D67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ego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94F3-5C62-47CF-A634-6FFE3FB92D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Protection in Af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Experiences on the Informal Econom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&amp; AU Commission Capacity Building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1 March 2011, Nairobi, Keny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uma Mamdani, Senior Researcher, Ifakara Health Institute, Tanz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e Lund, WIEGO (SP-OHS Programme Director) and Senior Research Associate, Univ. of KwaZulu, Durban, 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usiness_card"/>
          <p:cNvPicPr/>
          <p:nvPr/>
        </p:nvPicPr>
        <p:blipFill>
          <a:blip r:embed="rId1"/>
          <a:stretch/>
        </p:blipFill>
        <p:spPr>
          <a:xfrm>
            <a:off x="3603600" y="274680"/>
            <a:ext cx="19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cial Protection: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poor who work informal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rious &amp; high risk expo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no social security co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tect against short term risks or life-time contin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fford private insurance, have </a:t>
            </a:r>
            <a:r>
              <a:rPr b="1" lang="en-US" sz="2000" spc="-1" strike="noStrike">
                <a:solidFill>
                  <a:srgbClr val="ce2450"/>
                </a:solidFill>
                <a:latin typeface="Arial"/>
              </a:rPr>
              <a:t>little access to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er people </a:t>
            </a:r>
            <a:r>
              <a:rPr b="1" lang="en-US" sz="2200" spc="-1" strike="noStrike">
                <a:solidFill>
                  <a:srgbClr val="ce2450"/>
                </a:solidFill>
                <a:latin typeface="Arial"/>
              </a:rPr>
              <a:t>live and work in poor commun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 it is hard to insure agains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veloping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insurance do not target informal workers, wage employed or self-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ystems of social assistance for poorer and vulnerable people do not target able bodied people of working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Domestic wo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ial for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tegrating into existing labour policy and legis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ine with ‘extend social protection’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858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Street and marke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ational government)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service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risk AND increase productivity AND protect both informal workers and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TRATEGIES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450"/>
                </a:solidFill>
                <a:latin typeface="Arial"/>
              </a:rPr>
              <a:t>Industrial out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infrastructural deli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employer/ owner-of-capital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lude private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social protection for informal workers in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trade agreements/ codes of con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450"/>
                </a:solidFill>
                <a:latin typeface="Arial"/>
              </a:rPr>
              <a:t>Waste-pick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 with municipalities/private sector for provision of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safety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duction of hazards at the plac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ccess for workers to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  <a:ea typeface="Times New Roman"/>
              </a:rPr>
              <a:t>local government/private sector social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ealth services and health insurance, training courses, educational burs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FOR INFORMA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-think OHS as a mo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clusive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different types of informal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titutional re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necessary – at national and local government level - to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eac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l workers be </a:t>
            </a:r>
            <a:r>
              <a:rPr b="1" lang="en-US" sz="2400" spc="-1" strike="noStrike" u="sng">
                <a:solidFill>
                  <a:srgbClr val="ce2450"/>
                </a:solidFill>
                <a:uFillTx/>
                <a:latin typeface="Arial"/>
              </a:rPr>
              <a:t>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clusive and sustainable platforms for negotiation and policy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S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, Tan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medabad and P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in Americ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groups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cat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bas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recycling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estic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eed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Understanding th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l economy in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mapping and analysis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Participatory research on risks and hazards with 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discussions, mobility mapping, time and motion studies, household/ enterprise interviews, photography, health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FF2E-598C-4BA3-818E-4975117FE9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ZANIA MAINLAND: DATA ON OCCUPA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data - hugely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der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workers covered by the system - those largely working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ound a tenth of workplaces are regist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Environmental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ide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especially in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formal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majority of the work force is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 - ofte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OH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main vulnerable to occupational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: OPPORTUNITIES FOR IMPROVED STATISTICS ON OCCUPATIONAL INJURY AND DISEASE FOR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ening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 routine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district/counci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(and nested) questions in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eriodic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BS, LFS, DHS, census) at national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going data collection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rengthening the r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Municipalities or Counc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ocal Government (LG)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anagement and implementation of O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mproved statistics =&gt; improved understanding of OHS complexity =&gt;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ZANIA SOCIAL PROTE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tective laws, policies, programmes &amp;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ing multiple state and non-state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ttered, ill-coordinated and the general impact of these has been lim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t is therefore not just about building new systems and new programmes. It is also about assessing the effectiveness or rather weaknesses of existing systems and program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: POOR OPERATORS LACK INCENTIVE TO MAINTAIN CLEAN WORK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Caterers Association, Accra: survey of 20 chop bars (informal eating establish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operators on average spent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around US$ 1,142 ann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ater, refuse removal, use of toilets, cleaning equipment, employee health certificates &amp; fire figh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ow to make OHS more affordable for informal busin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global research and advocacy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ing in some 40 countries, promoting and advancing the interests of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er informal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pecially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work i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member-based organisations (MBOs),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works with, builds &amp; strengt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tworks of informal worker organisations (MB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MBOs and informal workers </a:t>
            </a: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visibility, voice, and validity 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EC8E-BCDD-42E9-BEA1-1D2DC9C9A2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ANA &amp; TANZANIA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PROBLEMS OF 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horizontal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ocal government departments that have jurisdiction over various aspects of health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Not enough fit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LG and national gov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Lack of institutionalised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LG and informal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Poor dissemination of public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aws, policies, regulations, by-law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Insufficient reg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ivati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TIONS: PREVENTION OF RISKS, IMPROVING WORK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health screen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orbidity an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ototypes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rov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</a:t>
            </a: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w/ modifi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2450"/>
                </a:solidFill>
                <a:latin typeface="Arial"/>
              </a:rPr>
              <a:t>Exchanging good pract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countries; and between national, regional and international organisations &amp; networks of inform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en in Informal Employ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izing and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2428920"/>
            <a:ext cx="8305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eg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th OHS micr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nclusivecitie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757B-D333-4913-A39C-452B7FF939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ocial Protection, Urban Policies, Global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 content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Statistics Pr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damental to greater visibility and recognition, changed the way labour force data is collected in many countries, inc. 14 Af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Arial"/>
              </a:rPr>
              <a:t>Organization &amp;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vocacy wing in direct contact with ‘worker org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&amp;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shops, policy dialogue, regional meetings, papers, articles, development and dissemination of accessible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ED DEFINI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FORMAL ECONOMY (IE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E - the diversified set of economic activities, enterprises, and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worker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hat are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not</a:t>
            </a:r>
            <a:r>
              <a:rPr b="0" lang="en-GB" sz="1600" spc="-1" strike="noStrike">
                <a:solidFill>
                  <a:srgbClr val="ce245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ulated or </a:t>
            </a:r>
            <a:r>
              <a:rPr b="0" i="1" lang="en-GB" sz="1600" spc="-1" strike="noStrike">
                <a:solidFill>
                  <a:srgbClr val="ce2450"/>
                </a:solidFill>
                <a:latin typeface="Times New Roman"/>
              </a:rPr>
              <a:t>protec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y the st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 (or informal employment) includ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e2450"/>
                </a:solidFill>
                <a:latin typeface="Times New Roman"/>
              </a:rPr>
              <a:t>Self-employment in informal enterpris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 account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paid contributing family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80000"/>
              </a:lnSpc>
              <a:spcBef>
                <a:spcPts val="400"/>
              </a:spcBef>
              <a:buClr>
                <a:srgbClr val="ce245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ce2450"/>
                </a:solidFill>
                <a:latin typeface="Times New Roman"/>
              </a:rPr>
              <a:t>Wage employment in informal job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in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n-standard employees of formal 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sual or day labou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dustrial outworkers (also called homework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Italic"/>
              </a:rPr>
              <a:t>IE</a:t>
            </a:r>
            <a:r>
              <a:rPr b="1" lang="en-US" sz="2000" spc="-1" strike="noStrike">
                <a:solidFill>
                  <a:srgbClr val="ce2450"/>
                </a:solidFill>
                <a:latin typeface="Arial Italic"/>
              </a:rPr>
              <a:t>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inside</a:t>
            </a:r>
            <a:r>
              <a:rPr b="0" i="1" lang="en-US" sz="2000" spc="-1" strike="noStrike">
                <a:solidFill>
                  <a:srgbClr val="000000"/>
                </a:solidFill>
                <a:latin typeface="Arial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and </a:t>
            </a:r>
            <a:r>
              <a:rPr b="1" i="1" lang="en-US" sz="2000" spc="-1" strike="noStrike">
                <a:solidFill>
                  <a:srgbClr val="ce2450"/>
                </a:solidFill>
                <a:latin typeface="Arial Italic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 informal enterprises (whether carried out for formal sector enterprises or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EGO promoted this expanded definition in collaboration with the ILO and the International Expert Group on Informal Sector Statistics (the Delhi Group): it was endorsed by the International Conference of Labour Statisticians (ICLS) in 200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ED LABOR MARKETS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we mean by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exist which prevent individuals from moving into better employment opportunities (or improving the quality of existing em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causes ‘segmentation’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, social norms, unequal wealth/assets, unpaid care responsibilities, lack of credit, lack of public goods/servic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‘segmentation’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forces existing patterns of poverty and soci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equity: gender, racial, caste seg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of basic rights and the choices available t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245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2450"/>
                </a:solidFill>
                <a:latin typeface="Times New Roman"/>
              </a:rPr>
              <a:t>In summary: a social justi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240" y="11430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14400" y="22860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GMENTATION OF THE INFORMAL ECONOMY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Y SEX, AVERAGE EARNINGS, AND POVERTY RISK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POOR IN THE INFORMAL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6172200" y="1143000"/>
          <a:ext cx="25146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143000"/>
                    <a:ext cx="25146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457200" y="5105520"/>
          <a:ext cx="2514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105520"/>
                    <a:ext cx="2514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4"/>
          <p:cNvGraphicFramePr/>
          <p:nvPr/>
        </p:nvGraphicFramePr>
        <p:xfrm>
          <a:off x="6172200" y="3276720"/>
          <a:ext cx="25909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276720"/>
                    <a:ext cx="25909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3200400" y="121932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Unregulated Factories: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Small Worksho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rap metal recyclers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av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makers and 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-bag ma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Streets or In Open Spa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ee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sh-cart vend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bage collecto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ide barb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uction work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Fields, Pastures, and Fores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arm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ricultural labou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pher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st gath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ment wor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broider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emaker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ans or craft produce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ers of electronic part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457200" y="3200400"/>
          <a:ext cx="243828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200400"/>
                    <a:ext cx="24382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457200" y="1219320"/>
          <a:ext cx="2438280" cy="18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219320"/>
                    <a:ext cx="2438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6172200" y="5181480"/>
          <a:ext cx="266688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181480"/>
                    <a:ext cx="266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LOYMENT, INFORMALITY, POVERTY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- the most important way in which the benefits of growth can be sh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world’s poor – especially in developing countries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rather than formal employment is on the 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the working poor – those who earn less than US$ 1 per day - earn their living in the informal economy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earnings are 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ar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Poverty reduction is not possible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formal employment opportun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ce245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Increasing the assets and earning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2450"/>
                </a:solidFill>
                <a:latin typeface="Arial"/>
                <a:ea typeface="Arial"/>
              </a:rPr>
              <a:t>reducing the risks of those who work in the informal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AND INSTITUTIONAL REFORM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THROUGH DIALOGUE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artite dialogue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volving multiple relevant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e.g.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Fair Trade and Ethical T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ce2450"/>
                </a:solidFill>
                <a:latin typeface="Times New Roman"/>
              </a:rPr>
              <a:t>Global Comp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partite refor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24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2450"/>
                </a:solidFill>
                <a:latin typeface="Times New Roman"/>
              </a:rPr>
              <a:t>Process should involve all relevant key 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government (national &amp; local), private sector, civil society (trade unions + MBOs of working poor + NGOs working on labor and employment issues, employer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0:03:53Z</dcterms:created>
  <dc:creator>user</dc:creator>
  <dc:description/>
  <dc:language>en-US</dc:language>
  <cp:lastModifiedBy>user</cp:lastModifiedBy>
  <dcterms:modified xsi:type="dcterms:W3CDTF">2011-03-09T12:18:44Z</dcterms:modified>
  <cp:revision>26</cp:revision>
  <dc:subject/>
  <dc:title>PowerPoint Presentation</dc:title>
</cp:coreProperties>
</file>