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94E3C3-DA07-4983-AE66-A64BDCE9E1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AE7E4-5F1A-4ECC-80DE-AADF42908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302840-B308-4EAF-8544-D846C2D63E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FC6179-AA79-4DD9-9697-CFE6530E52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C7642C-E6E0-4CD4-A6F7-11E9262D298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70745A-2571-4532-A630-5C8EC5E95AE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192086-B540-4AE1-81D9-58068422CE9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45A9EE-B1F1-4E7E-A2FF-51DABC19CF9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07EF6C-472A-4F7B-AB8A-263F9877733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75F72C-955B-4F01-BF07-8236DA0057D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858143-81C3-425A-B86C-60D2DA10979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1DF0E-E50E-4BD9-8650-FA1BDFA1B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6F17BC-A7A4-4889-9283-6ED8CEA4A55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3FC6F8-1B00-4B28-89A5-E8F5BF8E358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93B071-C876-4776-A1B9-F030CBE3369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E86612B-EA28-4E6D-A2B0-B547003CBAF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CE23A4-70B4-435D-BA1A-612A4517627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844B7-91B6-4C91-84B4-99BFE03D4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79163-163A-4C80-9BAD-52CB48B27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6EF98-2728-4ADC-83D4-C8A7F9A9A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71717-3598-432F-802B-0B1DA44CB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66F73-6D70-4428-A8D7-87DD9C393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9730E-8C40-410E-B1BA-98176DD9E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66A35-B516-4B8D-9E65-9D6DADD38C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F5A378C2-C1CF-468B-8748-00D873784CA9}" type="datetime11">
              <a:rPr b="0" lang="en-US" sz="1400" spc="-1" strike="noStrike">
                <a:solidFill>
                  <a:srgbClr val="ffffff"/>
                </a:solidFill>
                <a:latin typeface="Times New Roman"/>
              </a:rPr>
              <a:t>17:50:44</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DD6F1-2DD6-47FC-B7AC-2BD6AA9B7D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0D8C4-6667-4A01-A1C3-BAA594DDBD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9B4B3D2B-1190-4E35-B118-DC43AEF3EF74}" type="datetime11">
              <a:rPr b="0" lang="en-US" sz="1400" spc="-1" strike="noStrike">
                <a:solidFill>
                  <a:srgbClr val="ffffff"/>
                </a:solidFill>
                <a:latin typeface="Times New Roman"/>
              </a:rPr>
              <a:t>17:50:45</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33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33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aoswalim.org/"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58560" y="3068280"/>
            <a:ext cx="6697800" cy="2521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rebuchet MS"/>
              </a:rPr>
              <a:t>WATER &amp; SANITATION</a:t>
            </a:r>
            <a:br>
              <a:rPr sz="4400"/>
            </a:br>
            <a:br>
              <a:rPr sz="4400"/>
            </a:br>
            <a:r>
              <a:rPr b="0" lang="en-US" sz="4400" spc="-1" strike="noStrike">
                <a:solidFill>
                  <a:srgbClr val="000066"/>
                </a:solidFill>
                <a:latin typeface="Trebuchet MS"/>
              </a:rPr>
              <a:t>    </a:t>
            </a:r>
            <a:r>
              <a:rPr b="0" lang="en-US" sz="4000" spc="-1" strike="noStrike">
                <a:solidFill>
                  <a:srgbClr val="000066"/>
                </a:solidFill>
                <a:latin typeface="Trebuchet MS"/>
              </a:rPr>
              <a:t>The EC Experience in Somalia &amp; Lessons Learnt</a:t>
            </a:r>
            <a:br>
              <a:rPr sz="4000"/>
            </a:br>
            <a:r>
              <a:rPr b="0" lang="en-US" sz="1700" spc="-1" strike="noStrike">
                <a:solidFill>
                  <a:srgbClr val="000066"/>
                </a:solidFill>
                <a:latin typeface="Trebuchet MS"/>
              </a:rPr>
              <a:t> </a:t>
            </a:r>
            <a:br>
              <a:rPr sz="1700"/>
            </a:br>
            <a:br>
              <a:rPr sz="1700"/>
            </a:br>
            <a:endParaRPr b="0" lang="en-US" sz="1700" spc="-1" strike="noStrike">
              <a:solidFill>
                <a:srgbClr val="ffffff"/>
              </a:solidFill>
              <a:latin typeface="Tahoma"/>
            </a:endParaRPr>
          </a:p>
        </p:txBody>
      </p:sp>
      <p:sp>
        <p:nvSpPr>
          <p:cNvPr id="84" name="PlaceHolder 2"/>
          <p:cNvSpPr>
            <a:spLocks noGrp="1"/>
          </p:cNvSpPr>
          <p:nvPr>
            <p:ph type="subTitle"/>
          </p:nvPr>
        </p:nvSpPr>
        <p:spPr>
          <a:xfrm>
            <a:off x="4500360" y="5949720"/>
            <a:ext cx="4103640" cy="5317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Tahoma"/>
              </a:rPr>
              <a:t>EU Somalia Operations Unit   October 2010</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2</a:t>
            </a:r>
            <a:endParaRPr b="0" lang="en-US" sz="4400" spc="-1" strike="noStrike">
              <a:solidFill>
                <a:srgbClr val="ffffff"/>
              </a:solidFill>
              <a:latin typeface="Tahoma"/>
            </a:endParaRPr>
          </a:p>
        </p:txBody>
      </p:sp>
      <p:sp>
        <p:nvSpPr>
          <p:cNvPr id="102"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0000"/>
          </a:bodyPr>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ater safe at the point of collection may be not so at the point of consumption due to re-contamination during transport, storage and handling.</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Promotion of safe drinking water through simple, acceptable, affordable and effective domestic water treatment methods at household level is therefore important.</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Use of </a:t>
            </a:r>
            <a:r>
              <a:rPr b="0" i="1" lang="en-GB" sz="2400" spc="-1" strike="noStrike">
                <a:solidFill>
                  <a:srgbClr val="000066"/>
                </a:solidFill>
                <a:latin typeface="Trebuchet MS"/>
              </a:rPr>
              <a:t>appropriate</a:t>
            </a:r>
            <a:r>
              <a:rPr b="0" lang="en-GB" sz="2400" spc="-1" strike="noStrike">
                <a:solidFill>
                  <a:srgbClr val="000066"/>
                </a:solidFill>
                <a:latin typeface="Trebuchet MS"/>
              </a:rPr>
              <a:t> methods of improving water quality such as cloth filtration, boiling, filtration should be considered. </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production and use a ceramic filters have been very promising activity.</a:t>
            </a:r>
            <a:endParaRPr b="0" lang="en-US" sz="2400" spc="-1" strike="noStrike">
              <a:solidFill>
                <a:srgbClr val="ffffff"/>
              </a:solidFill>
              <a:latin typeface="Tahoma"/>
            </a:endParaRPr>
          </a:p>
          <a:p>
            <a:pPr marL="308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3F80C485-9DCB-4EA4-B312-9E4461BE26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5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3</a:t>
            </a:r>
            <a:endParaRPr b="0" lang="en-US" sz="4400" spc="-1" strike="noStrike">
              <a:solidFill>
                <a:srgbClr val="ffffff"/>
              </a:solidFill>
              <a:latin typeface="Tahoma"/>
            </a:endParaRPr>
          </a:p>
        </p:txBody>
      </p:sp>
      <p:sp>
        <p:nvSpPr>
          <p:cNvPr id="104"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hanging traditional behavior on hygiene &amp; sanitation is a long &amp; sustained effort which may take genera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Although many latrines exist in the most populated areas, many communities are still unaware of their benefits and many of them are not in use.</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Nomadic communities are clearly reluctant to use latrin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ost people do not use soap for washing, are not aware of the danger posed by children's stool, do not purify water, do not regularly wash before preparing food or changing baby's nappies etc. </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E77CE6AA-855F-4E37-A3CD-99B31AF2DF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Working in conflict &amp; post-conflict environment</a:t>
            </a:r>
            <a:endParaRPr b="0" lang="en-US" sz="40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Flexibility in the design, management and implementation of development activities is crucial in conflict / post-conflict countries. </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Provision of moving activities from insecure to secure areas should be embedded in the design &amp; organization (Peace and governance dividend)</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spite challenges &amp; high costs remote management has proved to be feasible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F1612F06-CE41-4DD6-9355-1D80CD8707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291600"/>
            <a:ext cx="878544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1</a:t>
            </a:r>
            <a:endParaRPr b="0" lang="en-US" sz="4000" spc="-1" strike="noStrike">
              <a:solidFill>
                <a:srgbClr val="ffffff"/>
              </a:solidFill>
              <a:latin typeface="Tahoma"/>
            </a:endParaRPr>
          </a:p>
        </p:txBody>
      </p:sp>
      <p:sp>
        <p:nvSpPr>
          <p:cNvPr id="108" name="PlaceHolder 2"/>
          <p:cNvSpPr>
            <a:spLocks noGrp="1"/>
          </p:cNvSpPr>
          <p:nvPr>
            <p:ph/>
          </p:nvPr>
        </p:nvSpPr>
        <p:spPr>
          <a:xfrm>
            <a:off x="457200" y="1052640"/>
            <a:ext cx="8229600" cy="4114800"/>
          </a:xfrm>
          <a:prstGeom prst="rect">
            <a:avLst/>
          </a:prstGeom>
          <a:noFill/>
          <a:ln w="0">
            <a:noFill/>
          </a:ln>
        </p:spPr>
        <p:txBody>
          <a:bodyPr lIns="90000" rIns="90000" tIns="46800" bIns="46800" anchor="t">
            <a:normAutofit fontScale="82000"/>
          </a:bodyPr>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Capacity constraints are a key factor in preventing rural communities from sustaining access to water and sanitation facilities, especially mechanised water supply systems, over the long term.</a:t>
            </a:r>
            <a:endParaRPr b="0" lang="en-US" sz="2400" spc="-1" strike="noStrike">
              <a:solidFill>
                <a:srgbClr val="ffffff"/>
              </a:solidFill>
              <a:latin typeface="Tahoma"/>
            </a:endParaRPr>
          </a:p>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main underlying reasons are:</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The systems are complex and human resources to manage them are scarce and costly. Spare parts are difficult to obtain and dealer and technicians are often far away. </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anagement of financial resources is difficult in environment without banks or places where to keep money safe. As consequence money is not available in moments of need.</a:t>
            </a: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39C0BFB9-E9BA-4D69-B5B8-33B9E902C7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640" y="260280"/>
            <a:ext cx="893916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2</a:t>
            </a:r>
            <a:endParaRPr b="0" lang="en-US" sz="4000" spc="-1" strike="noStrike">
              <a:solidFill>
                <a:srgbClr val="ffffff"/>
              </a:solidFill>
              <a:latin typeface="Tahoma"/>
            </a:endParaRPr>
          </a:p>
        </p:txBody>
      </p:sp>
      <p:sp>
        <p:nvSpPr>
          <p:cNvPr id="110" name="PlaceHolder 2"/>
          <p:cNvSpPr>
            <a:spLocks noGrp="1"/>
          </p:cNvSpPr>
          <p:nvPr>
            <p:ph/>
          </p:nvPr>
        </p:nvSpPr>
        <p:spPr>
          <a:xfrm>
            <a:off x="457200" y="1114560"/>
            <a:ext cx="8229600" cy="4114800"/>
          </a:xfrm>
          <a:prstGeom prst="rect">
            <a:avLst/>
          </a:prstGeom>
          <a:noFill/>
          <a:ln w="0">
            <a:noFill/>
          </a:ln>
        </p:spPr>
        <p:txBody>
          <a:bodyPr lIns="90000" rIns="90000" tIns="46800" bIns="46800" anchor="t">
            <a:normAutofit fontScale="94000"/>
          </a:bodyPr>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To ensure sustainability promotion of community ownership and capacity building is the best suited for small water supplies (shallow wells, berkhads and baileys) and for hygiene and sanitation interventions.  </a:t>
            </a:r>
            <a:endParaRPr b="0" lang="en-US" sz="3000" spc="-1" strike="noStrike">
              <a:solidFill>
                <a:srgbClr val="ffffff"/>
              </a:solidFill>
              <a:latin typeface="Tahoma"/>
            </a:endParaRPr>
          </a:p>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Private-public partnership appears to be a promising approach to manage mechanized water supply systems mainly in urban areas but tests in rural areas are under way.</a:t>
            </a:r>
            <a:endParaRPr b="0" lang="en-US" sz="3000" spc="-1" strike="noStrike">
              <a:solidFill>
                <a:srgbClr val="ffffff"/>
              </a:solidFill>
              <a:latin typeface="Tahoma"/>
            </a:endParaRPr>
          </a:p>
          <a:p>
            <a:pPr marL="3222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sldNum" idx="3"/>
          </p:nvPr>
        </p:nvSpPr>
        <p:spPr/>
        <p:txBody>
          <a:bodyPr/>
          <a:p>
            <a:fld id="{5F15C88D-492E-4BCD-9A06-1B2FCEA873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2</a:t>
            </a:r>
            <a:endParaRPr b="0" lang="en-US" sz="4400" spc="-1" strike="noStrike">
              <a:solidFill>
                <a:srgbClr val="ffffff"/>
              </a:solidFill>
              <a:latin typeface="Tahoma"/>
            </a:endParaRPr>
          </a:p>
        </p:txBody>
      </p:sp>
      <p:sp>
        <p:nvSpPr>
          <p:cNvPr id="112"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xperience of PPP in Somalia is positive.</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ompared to public utilities the PPP interventions have usually been able to expand services, increase revenue collection, reduce volumes of water unaccounted for, improve efficiency, increase staff loyalty and decrease downtime.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Currently the success of the PPP system is based to a large extent on the goodwill of the parties involved. While the importance of this goodwill should be recognised, a firm legal and institutional framework needs to be put in place, while, at the same time, avoiding over-regulating.</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5460D6D-4303-4EEF-A998-0EE1286AD5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3</a:t>
            </a:r>
            <a:endParaRPr b="0" lang="en-US" sz="4400" spc="-1" strike="noStrike">
              <a:solidFill>
                <a:srgbClr val="ffffff"/>
              </a:solidFill>
              <a:latin typeface="Tahoma"/>
            </a:endParaRPr>
          </a:p>
        </p:txBody>
      </p:sp>
      <p:sp>
        <p:nvSpPr>
          <p:cNvPr id="114" name="PlaceHolder 2"/>
          <p:cNvSpPr>
            <a:spLocks noGrp="1"/>
          </p:cNvSpPr>
          <p:nvPr>
            <p:ph/>
          </p:nvPr>
        </p:nvSpPr>
        <p:spPr>
          <a:xfrm>
            <a:off x="457200" y="1197000"/>
            <a:ext cx="8229600" cy="4114800"/>
          </a:xfrm>
          <a:prstGeom prst="rect">
            <a:avLst/>
          </a:prstGeom>
          <a:noFill/>
          <a:ln w="0">
            <a:noFill/>
          </a:ln>
        </p:spPr>
        <p:txBody>
          <a:bodyPr lIns="90000" rIns="90000" tIns="46800" bIns="46800" anchor="t">
            <a:normAutofit fontScale="84000"/>
          </a:bodyPr>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 clear commitment of the political authorities and beneficiary communities is necessary.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Since vested interests always contrast change there is need to invest time in participatory planning and implementation &amp; in encouraging ownership among the various stakeholders.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PPP system needs to address environmental issues related to the sustainable management of water extraction (by the private sector) and the conservation of surface and groundwater resources (by both the private and public sectors).</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policy &amp; regulatory framework is not yet conducive to direct private investment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16724CD-C616-42F5-8E09-D1E8850EC0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Gender &amp; Environment</a:t>
            </a:r>
            <a:endParaRPr b="0" lang="en-US" sz="4400" spc="-1" strike="noStrike">
              <a:solidFill>
                <a:srgbClr val="ffffff"/>
              </a:solidFill>
              <a:latin typeface="Tahoma"/>
            </a:endParaRPr>
          </a:p>
        </p:txBody>
      </p:sp>
      <p:sp>
        <p:nvSpPr>
          <p:cNvPr id="116"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lthough women and children generally benefit from the interventions there are no specific interventions for them.</a:t>
            </a:r>
            <a:endParaRPr b="0" lang="en-US" sz="2800" spc="-1" strike="noStrike">
              <a:solidFill>
                <a:srgbClr val="ffffff"/>
              </a:solidFill>
              <a:latin typeface="Tahoma"/>
            </a:endParaRPr>
          </a:p>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e main environmental challenges emerging are:</a:t>
            </a:r>
            <a:endParaRPr b="0" lang="en-US" sz="28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Pollution of water sources (shallow well, berkhads &amp; baileys) due to garbage and human wast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Over-pumping of groundwater resourc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Overgrazing,  over-browsing &amp; settlements around permanent water sources</a:t>
            </a:r>
            <a:r>
              <a:rPr b="0" lang="en-GB" sz="2400" spc="-1" strike="noStrike">
                <a:solidFill>
                  <a:srgbClr val="000066"/>
                </a:solidFill>
                <a:latin typeface="Trebuchet MS"/>
              </a:rPr>
              <a:t>. </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CC22C35A-E62F-4F5D-B5FD-34E8D70E6C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71360"/>
            <a:ext cx="8229600" cy="155520"/>
          </a:xfrm>
          <a:prstGeom prst="rect">
            <a:avLst/>
          </a:prstGeom>
          <a:noFill/>
          <a:ln w="0">
            <a:noFill/>
          </a:ln>
        </p:spPr>
        <p:txBody>
          <a:bodyPr lIns="90000" rIns="90000" tIns="46800" bIns="46800" anchor="t">
            <a:normAutofit fontScale="1000"/>
          </a:bodyPr>
          <a:p>
            <a:pPr marL="3240" indent="0">
              <a:lnSpc>
                <a:spcPct val="90000"/>
              </a:lnSpc>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comic"/>
              </a:rPr>
              <a:t>THANK YOU.</a:t>
            </a: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Tempus Sans ITC"/>
              </a:rPr>
              <a:t>ANY QUESTIONS? </a:t>
            </a:r>
            <a:endParaRPr b="0" lang="en-US" sz="8800" spc="-1" strike="noStrike">
              <a:solidFill>
                <a:srgbClr val="ffffff"/>
              </a:solidFill>
              <a:latin typeface="Tahoma"/>
            </a:endParaRPr>
          </a:p>
        </p:txBody>
      </p:sp>
      <p:sp>
        <p:nvSpPr>
          <p:cNvPr id="3" name="PlaceHolder 2"/>
          <p:cNvSpPr>
            <a:spLocks noGrp="1"/>
          </p:cNvSpPr>
          <p:nvPr>
            <p:ph type="sldNum" idx="3"/>
          </p:nvPr>
        </p:nvSpPr>
        <p:spPr/>
        <p:txBody>
          <a:bodyPr/>
          <a:p>
            <a:fld id="{F91981CF-43A8-447C-BE06-18135B293DA3}"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ckground</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omalia is a failed state &amp; has no centralized government since 1991</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C deals de facto with three weak or ineffective “governments”: Somaliland, Puntland &amp; S.Central (TFG)</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l emergency &amp; development activities are financed and executed by the international community</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re are practically no national policies, laws and regulations</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ministrative and enforcement capacity is practically ni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71303698-31C8-4489-9BB4-5B196891AB48}"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GENERAL INFORMATION ON WATER IN SOMALIA </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2001 UNDP Human Development Report for Somalia estimates that Somalia’s annual renewable freshwater fell from 2,500m3 per capita per annum in 1950, to 980m3 in 1990, with a prediction of 363m3 by 2025.</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hen the per capita water falls below 1,000m3 per annum, water scarcity can begin to hamper health, economic development, and human well-being.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When water availability falls under 500 m3 per annum life is threatened.</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esent and future outlook for health &amp; livelihood in Somalia appears therefore extremely seriou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9946C312-D70B-4224-9DF3-F160D99D161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ccess to Water &amp; Sanitation in Somalia</a:t>
            </a:r>
            <a:endParaRPr b="0" lang="en-US" sz="4400" spc="-1" strike="noStrike">
              <a:solidFill>
                <a:srgbClr val="ffffff"/>
              </a:solidFill>
              <a:latin typeface="Tahoma"/>
            </a:endParaRPr>
          </a:p>
        </p:txBody>
      </p:sp>
      <p:sp>
        <p:nvSpPr>
          <p:cNvPr id="90" name="PlaceHolder 2"/>
          <p:cNvSpPr>
            <a:spLocks noGrp="1"/>
          </p:cNvSpPr>
          <p:nvPr>
            <p:ph/>
          </p:nvPr>
        </p:nvSpPr>
        <p:spPr>
          <a:xfrm>
            <a:off x="457200" y="1773360"/>
            <a:ext cx="8229600" cy="4114800"/>
          </a:xfrm>
          <a:prstGeom prst="rect">
            <a:avLst/>
          </a:prstGeom>
          <a:noFill/>
          <a:ln w="0">
            <a:noFill/>
          </a:ln>
        </p:spPr>
        <p:txBody>
          <a:bodyPr lIns="90000" rIns="90000" tIns="46800" bIns="46800" anchor="t">
            <a:normAutofit fontScale="88000"/>
          </a:bodyPr>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According to the UNICEF MICS 2006 survey, 29% of the population in Somalia had access to safe water sources and approximately 37% had access to adequate sanitation facilities. In 2000 the MICS found that </a:t>
            </a:r>
            <a:r>
              <a:rPr b="0" lang="en-GB" sz="2400" spc="-1" strike="noStrike">
                <a:solidFill>
                  <a:srgbClr val="000066"/>
                </a:solidFill>
                <a:latin typeface="Trebuchet MS"/>
              </a:rPr>
              <a:t>23% of the population had access to safe drinking water and 50% has access to adequate sanitation facilities.</a:t>
            </a:r>
            <a:endParaRPr b="0" lang="en-US" sz="2400" spc="-1" strike="noStrike">
              <a:solidFill>
                <a:srgbClr val="ffffff"/>
              </a:solidFill>
              <a:latin typeface="Tahoma"/>
            </a:endParaRPr>
          </a:p>
          <a:p>
            <a:pPr marL="301680" indent="-301680">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espite a number of interventions in the same period the situation remained dismal due to population growth, rapid urbanization and displacement. </a:t>
            </a:r>
            <a:endParaRPr b="0" lang="en-US" sz="2400" spc="-1" strike="noStrike">
              <a:solidFill>
                <a:srgbClr val="ffffff"/>
              </a:solidFill>
              <a:latin typeface="Tahoma"/>
            </a:endParaRPr>
          </a:p>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Such poor levels of access have significant effects upon the nutritional, developmental and livelihood status of the population.</a:t>
            </a: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2AF1849A-0B07-4C75-AECB-44B086B07F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he EC Water, Sanitation &amp; Hygiene Interventions in Somalia</a:t>
            </a:r>
            <a:endParaRPr b="0" lang="en-US" sz="36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 European Commission has been active in financing water and sanitation programmes in Somalia since 1995.</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rom 1995 the EC has allocated to the water and sanitation sector through different sources more than Euro 20 million with estimated around 1 million beneficiaries (12% of the 2009 Somali population of about 8.5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owever, it is estimated that over the same period the population of Somalia may have increased of at least 2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C6343F1E-8D87-4DA5-B00B-1ED0D8C400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1)</a:t>
            </a:r>
            <a:endParaRPr b="0" lang="en-US" sz="4000" spc="-1" strike="noStrike">
              <a:solidFill>
                <a:srgbClr val="ffffff"/>
              </a:solidFill>
              <a:latin typeface="Tahoma"/>
            </a:endParaRPr>
          </a:p>
        </p:txBody>
      </p:sp>
      <p:sp>
        <p:nvSpPr>
          <p:cNvPr id="94" name="PlaceHolder 2"/>
          <p:cNvSpPr>
            <a:spLocks noGrp="1"/>
          </p:cNvSpPr>
          <p:nvPr>
            <p:ph/>
          </p:nvPr>
        </p:nvSpPr>
        <p:spPr>
          <a:xfrm>
            <a:off x="457200" y="1557360"/>
            <a:ext cx="8229600" cy="4114800"/>
          </a:xfrm>
          <a:prstGeom prst="rect">
            <a:avLst/>
          </a:prstGeom>
          <a:noFill/>
          <a:ln w="0">
            <a:noFill/>
          </a:ln>
        </p:spPr>
        <p:txBody>
          <a:bodyPr lIns="90000" rIns="90000" tIns="46800" bIns="46800" anchor="t">
            <a:normAutofit fontScale="91000"/>
          </a:bodyPr>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ccess to water, hygiene and sanitation, particularly benefiting women and childre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capacity of communities to identify, plan, implement and manage water, hygiene and sanitation activiti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technical capacity of line administrations / ministries and other relevant institutions, particularly in support of community based initiativ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upport in the policy definition and discussio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sustainable water management systems (PPP) in urban and rural area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7F881DB-FD11-484B-BF64-0158195EA8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2)</a:t>
            </a:r>
            <a:endParaRPr b="0" lang="en-US" sz="40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C has also financed the FAO-implemented Somalia Water &amp; Land Information System (SWALIM)</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is at present the main source of information on water in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executed an inventory of water sources in Northern Somalia and most of South-Central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just completed the mapping of the UNICEF water &amp; sanitation interventions in Somalia 2005-2009.</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data are available at </a:t>
            </a:r>
            <a:r>
              <a:rPr b="0" lang="en-US" sz="2400" spc="-1" strike="noStrike" u="sng">
                <a:solidFill>
                  <a:srgbClr val="ff3300"/>
                </a:solidFill>
                <a:uFillTx/>
                <a:latin typeface="Trebuchet MS"/>
                <a:hlinkClick r:id="rId2"/>
              </a:rPr>
              <a:t>www.faoswalim.org</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7647D2F-FBAB-4B28-A5B4-ECE275EFFC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259920"/>
            <a:ext cx="744084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a:t>
            </a:r>
            <a:endParaRPr b="0" lang="en-US" sz="4400" spc="-1" strike="noStrike">
              <a:solidFill>
                <a:srgbClr val="ffffff"/>
              </a:solidFill>
              <a:latin typeface="Tahoma"/>
            </a:endParaRPr>
          </a:p>
        </p:txBody>
      </p:sp>
      <p:sp>
        <p:nvSpPr>
          <p:cNvPr id="98" name="PlaceHolder 2"/>
          <p:cNvSpPr>
            <a:spLocks noGrp="1"/>
          </p:cNvSpPr>
          <p:nvPr>
            <p:ph/>
          </p:nvPr>
        </p:nvSpPr>
        <p:spPr>
          <a:xfrm>
            <a:off x="1547280" y="980640"/>
            <a:ext cx="7417080" cy="4691160"/>
          </a:xfrm>
          <a:prstGeom prst="rect">
            <a:avLst/>
          </a:prstGeom>
          <a:noFill/>
          <a:ln w="0">
            <a:noFill/>
          </a:ln>
        </p:spPr>
        <p:txBody>
          <a:bodyPr lIns="90000" rIns="90000" tIns="46800" bIns="46800" anchor="t">
            <a:normAutofit fontScale="93000"/>
          </a:bodyPr>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All EC implemented projects have undergone mid-term and/or final evaluations by external independent consultant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nterventions have been evaluated in accordance to the EC criteria of design/relevance, efficiency, effectiveness, impact and sustainability.</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The evaluations have produced an immense crop of lessons particularly relevant for Somalia to be take into account in future interven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From all evaluations it appears that SUSTAINABILITY is the major challenge faced the Water &amp; Sanitation projects in Somalia.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28F21F9-5CAE-4522-8AE7-A477017259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1</a:t>
            </a:r>
            <a:endParaRPr b="0" lang="en-US" sz="4400" spc="-1" strike="noStrike">
              <a:solidFill>
                <a:srgbClr val="ffffff"/>
              </a:solidFill>
              <a:latin typeface="Tahoma"/>
            </a:endParaRPr>
          </a:p>
        </p:txBody>
      </p:sp>
      <p:sp>
        <p:nvSpPr>
          <p:cNvPr id="100" name="PlaceHolder 2"/>
          <p:cNvSpPr>
            <a:spLocks noGrp="1"/>
          </p:cNvSpPr>
          <p:nvPr>
            <p:ph/>
          </p:nvPr>
        </p:nvSpPr>
        <p:spPr>
          <a:xfrm>
            <a:off x="457200" y="169056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Villagers prioritize water quantity over quality.</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Recognising that livestock is an important cornerstone of the livelihoods of the targeted rural populations, water supply systems need to consider water supply for  livestock. </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omali people are used to and ready to pay for water. They are less inclined to do so for other services such as garbage collection &amp; waste management.</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Most people have yet to associate safe and clean water &amp; hygiene practices with diseases such as diarrhea so the change of hygiene and sanitation behavior is a long process</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4E4AED53-9422-4BC5-957B-311F3C4D87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2T08:42:50Z</dcterms:created>
  <dc:creator>rookjoh</dc:creator>
  <dc:description/>
  <dc:language>en-US</dc:language>
  <cp:lastModifiedBy>mosellu</cp:lastModifiedBy>
  <dcterms:modified xsi:type="dcterms:W3CDTF">2010-10-29T06:37:55Z</dcterms:modified>
  <cp:revision>85</cp:revision>
  <dc:subject/>
  <dc:title>Slide 1</dc:title>
</cp:coreProperties>
</file>