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16F5F-E4D2-4FC2-A1C9-CEFF6430B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B2561-509F-439D-8CDF-B133E1BAC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28208-C53C-4377-8812-B75839366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70D4C-179E-4038-B319-64EA0B446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E3FA8-F90B-4799-AC57-C746AB4B6A1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268CD4-724C-4ADF-86BF-79B2C41F9E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CA158-AA91-45A9-9FA3-23102A5A7E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2F81A1-1CE4-4B1A-B7AC-660FDCDBF9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51232B-60FD-40F9-8554-1EA3F03EB6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43AF7-B493-460A-8D90-EB20D6F249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4E8C0-27AA-4250-B9E9-54F3381E35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0215-516E-4F57-BB84-AC7125A9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10744-2F83-45F6-B384-67FA1CB46D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6F94B-B314-45F9-8D53-0C64B27905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1E627-AC22-4569-B4C0-EE09A816F7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CD7CAA-F767-4C01-AA54-FF271DFA4E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4B1423-78D5-4252-9F1B-9FA8D5AB517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142B1-063F-43BC-B1F6-03EDECD62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F3840-3AFA-4158-BBE9-215DF7254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B67D-F932-4131-BE17-0D85E5901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1C74A-B183-473B-8F77-9221E6631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9A995-54AC-431B-A8C4-7EDF473D3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8554-1B46-49C0-B2CA-7581BD2FB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340D-3A5B-4BE8-B978-3778D03C3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F06EC59E-F082-4ADF-99D6-1581C3739622}" type="datetime11">
              <a:rPr b="0" lang="en-US" sz="1400" spc="-1" strike="noStrike">
                <a:solidFill>
                  <a:srgbClr val="ffffff"/>
                </a:solidFill>
                <a:latin typeface="Times New Roman"/>
              </a:rPr>
              <a:t>18:08:1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51F4-FDFE-41C1-AE12-3C3F26E675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FB9E-2286-4D66-A67A-7E38DEF55A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A7E5C6CB-6AF2-4B0B-941F-A4FE467E57C5}" type="datetime11">
              <a:rPr b="0" lang="en-US" sz="1400" spc="-1" strike="noStrike">
                <a:solidFill>
                  <a:srgbClr val="ffffff"/>
                </a:solidFill>
                <a:latin typeface="Times New Roman"/>
              </a:rPr>
              <a:t>18:08:11</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60CF85B-9DE1-419F-A34B-3A6BE11732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3135F50-5F46-4B97-A3CD-D5A6DBDF68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1D99AF0-0418-4CC4-8F31-77FFF571B7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C8D359A-5260-457C-AA3A-EC73EC3D3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698F9CD6-71E4-4E16-851F-C6D9C353E2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2FA7C4F-3955-403C-A84A-821E7BB0E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5C2279A-4042-424B-A1C3-313606A40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5E88AEB-F20D-4947-AFF8-3C6B015D6E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3BFF889D-A526-4F11-BFDB-6FFB31E44127}"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6AB6EAC-DBB7-46F6-BA84-C3C5926D116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4A9D2A5-4F41-4F8C-A83A-D6B73A97C2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D336CF4-A95C-4206-8254-8C700C8527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BE0DD96-04AB-46BA-A856-0FC93B72F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9B15526-AB04-445F-A3E7-76A4B6F8A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A6D19CD-D0D7-405A-BA49-8450AFEBF6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E4A916E-24EC-4820-955F-0BB75F014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1B478F6-D5F1-49DF-BC51-76CF066721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