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06DFE-54EB-4C07-B9A9-D1AF5C3272F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4D9B-FABA-4E1E-8F46-5D3D43A7404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0E5F7-673D-45C0-8E70-1F1B7E190DB0}" type="datetime">
              <a:rPr b="0" lang="en-US" sz="1200" spc="-1" strike="noStrike">
                <a:solidFill>
                  <a:srgbClr val="ffffff"/>
                </a:solidFill>
                <a:latin typeface="Verdana"/>
              </a:rPr>
              <a:t>07/29/26</a:t>
            </a:fld>
            <a:r>
              <a:rPr b="0" lang="en-US" sz="1200" spc="-1" strike="noStrike">
                <a:solidFill>
                  <a:srgbClr val="ffffff"/>
                </a:solidFill>
                <a:latin typeface="Verdana"/>
              </a:rPr>
              <a:t> </a:t>
            </a:r>
            <a:fld id="{F7BDA5E5-988A-4E3B-A767-F912DCA23081}"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3FDD0-532D-4BB2-A57E-C04B1F4A8E6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EF9E-F278-4989-A0E4-46BCEDDCBA33}" type="datetime">
              <a:rPr b="0" lang="en-US" sz="1200" spc="-1" strike="noStrike">
                <a:solidFill>
                  <a:srgbClr val="ffffff"/>
                </a:solidFill>
                <a:latin typeface="Verdana"/>
              </a:rPr>
              <a:t>07/29/26</a:t>
            </a:fld>
            <a:r>
              <a:rPr b="0" lang="en-US" sz="1200" spc="-1" strike="noStrike">
                <a:solidFill>
                  <a:srgbClr val="ffffff"/>
                </a:solidFill>
                <a:latin typeface="Verdana"/>
              </a:rPr>
              <a:t> </a:t>
            </a:r>
            <a:fld id="{8251A2F2-31A6-4C82-99D6-5F3ADB4B19F4}"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C1FA9-771E-409E-B9CA-6D6832EB7EC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8952-764D-4BA2-9040-51DB838F258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67479-53AD-4630-AAC9-F81DB34E5801}" type="datetime">
              <a:rPr b="0" lang="en-US" sz="1200" spc="-1" strike="noStrike">
                <a:solidFill>
                  <a:srgbClr val="ffffff"/>
                </a:solidFill>
                <a:latin typeface="Verdana"/>
              </a:rPr>
              <a:t>07/29/26</a:t>
            </a:fld>
            <a:r>
              <a:rPr b="0" lang="en-US" sz="1200" spc="-1" strike="noStrike">
                <a:solidFill>
                  <a:srgbClr val="ffffff"/>
                </a:solidFill>
                <a:latin typeface="Verdana"/>
              </a:rPr>
              <a:t> </a:t>
            </a:r>
            <a:fld id="{C29E290A-3696-48CB-A74D-A009CF42E6D7}"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2018-6E97-4B9E-B8BE-EB1D392D0E3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8320-F629-4DA6-BE7D-5962F3DA0C5A}" type="datetime">
              <a:rPr b="0" lang="en-US" sz="1200" spc="-1" strike="noStrike">
                <a:solidFill>
                  <a:srgbClr val="ffffff"/>
                </a:solidFill>
                <a:latin typeface="Verdana"/>
              </a:rPr>
              <a:t>07/29/26</a:t>
            </a:fld>
            <a:r>
              <a:rPr b="0" lang="en-US" sz="1200" spc="-1" strike="noStrike">
                <a:solidFill>
                  <a:srgbClr val="ffffff"/>
                </a:solidFill>
                <a:latin typeface="Verdana"/>
              </a:rPr>
              <a:t> </a:t>
            </a:r>
            <a:fld id="{276F6E42-4CD4-4C69-B884-72E0F6187858}"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E297-86E6-43BE-A879-56335F536E8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EA453-C323-4DE4-8AC5-8A13BFF27337}" type="datetime">
              <a:rPr b="0" lang="en-US" sz="1200" spc="-1" strike="noStrike">
                <a:solidFill>
                  <a:srgbClr val="ffffff"/>
                </a:solidFill>
                <a:latin typeface="Verdana"/>
              </a:rPr>
              <a:t>07/29/26</a:t>
            </a:fld>
            <a:r>
              <a:rPr b="0" lang="en-US" sz="1200" spc="-1" strike="noStrike">
                <a:solidFill>
                  <a:srgbClr val="ffffff"/>
                </a:solidFill>
                <a:latin typeface="Verdana"/>
              </a:rPr>
              <a:t> </a:t>
            </a:r>
            <a:fld id="{3C27148A-9AAE-4AF4-B7C3-55E418505AAA}"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A6B7-F921-4B92-914B-BDC2361FAEE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720C-B198-4818-898C-E8A7179C99AC}" type="datetime">
              <a:rPr b="0" lang="en-US" sz="1200" spc="-1" strike="noStrike">
                <a:solidFill>
                  <a:srgbClr val="ffffff"/>
                </a:solidFill>
                <a:latin typeface="Verdana"/>
              </a:rPr>
              <a:t>07/29/26</a:t>
            </a:fld>
            <a:r>
              <a:rPr b="0" lang="en-US" sz="1200" spc="-1" strike="noStrike">
                <a:solidFill>
                  <a:srgbClr val="ffffff"/>
                </a:solidFill>
                <a:latin typeface="Verdana"/>
              </a:rPr>
              <a:t> </a:t>
            </a:r>
            <a:fld id="{F6B5AD92-5DD6-4BC2-9B69-A6863D5963B5}"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91E54-1CC5-4A69-8E82-C88175C1B4B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55E33-B769-46A4-88CC-33AB21812A9E}" type="datetime">
              <a:rPr b="0" lang="en-US" sz="1200" spc="-1" strike="noStrike">
                <a:solidFill>
                  <a:srgbClr val="ffffff"/>
                </a:solidFill>
                <a:latin typeface="Verdana"/>
              </a:rPr>
              <a:t>07/29/26</a:t>
            </a:fld>
            <a:r>
              <a:rPr b="0" lang="en-US" sz="1200" spc="-1" strike="noStrike">
                <a:solidFill>
                  <a:srgbClr val="ffffff"/>
                </a:solidFill>
                <a:latin typeface="Verdana"/>
              </a:rPr>
              <a:t> </a:t>
            </a:r>
            <a:fld id="{55044C21-A5E8-4316-9779-416C4A85FACB}"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DA561-BA34-46C7-9AB2-F03A739E59A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F50A-0C08-4681-B2E8-7AA87DD0590F}" type="datetime">
              <a:rPr b="0" lang="en-US" sz="1200" spc="-1" strike="noStrike">
                <a:solidFill>
                  <a:srgbClr val="ffffff"/>
                </a:solidFill>
                <a:latin typeface="Verdana"/>
              </a:rPr>
              <a:t>07/29/26</a:t>
            </a:fld>
            <a:r>
              <a:rPr b="0" lang="en-US" sz="1200" spc="-1" strike="noStrike">
                <a:solidFill>
                  <a:srgbClr val="ffffff"/>
                </a:solidFill>
                <a:latin typeface="Verdana"/>
              </a:rPr>
              <a:t> </a:t>
            </a:r>
            <a:fld id="{984E2E1A-AC16-4FC9-AC61-62D6D668BAFE}"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930CC-6036-43E1-93DF-A9EADC1B801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09B3-4314-4FC4-8F79-297F2BD2B1A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34356-FEC0-4D7F-AB07-E34C6CC69C0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595B-9B36-45AF-891A-B1CC28E4423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29C86-3249-4B0A-BA0C-CFC57E28BBB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9BA62-AA61-4E11-91FF-23F100D8CB41}" type="datetime">
              <a:rPr b="0" lang="en-US" sz="1200" spc="-1" strike="noStrike">
                <a:solidFill>
                  <a:srgbClr val="ffffff"/>
                </a:solidFill>
                <a:latin typeface="Verdana"/>
              </a:rPr>
              <a:t>07/29/26</a:t>
            </a:fld>
            <a:r>
              <a:rPr b="0" lang="en-US" sz="1200" spc="-1" strike="noStrike">
                <a:solidFill>
                  <a:srgbClr val="ffffff"/>
                </a:solidFill>
                <a:latin typeface="Verdana"/>
              </a:rPr>
              <a:t> </a:t>
            </a:r>
            <a:fld id="{8CE6B27F-479D-4AB8-BE75-829DC0F96851}"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FF193-C012-4479-86E4-34490A2D3C3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403D9-A228-4897-A225-4DA99FE8E224}" type="datetime">
              <a:rPr b="0" lang="en-US" sz="1200" spc="-1" strike="noStrike">
                <a:solidFill>
                  <a:srgbClr val="ffffff"/>
                </a:solidFill>
                <a:latin typeface="Verdana"/>
              </a:rPr>
              <a:t>07/29/26</a:t>
            </a:fld>
            <a:r>
              <a:rPr b="0" lang="en-US" sz="1200" spc="-1" strike="noStrike">
                <a:solidFill>
                  <a:srgbClr val="ffffff"/>
                </a:solidFill>
                <a:latin typeface="Verdana"/>
              </a:rPr>
              <a:t> </a:t>
            </a:r>
            <a:fld id="{2F8E824B-EB80-49B8-B536-E4A9A28DF4A1}"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044E8-A921-45F7-9C49-83CB4D0B7DF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EFDA-319C-4017-B67F-512FF4752B80}" type="datetime">
              <a:rPr b="0" lang="en-US" sz="1200" spc="-1" strike="noStrike">
                <a:solidFill>
                  <a:srgbClr val="ffffff"/>
                </a:solidFill>
                <a:latin typeface="Verdana"/>
              </a:rPr>
              <a:t>07/29/26</a:t>
            </a:fld>
            <a:r>
              <a:rPr b="0" lang="en-US" sz="1200" spc="-1" strike="noStrike">
                <a:solidFill>
                  <a:srgbClr val="ffffff"/>
                </a:solidFill>
                <a:latin typeface="Verdana"/>
              </a:rPr>
              <a:t> </a:t>
            </a:r>
            <a:fld id="{7D833734-0476-482D-9CE3-5EE287328A41}" type="datetime10">
              <a:rPr b="0" lang="en-US" sz="1200" spc="-1" strike="noStrike">
                <a:solidFill>
                  <a:srgbClr val="ffffff"/>
                </a:solidFill>
                <a:latin typeface="Verdana"/>
              </a:rPr>
              <a:t>18:03</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E8F9-CE14-42BE-AF5D-8D05BFF18A4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1B0DA-5E66-4272-AF24-521E08AA7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F7FFB-A331-412D-A226-F9F97EF06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530AA-544E-43E5-B26B-33F811C01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32B66-6372-4739-A2C9-182FF1296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97E44-DA4F-499C-AF7E-5256C41EF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CFF15-9FA6-4E7C-9AAA-F4EDE89CA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41E77-FC0B-42A9-A457-F850B96BB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7149A-2174-4BEE-9B43-E8843DF4C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B04B5-59FE-4D7F-A376-3F9A7A772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51810-54B2-4B5D-ACBB-5F18CEB12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57604-4C35-442F-9CA3-8099D74D5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3FECF-3E7B-4224-B850-F370EFBD1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C53B4-FE0E-4B95-885A-E53A999C2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F51F5-A226-41F5-92FE-4814C9E4D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A690C-C78A-4329-B25A-4BF7C2DF2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DBB706-1993-4AEF-914A-92D61D40DA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110CAF-77C3-4DA6-8351-EB9E8CF9A3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77177-FC9E-4A05-B79E-3B34FD005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79B01-756C-4582-B0C2-8A8463D41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846EB-11AE-4BF4-9DE1-358FF5351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47098-444B-42DF-94D4-1BD248DB4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F4C1A-E464-4D38-A56B-45293A8EC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E4F74-B06A-4044-8FD4-C386D1679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66CB4-2340-4DEB-A445-B3B2B07DC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7D6C-428D-4F64-8134-465F5E0357D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E509-45BB-4131-A0FB-17CFDC87A9D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FE8FF-50E9-408D-AB46-A227F411843F}"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