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29EF-66EC-4B70-9135-3FDBEF342F0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CACE-09CC-4546-AA6A-0712E7566CE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09EC-F737-439F-B0FD-5908C2FD465A}" type="datetime">
              <a:rPr b="0" lang="en-US" sz="1200" spc="-1" strike="noStrike">
                <a:solidFill>
                  <a:srgbClr val="ffffff"/>
                </a:solidFill>
                <a:latin typeface="Verdana"/>
              </a:rPr>
              <a:t>07/30/26</a:t>
            </a:fld>
            <a:r>
              <a:rPr b="0" lang="en-US" sz="1200" spc="-1" strike="noStrike">
                <a:solidFill>
                  <a:srgbClr val="ffffff"/>
                </a:solidFill>
                <a:latin typeface="Verdana"/>
              </a:rPr>
              <a:t> </a:t>
            </a:r>
            <a:fld id="{6E74EE3F-5509-44D6-A081-7F2A3D8C311B}"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FD93-B4C8-42C6-AA1A-C68E29152E2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6FE5-1DBC-4BC1-B66C-8491AA9DDD82}" type="datetime">
              <a:rPr b="0" lang="en-US" sz="1200" spc="-1" strike="noStrike">
                <a:solidFill>
                  <a:srgbClr val="ffffff"/>
                </a:solidFill>
                <a:latin typeface="Verdana"/>
              </a:rPr>
              <a:t>07/30/26</a:t>
            </a:fld>
            <a:r>
              <a:rPr b="0" lang="en-US" sz="1200" spc="-1" strike="noStrike">
                <a:solidFill>
                  <a:srgbClr val="ffffff"/>
                </a:solidFill>
                <a:latin typeface="Verdana"/>
              </a:rPr>
              <a:t> </a:t>
            </a:r>
            <a:fld id="{2F578983-9F34-408F-88AB-C4C384A00111}"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22E3-9DCA-4569-AA83-ED1919244C5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1C89-6139-44C0-86A6-8DE0D40D452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A9C2-EAAA-47D6-BE49-0D1C22378F32}" type="datetime">
              <a:rPr b="0" lang="en-US" sz="1200" spc="-1" strike="noStrike">
                <a:solidFill>
                  <a:srgbClr val="ffffff"/>
                </a:solidFill>
                <a:latin typeface="Verdana"/>
              </a:rPr>
              <a:t>07/30/26</a:t>
            </a:fld>
            <a:r>
              <a:rPr b="0" lang="en-US" sz="1200" spc="-1" strike="noStrike">
                <a:solidFill>
                  <a:srgbClr val="ffffff"/>
                </a:solidFill>
                <a:latin typeface="Verdana"/>
              </a:rPr>
              <a:t> </a:t>
            </a:r>
            <a:fld id="{A4E8F2F3-0BE5-4875-9F6D-223065FD3440}"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E0D5-4057-456F-9920-6D7643CEBAC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ECBD-67C5-4D29-8D58-CF70AD01B620}" type="datetime">
              <a:rPr b="0" lang="en-US" sz="1200" spc="-1" strike="noStrike">
                <a:solidFill>
                  <a:srgbClr val="ffffff"/>
                </a:solidFill>
                <a:latin typeface="Verdana"/>
              </a:rPr>
              <a:t>07/30/26</a:t>
            </a:fld>
            <a:r>
              <a:rPr b="0" lang="en-US" sz="1200" spc="-1" strike="noStrike">
                <a:solidFill>
                  <a:srgbClr val="ffffff"/>
                </a:solidFill>
                <a:latin typeface="Verdana"/>
              </a:rPr>
              <a:t> </a:t>
            </a:r>
            <a:fld id="{65536925-881E-44D0-ABE3-A8D6B309059B}"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4903-3112-4474-8F49-557C17038EF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012D-96EE-4261-9760-7BD9AFAC3CFC}" type="datetime">
              <a:rPr b="0" lang="en-US" sz="1200" spc="-1" strike="noStrike">
                <a:solidFill>
                  <a:srgbClr val="ffffff"/>
                </a:solidFill>
                <a:latin typeface="Verdana"/>
              </a:rPr>
              <a:t>07/30/26</a:t>
            </a:fld>
            <a:r>
              <a:rPr b="0" lang="en-US" sz="1200" spc="-1" strike="noStrike">
                <a:solidFill>
                  <a:srgbClr val="ffffff"/>
                </a:solidFill>
                <a:latin typeface="Verdana"/>
              </a:rPr>
              <a:t> </a:t>
            </a:r>
            <a:fld id="{5B2BC45F-76EE-4A17-9F83-CC53638BF047}"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1BB6-72AF-49EE-BA3D-60692B01DD2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399F-C231-4F70-B01E-FEAE26E84F73}" type="datetime">
              <a:rPr b="0" lang="en-US" sz="1200" spc="-1" strike="noStrike">
                <a:solidFill>
                  <a:srgbClr val="ffffff"/>
                </a:solidFill>
                <a:latin typeface="Verdana"/>
              </a:rPr>
              <a:t>07/30/26</a:t>
            </a:fld>
            <a:r>
              <a:rPr b="0" lang="en-US" sz="1200" spc="-1" strike="noStrike">
                <a:solidFill>
                  <a:srgbClr val="ffffff"/>
                </a:solidFill>
                <a:latin typeface="Verdana"/>
              </a:rPr>
              <a:t> </a:t>
            </a:r>
            <a:fld id="{A915D44E-7F43-4718-A326-D8E68C7E466D}"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FE48-6FCE-43D3-82A5-8751802DF87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F2FC-BBE8-4E4B-8E86-A2943C34BD0F}" type="datetime">
              <a:rPr b="0" lang="en-US" sz="1200" spc="-1" strike="noStrike">
                <a:solidFill>
                  <a:srgbClr val="ffffff"/>
                </a:solidFill>
                <a:latin typeface="Verdana"/>
              </a:rPr>
              <a:t>07/30/26</a:t>
            </a:fld>
            <a:r>
              <a:rPr b="0" lang="en-US" sz="1200" spc="-1" strike="noStrike">
                <a:solidFill>
                  <a:srgbClr val="ffffff"/>
                </a:solidFill>
                <a:latin typeface="Verdana"/>
              </a:rPr>
              <a:t> </a:t>
            </a:r>
            <a:fld id="{66969B03-710D-4388-9606-8BA77019855D}"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2A8C-C004-4C48-AAAF-793C7A31C72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49F9-9C56-4AF9-BB48-B4A23B364D83}" type="datetime">
              <a:rPr b="0" lang="en-US" sz="1200" spc="-1" strike="noStrike">
                <a:solidFill>
                  <a:srgbClr val="ffffff"/>
                </a:solidFill>
                <a:latin typeface="Verdana"/>
              </a:rPr>
              <a:t>07/30/26</a:t>
            </a:fld>
            <a:r>
              <a:rPr b="0" lang="en-US" sz="1200" spc="-1" strike="noStrike">
                <a:solidFill>
                  <a:srgbClr val="ffffff"/>
                </a:solidFill>
                <a:latin typeface="Verdana"/>
              </a:rPr>
              <a:t> </a:t>
            </a:r>
            <a:fld id="{CBC103C0-BA7E-433B-8166-9B634127A196}"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5EB9-8C48-4A2E-8961-E995C9D39DC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CE2A-1D52-475D-A2F9-24384EA651D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3906-B24D-40A7-95BA-2250C5504AD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E731-3A9E-4076-8471-CA95A7157A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3B70-A1A2-463F-AC20-CAFB7253BF2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5A6B-7F7A-40D0-8623-54A8604C8DE5}" type="datetime">
              <a:rPr b="0" lang="en-US" sz="1200" spc="-1" strike="noStrike">
                <a:solidFill>
                  <a:srgbClr val="ffffff"/>
                </a:solidFill>
                <a:latin typeface="Verdana"/>
              </a:rPr>
              <a:t>07/30/26</a:t>
            </a:fld>
            <a:r>
              <a:rPr b="0" lang="en-US" sz="1200" spc="-1" strike="noStrike">
                <a:solidFill>
                  <a:srgbClr val="ffffff"/>
                </a:solidFill>
                <a:latin typeface="Verdana"/>
              </a:rPr>
              <a:t> </a:t>
            </a:r>
            <a:fld id="{2C069281-BDCE-40CB-9939-94BF8EFF7ADC}"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6257-7E88-4C1D-82A4-DDA75ED4D99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C37F-AC2A-4C28-BD1D-DBB4ABF45BD6}" type="datetime">
              <a:rPr b="0" lang="en-US" sz="1200" spc="-1" strike="noStrike">
                <a:solidFill>
                  <a:srgbClr val="ffffff"/>
                </a:solidFill>
                <a:latin typeface="Verdana"/>
              </a:rPr>
              <a:t>07/30/26</a:t>
            </a:fld>
            <a:r>
              <a:rPr b="0" lang="en-US" sz="1200" spc="-1" strike="noStrike">
                <a:solidFill>
                  <a:srgbClr val="ffffff"/>
                </a:solidFill>
                <a:latin typeface="Verdana"/>
              </a:rPr>
              <a:t> </a:t>
            </a:r>
            <a:fld id="{212687D2-F850-4EDE-9323-84B17969985D}"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CCE8-4E89-440D-8939-117170279F3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E893-AC10-4273-A08F-9E66B2F7E25A}" type="datetime">
              <a:rPr b="0" lang="en-US" sz="1200" spc="-1" strike="noStrike">
                <a:solidFill>
                  <a:srgbClr val="ffffff"/>
                </a:solidFill>
                <a:latin typeface="Verdana"/>
              </a:rPr>
              <a:t>07/30/26</a:t>
            </a:fld>
            <a:r>
              <a:rPr b="0" lang="en-US" sz="1200" spc="-1" strike="noStrike">
                <a:solidFill>
                  <a:srgbClr val="ffffff"/>
                </a:solidFill>
                <a:latin typeface="Verdana"/>
              </a:rPr>
              <a:t> </a:t>
            </a:r>
            <a:fld id="{C65BBA42-C2F6-4281-BB73-A1C322978C1F}"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CE5D-F6A0-4B59-9C8D-BFB78A46EB8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CBD94-1402-425D-9FE8-289F1C580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50F54-029A-4367-8C23-01F2A4F4C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C8FA1-2925-47C5-B7A2-CAD43F9A9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814A7-3157-4D47-BCCC-CBE20AC03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70C4D-B527-4B66-873A-A609A4A2C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F4DA5-255F-44B5-AF56-4B55A590A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83036-AD76-48D9-9B3A-78E494FC8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E85B7-32A9-4067-969C-A0072EEDC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BDCB9-180B-4939-A7B8-5B9F4B24D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0AAE5-24FF-488A-9BB4-B5C5B796F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D7303-6BA2-4BCC-B835-34B8E6CAB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446F9-1D64-423E-8704-75D6CD16B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DBB95-DB58-4717-AAE4-0FF3B2D00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0E88E-D01C-4B86-A3A9-EF43F7871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E71D3-9B96-45D4-8CD8-16ADD0C3D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71F9D-329E-4C42-AA8C-79686632A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87DA6-B0AF-49D8-BAE3-B175DC3CC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6F7B1-6C84-457A-AE6F-E8BCDBF6C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30029-8610-4170-BED3-E7D960853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49CD9-BB96-45BA-B18E-C5E063868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4712F-6276-4AAB-B885-36C0BA511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567F1-B372-40E8-8744-1F47E2B6D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4F4F4-6EC2-4FBB-9115-FF1AE854D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5D1C2-1B6F-4C29-8B91-38470B03C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6804-4BC2-49D7-9724-801FD442E1A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6E35-C73B-486B-9EA3-24276E296C5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DE04-A05E-4ED1-A7CD-8130B549D253}"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