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7E5BE-0C20-4FFB-8715-BEECFECD1D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DB85D-7E10-41EA-8CA2-9C98D0BD56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4409F-016A-47AA-A638-DB8A2F422C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34E4A-D4E8-4B44-A98E-AAC4A84863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EFEB9-FC16-4DE3-A879-F4062F0719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95EE6-E5D1-4041-A68C-FC21B92303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CC118-DA73-49B6-9E9D-434BB7BEB8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B5179-B035-49C3-BF1F-E77D0A8EF7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0" descr="2909_EFI_Powerpoint_back_base2b"/>
          <p:cNvPicPr/>
          <p:nvPr/>
        </p:nvPicPr>
        <p:blipFill>
          <a:blip r:embed="rId2"/>
          <a:stretch/>
        </p:blipFill>
        <p:spPr>
          <a:xfrm>
            <a:off x="0" y="6138720"/>
            <a:ext cx="9145440" cy="7192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image" Target="../media/image16.png"/><Relationship Id="rId1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5"/>
          <p:cNvSpPr/>
          <p:nvPr/>
        </p:nvSpPr>
        <p:spPr>
          <a:xfrm>
            <a:off x="228600" y="2057400"/>
            <a:ext cx="8375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6a353"/>
                </a:solidFill>
                <a:latin typeface="Arial"/>
              </a:rPr>
              <a:t>FLEGT Action Plan and VPA process: overview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228600" y="4468680"/>
            <a:ext cx="518148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6a353"/>
                </a:solidFill>
                <a:latin typeface="Arial"/>
              </a:rPr>
              <a:t>11 January 20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6a353"/>
                </a:solidFill>
                <a:latin typeface="Arial"/>
              </a:rPr>
              <a:t>Julia Falcon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0" descr="2909_EFI_Powerpoint_background2a"/>
          <p:cNvPicPr/>
          <p:nvPr/>
        </p:nvPicPr>
        <p:blipFill>
          <a:blip r:embed="rId1"/>
          <a:stretch/>
        </p:blipFill>
        <p:spPr>
          <a:xfrm>
            <a:off x="0" y="0"/>
            <a:ext cx="9145440" cy="143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0" descr="2909_EFI_Powerpoint_background2b"/>
          <p:cNvPicPr/>
          <p:nvPr/>
        </p:nvPicPr>
        <p:blipFill>
          <a:blip r:embed="rId1"/>
          <a:stretch/>
        </p:blipFill>
        <p:spPr>
          <a:xfrm>
            <a:off x="0" y="0"/>
            <a:ext cx="9145440" cy="14382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78920" y="2133720"/>
            <a:ext cx="8675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lobal deforestation rates still occur at alarming rate – 13 million hectares a year.  And illegal logging is one of the major drivers of deforestation. Deforestation is responsible for half of the emissions from developing countries and account for close to 20% of global emission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llegal logging means that across the world $15 billion of revenues are lost every year, money that should be spent on development, furthermore it is estimated that this depresses timber prices by 16%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orests are key to life. For people, for biodiversity, for carbon and water storage.  1.2 billion people, a fifth of the world’s population, depend on forests for their livelihood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U is one of the largest consumers of timber in the world: in 2007 imported equivalent of 180 million m3 of timber or a value of $40 billion. Though difficult to estimate, studies suggest that 20-40% of trade from tropical countries has been illegally harvested ti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7"/>
          <p:cNvSpPr/>
          <p:nvPr/>
        </p:nvSpPr>
        <p:spPr>
          <a:xfrm>
            <a:off x="228600" y="1600200"/>
            <a:ext cx="56386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6a353"/>
                </a:solidFill>
                <a:latin typeface="Arial"/>
              </a:rPr>
              <a:t>Key fig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7"/>
          <p:cNvSpPr/>
          <p:nvPr/>
        </p:nvSpPr>
        <p:spPr>
          <a:xfrm>
            <a:off x="250920" y="1484280"/>
            <a:ext cx="835344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6a353"/>
                </a:solidFill>
                <a:latin typeface="Arial"/>
              </a:rPr>
              <a:t>FLEGT : fight against illegal lo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6" descr="2909_EFI_Powerpoint_background2c"/>
          <p:cNvPicPr/>
          <p:nvPr/>
        </p:nvPicPr>
        <p:blipFill>
          <a:blip r:embed="rId1"/>
          <a:stretch/>
        </p:blipFill>
        <p:spPr>
          <a:xfrm>
            <a:off x="-1440" y="0"/>
            <a:ext cx="9145440" cy="1438200"/>
          </a:xfrm>
          <a:prstGeom prst="rect">
            <a:avLst/>
          </a:prstGeom>
          <a:ln w="0">
            <a:noFill/>
          </a:ln>
        </p:spPr>
      </p:pic>
      <p:sp>
        <p:nvSpPr>
          <p:cNvPr id="55" name="Text Box 6"/>
          <p:cNvSpPr/>
          <p:nvPr/>
        </p:nvSpPr>
        <p:spPr>
          <a:xfrm>
            <a:off x="250920" y="2133720"/>
            <a:ext cx="8447040" cy="32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LEGT stands f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36a353"/>
                </a:solidFill>
                <a:latin typeface="Arial"/>
              </a:rPr>
              <a:t>F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res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36a353"/>
                </a:solidFill>
                <a:latin typeface="Arial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w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36a353"/>
                </a:solidFill>
                <a:latin typeface="Arial"/>
              </a:rPr>
              <a:t>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forcement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36a353"/>
                </a:solidFill>
                <a:latin typeface="Arial"/>
              </a:rPr>
              <a:t>G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vernance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36a353"/>
                </a:solidFill>
                <a:latin typeface="Arial"/>
              </a:rPr>
              <a:t>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55560" y="2781360"/>
            <a:ext cx="8482680" cy="916920"/>
            <a:chOff x="655560" y="2781360"/>
            <a:chExt cx="8482680" cy="916920"/>
          </a:xfrm>
        </p:grpSpPr>
        <p:sp>
          <p:nvSpPr>
            <p:cNvPr id="57" name=""/>
            <p:cNvSpPr/>
            <p:nvPr/>
          </p:nvSpPr>
          <p:spPr>
            <a:xfrm>
              <a:off x="655560" y="2781360"/>
              <a:ext cx="2160720" cy="647280"/>
            </a:xfrm>
            <a:prstGeom prst="ellipse">
              <a:avLst/>
            </a:prstGeom>
            <a:noFill/>
            <a:ln w="25560">
              <a:solidFill>
                <a:srgbClr val="36a35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816280" y="3141360"/>
              <a:ext cx="2376360" cy="0"/>
            </a:xfrm>
            <a:prstGeom prst="line">
              <a:avLst/>
            </a:prstGeom>
            <a:ln w="25560">
              <a:solidFill>
                <a:srgbClr val="36a35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269320" y="2781360"/>
              <a:ext cx="3868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atters for all stakeholders 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inforced by role in climate change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D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395280" y="3357720"/>
            <a:ext cx="8552880" cy="1074240"/>
            <a:chOff x="395280" y="3357720"/>
            <a:chExt cx="8552880" cy="1074240"/>
          </a:xfrm>
        </p:grpSpPr>
        <p:sp>
          <p:nvSpPr>
            <p:cNvPr id="61" name=""/>
            <p:cNvSpPr/>
            <p:nvPr/>
          </p:nvSpPr>
          <p:spPr>
            <a:xfrm>
              <a:off x="395280" y="3357720"/>
              <a:ext cx="3995640" cy="1008000"/>
            </a:xfrm>
            <a:prstGeom prst="ellipse">
              <a:avLst/>
            </a:prstGeom>
            <a:noFill/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27640" y="3860640"/>
              <a:ext cx="865080" cy="7308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367240" y="3789360"/>
              <a:ext cx="358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atters for government agencies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rule of law, taxes, …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" name=""/>
          <p:cNvGrpSpPr/>
          <p:nvPr/>
        </p:nvGrpSpPr>
        <p:grpSpPr>
          <a:xfrm>
            <a:off x="941400" y="4292640"/>
            <a:ext cx="8197920" cy="1492920"/>
            <a:chOff x="941400" y="4292640"/>
            <a:chExt cx="8197920" cy="1492920"/>
          </a:xfrm>
        </p:grpSpPr>
        <p:sp>
          <p:nvSpPr>
            <p:cNvPr id="65" name=""/>
            <p:cNvSpPr/>
            <p:nvPr/>
          </p:nvSpPr>
          <p:spPr>
            <a:xfrm>
              <a:off x="941400" y="4292640"/>
              <a:ext cx="2771640" cy="64764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13040" y="4652640"/>
              <a:ext cx="1944720" cy="4316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662080" y="4868640"/>
              <a:ext cx="3477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atters for civil society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decision-making, human rights,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igenous people, corruption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" name=""/>
          <p:cNvGrpSpPr/>
          <p:nvPr/>
        </p:nvGrpSpPr>
        <p:grpSpPr>
          <a:xfrm>
            <a:off x="1042920" y="4797360"/>
            <a:ext cx="7050240" cy="1650600"/>
            <a:chOff x="1042920" y="4797360"/>
            <a:chExt cx="7050240" cy="1650600"/>
          </a:xfrm>
        </p:grpSpPr>
        <p:sp>
          <p:nvSpPr>
            <p:cNvPr id="69" name=""/>
            <p:cNvSpPr/>
            <p:nvPr/>
          </p:nvSpPr>
          <p:spPr>
            <a:xfrm>
              <a:off x="1042920" y="4797360"/>
              <a:ext cx="1439640" cy="647640"/>
            </a:xfrm>
            <a:prstGeom prst="ellipse">
              <a:avLst/>
            </a:prstGeom>
            <a:noFill/>
            <a:ln w="255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482560" y="5157720"/>
              <a:ext cx="865440" cy="647640"/>
            </a:xfrm>
            <a:prstGeom prst="line">
              <a:avLst/>
            </a:prstGeom>
            <a:ln w="255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76360" y="5805360"/>
              <a:ext cx="4816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atters for private sector (access to markets,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unfair competition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10" descr="2909_EFI_Powerpoint_back_base2b"/>
          <p:cNvPicPr/>
          <p:nvPr/>
        </p:nvPicPr>
        <p:blipFill>
          <a:blip r:embed="rId1"/>
          <a:stretch/>
        </p:blipFill>
        <p:spPr>
          <a:xfrm>
            <a:off x="0" y="6138720"/>
            <a:ext cx="9145440" cy="7192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6" descr="2909_EFI_Powerpoint_background2c"/>
          <p:cNvPicPr/>
          <p:nvPr/>
        </p:nvPicPr>
        <p:blipFill>
          <a:blip r:embed="rId2"/>
          <a:stretch/>
        </p:blipFill>
        <p:spPr>
          <a:xfrm>
            <a:off x="-1440" y="0"/>
            <a:ext cx="9145440" cy="1438200"/>
          </a:xfrm>
          <a:prstGeom prst="rect">
            <a:avLst/>
          </a:prstGeom>
          <a:ln w="0">
            <a:noFill/>
          </a:ln>
        </p:spPr>
      </p:pic>
      <p:sp>
        <p:nvSpPr>
          <p:cNvPr id="74" name="Text Box 7"/>
          <p:cNvSpPr/>
          <p:nvPr/>
        </p:nvSpPr>
        <p:spPr>
          <a:xfrm>
            <a:off x="0" y="1484280"/>
            <a:ext cx="89647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6a353"/>
                </a:solidFill>
                <a:latin typeface="Arial"/>
              </a:rPr>
              <a:t>THE FRAMEWO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6"/>
          <p:cNvSpPr/>
          <p:nvPr/>
        </p:nvSpPr>
        <p:spPr>
          <a:xfrm>
            <a:off x="0" y="2708280"/>
            <a:ext cx="8964720" cy="35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36a353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U FLEGT Action Plan (200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36a353"/>
              </a:buClr>
              <a:buFont typeface="Arial"/>
              <a:buChar char="√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egislation, MS &amp; EU policy, DevCooperation, Non govt Initia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36a353"/>
              </a:buClr>
              <a:buFont typeface="Arial"/>
              <a:buChar char="√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36a353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LEGT Regulation (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36a353"/>
              </a:buClr>
              <a:buFont typeface="Arial"/>
              <a:buChar char="√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oluntary Partnership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36a353"/>
              </a:buClr>
              <a:buFont typeface="Arial"/>
              <a:buChar char="√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36a353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010 : Illegal Timber Regulation (due diligence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36a353"/>
              </a:buClr>
              <a:buFont typeface="Arial"/>
              <a:buChar char="√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Keep illegal timber and timber products off the EU mark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36a353"/>
              </a:buClr>
              <a:buFont typeface="Arial"/>
              <a:buChar char="√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36a353"/>
              </a:buClr>
              <a:buFont typeface="Arial"/>
              <a:buChar char="√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7"/>
          <p:cNvSpPr/>
          <p:nvPr/>
        </p:nvSpPr>
        <p:spPr>
          <a:xfrm>
            <a:off x="0" y="1341360"/>
            <a:ext cx="860436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6a353"/>
                </a:solidFill>
                <a:latin typeface="Arial"/>
              </a:rPr>
              <a:t>FLEGT : key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6" descr="2909_EFI_Powerpoint_background2c"/>
          <p:cNvPicPr/>
          <p:nvPr/>
        </p:nvPicPr>
        <p:blipFill>
          <a:blip r:embed="rId1"/>
          <a:stretch/>
        </p:blipFill>
        <p:spPr>
          <a:xfrm>
            <a:off x="-1440" y="0"/>
            <a:ext cx="9145440" cy="14382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179280" y="1844640"/>
            <a:ext cx="8964720" cy="200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6a353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hared responsibilities (EU &amp; Timber produc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6a353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velopment &amp; Tra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6a353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mand &amp; Supp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6a353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mmission &amp; Member St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6a353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Voluntary: Strengthen partner country’s ownership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79280" y="3860640"/>
            <a:ext cx="89647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6a353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mmercial Treaty but not a commercial negoti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6a353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Arial"/>
              </a:rPr>
              <a:t>Creates an opportunity for stakeholder eng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6a353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6a353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U customs to block entry of non-licensed ti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6a353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system to verify legal compliance, confirmed though a lic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6a353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dependent Audit/ monitor of system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6a353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Arial"/>
              </a:rPr>
              <a:t>Associated transparency and communication meas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6a353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Arial"/>
              </a:rPr>
              <a:t>Finance : outside the agreement but importan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7"/>
          <p:cNvSpPr/>
          <p:nvPr/>
        </p:nvSpPr>
        <p:spPr>
          <a:xfrm>
            <a:off x="0" y="3500280"/>
            <a:ext cx="860436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6a353"/>
                </a:solidFill>
                <a:latin typeface="Arial"/>
              </a:rPr>
              <a:t>VPA : key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10" descr="2909_EFI_Powerpoint_back_base2b"/>
          <p:cNvPicPr/>
          <p:nvPr/>
        </p:nvPicPr>
        <p:blipFill>
          <a:blip r:embed="rId1"/>
          <a:stretch/>
        </p:blipFill>
        <p:spPr>
          <a:xfrm>
            <a:off x="0" y="6138720"/>
            <a:ext cx="9145440" cy="7192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2909_EFI_Powerpoint_background2c"/>
          <p:cNvPicPr/>
          <p:nvPr/>
        </p:nvPicPr>
        <p:blipFill>
          <a:blip r:embed="rId2"/>
          <a:stretch/>
        </p:blipFill>
        <p:spPr>
          <a:xfrm>
            <a:off x="-1440" y="0"/>
            <a:ext cx="9145440" cy="1438200"/>
          </a:xfrm>
          <a:prstGeom prst="rect">
            <a:avLst/>
          </a:prstGeom>
          <a:ln w="0">
            <a:noFill/>
          </a:ln>
        </p:spPr>
      </p:pic>
      <p:sp>
        <p:nvSpPr>
          <p:cNvPr id="83" name="Text Box 7"/>
          <p:cNvSpPr/>
          <p:nvPr/>
        </p:nvSpPr>
        <p:spPr>
          <a:xfrm>
            <a:off x="108000" y="1484280"/>
            <a:ext cx="88200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6a353"/>
                </a:solidFill>
                <a:latin typeface="Arial"/>
              </a:rPr>
              <a:t>Key elements of a V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6"/>
          <p:cNvSpPr/>
          <p:nvPr/>
        </p:nvSpPr>
        <p:spPr>
          <a:xfrm>
            <a:off x="0" y="2060640"/>
            <a:ext cx="9144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36a353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egality Definition: partners laws, cla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36a353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egality Assurance System: verifies compliance with defin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36a353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censing of verified legal ti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36a353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dependent Audit/ monitor of system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36a353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U has requirements set out in briefing no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egality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GB" sz="2400" spc="-1" strike="noStrike">
                <a:solidFill>
                  <a:srgbClr val="36a353"/>
                </a:solidFill>
                <a:latin typeface="Wingdings"/>
                <a:ea typeface="Wingdings"/>
              </a:rPr>
              <a:t>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based on existing legal fram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S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GB" sz="2400" spc="-1" strike="noStrike">
                <a:solidFill>
                  <a:srgbClr val="36a353"/>
                </a:solidFill>
                <a:latin typeface="Wingdings"/>
                <a:ea typeface="Wingdings"/>
              </a:rPr>
              <a:t></a:t>
            </a:r>
            <a:r>
              <a:rPr b="0" lang="en-GB" sz="2400" spc="-1" strike="noStrike">
                <a:solidFill>
                  <a:srgbClr val="36a353"/>
                </a:solidFill>
                <a:latin typeface="Arial"/>
                <a:ea typeface="ＭＳ Ｐゴシック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valuated against established crite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ulti-stakeholder process </a:t>
            </a:r>
            <a:r>
              <a:rPr b="0" lang="en-GB" sz="2400" spc="-1" strike="noStrike">
                <a:solidFill>
                  <a:srgbClr val="36a353"/>
                </a:solidFill>
                <a:latin typeface="Wingdings"/>
                <a:ea typeface="Wingdings"/>
              </a:rPr>
              <a:t>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credibility nationally &amp; internationall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36a353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36a353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10" descr="2909_EFI_Powerpoint_back_base2b"/>
          <p:cNvPicPr/>
          <p:nvPr/>
        </p:nvPicPr>
        <p:blipFill>
          <a:blip r:embed="rId1"/>
          <a:stretch/>
        </p:blipFill>
        <p:spPr>
          <a:xfrm>
            <a:off x="0" y="6138720"/>
            <a:ext cx="9145440" cy="719280"/>
          </a:xfrm>
          <a:prstGeom prst="rect">
            <a:avLst/>
          </a:prstGeom>
          <a:ln w="0">
            <a:noFill/>
          </a:ln>
        </p:spPr>
      </p:pic>
      <p:sp>
        <p:nvSpPr>
          <p:cNvPr id="86" name="Text Box 7"/>
          <p:cNvSpPr/>
          <p:nvPr/>
        </p:nvSpPr>
        <p:spPr>
          <a:xfrm>
            <a:off x="250920" y="1484280"/>
            <a:ext cx="856908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6a353"/>
                </a:solidFill>
                <a:latin typeface="Arial"/>
              </a:rPr>
              <a:t>Steps in building Partnership Agre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Establishes platform for stakeholder input throughout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Designed to encourage substantive reform where requi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6" descr="2909_EFI_Powerpoint_background2c"/>
          <p:cNvPicPr/>
          <p:nvPr/>
        </p:nvPicPr>
        <p:blipFill>
          <a:blip r:embed="rId2"/>
          <a:stretch/>
        </p:blipFill>
        <p:spPr>
          <a:xfrm>
            <a:off x="-1440" y="0"/>
            <a:ext cx="9145440" cy="1438200"/>
          </a:xfrm>
          <a:prstGeom prst="rect">
            <a:avLst/>
          </a:prstGeom>
          <a:ln w="0">
            <a:noFill/>
          </a:ln>
        </p:spPr>
      </p:pic>
      <p:sp>
        <p:nvSpPr>
          <p:cNvPr id="88" name="Text Box 6"/>
          <p:cNvSpPr/>
          <p:nvPr/>
        </p:nvSpPr>
        <p:spPr>
          <a:xfrm>
            <a:off x="8675640" y="476280"/>
            <a:ext cx="93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Diagram 4" descr=""/>
          <p:cNvPicPr/>
          <p:nvPr/>
        </p:nvPicPr>
        <p:blipFill>
          <a:blip r:embed="rId3"/>
          <a:stretch/>
        </p:blipFill>
        <p:spPr>
          <a:xfrm>
            <a:off x="0" y="2349360"/>
            <a:ext cx="9144000" cy="439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252360" y="1217520"/>
            <a:ext cx="8856720" cy="40118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08000" y="115920"/>
            <a:ext cx="287280" cy="2160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8000" y="979560"/>
            <a:ext cx="287280" cy="216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95280" y="115920"/>
            <a:ext cx="3672000" cy="133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EGT licenses (not ye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al negoti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ing to negoti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paration, in-country consensus buil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tion to VP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08000" y="331920"/>
            <a:ext cx="287280" cy="21564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08000" y="763560"/>
            <a:ext cx="287280" cy="21600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08000" y="547560"/>
            <a:ext cx="287280" cy="2160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571640" y="3573000"/>
            <a:ext cx="864000" cy="1658160"/>
            <a:chOff x="4571640" y="3573000"/>
            <a:chExt cx="864000" cy="1658160"/>
          </a:xfrm>
        </p:grpSpPr>
        <p:pic>
          <p:nvPicPr>
            <p:cNvPr id="98" name="" descr=""/>
            <p:cNvPicPr/>
            <p:nvPr/>
          </p:nvPicPr>
          <p:blipFill>
            <a:blip r:embed="rId2"/>
            <a:stretch/>
          </p:blipFill>
          <p:spPr>
            <a:xfrm>
              <a:off x="4859280" y="4653000"/>
              <a:ext cx="576360" cy="37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4881240" y="4984920"/>
              <a:ext cx="552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Cong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 flipV="1">
              <a:off x="4571640" y="3573000"/>
              <a:ext cx="358920" cy="107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4716000" y="3357720"/>
            <a:ext cx="1656360" cy="1901880"/>
            <a:chOff x="4716000" y="3357720"/>
            <a:chExt cx="1656360" cy="1901880"/>
          </a:xfrm>
        </p:grpSpPr>
        <p:grpSp>
          <p:nvGrpSpPr>
            <p:cNvPr id="102" name=""/>
            <p:cNvGrpSpPr/>
            <p:nvPr/>
          </p:nvGrpSpPr>
          <p:grpSpPr>
            <a:xfrm>
              <a:off x="5796000" y="4653000"/>
              <a:ext cx="576360" cy="606600"/>
              <a:chOff x="5796000" y="4653000"/>
              <a:chExt cx="576360" cy="606600"/>
            </a:xfrm>
          </p:grpSpPr>
          <p:sp>
            <p:nvSpPr>
              <p:cNvPr id="103" name=""/>
              <p:cNvSpPr/>
              <p:nvPr/>
            </p:nvSpPr>
            <p:spPr>
              <a:xfrm>
                <a:off x="5817240" y="5013360"/>
                <a:ext cx="5526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Arial"/>
                  </a:rPr>
                  <a:t>C.A.R.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4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5796000" y="4653000"/>
                <a:ext cx="576360" cy="3841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05" name=""/>
            <p:cNvSpPr/>
            <p:nvPr/>
          </p:nvSpPr>
          <p:spPr>
            <a:xfrm flipH="1" flipV="1">
              <a:off x="4716000" y="3357720"/>
              <a:ext cx="136836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6803640" y="2997360"/>
            <a:ext cx="2158200" cy="504360"/>
            <a:chOff x="6803640" y="2997360"/>
            <a:chExt cx="2158200" cy="504360"/>
          </a:xfrm>
        </p:grpSpPr>
        <p:grpSp>
          <p:nvGrpSpPr>
            <p:cNvPr id="107" name=""/>
            <p:cNvGrpSpPr/>
            <p:nvPr/>
          </p:nvGrpSpPr>
          <p:grpSpPr>
            <a:xfrm>
              <a:off x="8282880" y="2997360"/>
              <a:ext cx="678960" cy="504360"/>
              <a:chOff x="8282880" y="2997360"/>
              <a:chExt cx="678960" cy="504360"/>
            </a:xfrm>
          </p:grpSpPr>
          <p:sp>
            <p:nvSpPr>
              <p:cNvPr id="108" name=""/>
              <p:cNvSpPr/>
              <p:nvPr/>
            </p:nvSpPr>
            <p:spPr>
              <a:xfrm>
                <a:off x="8282880" y="3255480"/>
                <a:ext cx="6789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Arial"/>
                  </a:rPr>
                  <a:t>Malaysia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344440" y="2997360"/>
                <a:ext cx="582840" cy="3232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0" name=""/>
            <p:cNvSpPr/>
            <p:nvPr/>
          </p:nvSpPr>
          <p:spPr>
            <a:xfrm flipH="1">
              <a:off x="6803640" y="3141720"/>
              <a:ext cx="151308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6876720" y="3500280"/>
            <a:ext cx="2097720" cy="606600"/>
            <a:chOff x="6876720" y="3500280"/>
            <a:chExt cx="2097720" cy="606600"/>
          </a:xfrm>
        </p:grpSpPr>
        <p:grpSp>
          <p:nvGrpSpPr>
            <p:cNvPr id="112" name=""/>
            <p:cNvGrpSpPr/>
            <p:nvPr/>
          </p:nvGrpSpPr>
          <p:grpSpPr>
            <a:xfrm>
              <a:off x="8246520" y="3500280"/>
              <a:ext cx="727920" cy="606600"/>
              <a:chOff x="8246520" y="3500280"/>
              <a:chExt cx="727920" cy="606600"/>
            </a:xfrm>
          </p:grpSpPr>
          <p:sp>
            <p:nvSpPr>
              <p:cNvPr id="113" name=""/>
              <p:cNvSpPr/>
              <p:nvPr/>
            </p:nvSpPr>
            <p:spPr>
              <a:xfrm>
                <a:off x="8246520" y="3860640"/>
                <a:ext cx="727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Arial"/>
                  </a:rPr>
                  <a:t>Indonesia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4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316720" y="3500280"/>
                <a:ext cx="575640" cy="38412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</p:grpSp>
        <p:sp>
          <p:nvSpPr>
            <p:cNvPr id="115" name=""/>
            <p:cNvSpPr/>
            <p:nvPr/>
          </p:nvSpPr>
          <p:spPr>
            <a:xfrm flipH="1" flipV="1">
              <a:off x="6876720" y="3645000"/>
              <a:ext cx="143964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3278880" y="3357720"/>
            <a:ext cx="1221840" cy="1900080"/>
            <a:chOff x="3278880" y="3357720"/>
            <a:chExt cx="1221840" cy="1900080"/>
          </a:xfrm>
        </p:grpSpPr>
        <p:grpSp>
          <p:nvGrpSpPr>
            <p:cNvPr id="117" name=""/>
            <p:cNvGrpSpPr/>
            <p:nvPr/>
          </p:nvGrpSpPr>
          <p:grpSpPr>
            <a:xfrm>
              <a:off x="3278880" y="4653000"/>
              <a:ext cx="770400" cy="604800"/>
              <a:chOff x="3278880" y="4653000"/>
              <a:chExt cx="770400" cy="604800"/>
            </a:xfrm>
          </p:grpSpPr>
          <p:pic>
            <p:nvPicPr>
              <p:cNvPr id="118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3421440" y="4653000"/>
                <a:ext cx="576000" cy="384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" name=""/>
              <p:cNvSpPr/>
              <p:nvPr/>
            </p:nvSpPr>
            <p:spPr>
              <a:xfrm>
                <a:off x="3278880" y="5011560"/>
                <a:ext cx="7704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Arial"/>
                  </a:rPr>
                  <a:t>Cameroon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" name=""/>
            <p:cNvSpPr/>
            <p:nvPr/>
          </p:nvSpPr>
          <p:spPr>
            <a:xfrm flipV="1">
              <a:off x="3635280" y="3357720"/>
              <a:ext cx="86544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39640" y="3357720"/>
            <a:ext cx="3600360" cy="1730520"/>
            <a:chOff x="539640" y="3357720"/>
            <a:chExt cx="3600360" cy="1730520"/>
          </a:xfrm>
        </p:grpSpPr>
        <p:grpSp>
          <p:nvGrpSpPr>
            <p:cNvPr id="122" name=""/>
            <p:cNvGrpSpPr/>
            <p:nvPr/>
          </p:nvGrpSpPr>
          <p:grpSpPr>
            <a:xfrm>
              <a:off x="539640" y="4510080"/>
              <a:ext cx="563760" cy="578160"/>
              <a:chOff x="539640" y="4510080"/>
              <a:chExt cx="563760" cy="578160"/>
            </a:xfrm>
          </p:grpSpPr>
          <p:pic>
            <p:nvPicPr>
              <p:cNvPr id="123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39640" y="4510080"/>
                <a:ext cx="563760" cy="382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" name=""/>
              <p:cNvSpPr/>
              <p:nvPr/>
            </p:nvSpPr>
            <p:spPr>
              <a:xfrm>
                <a:off x="540720" y="4842000"/>
                <a:ext cx="560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Arial"/>
                  </a:rPr>
                  <a:t>Ghana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5" name=""/>
            <p:cNvSpPr/>
            <p:nvPr/>
          </p:nvSpPr>
          <p:spPr>
            <a:xfrm flipV="1">
              <a:off x="1104480" y="3357720"/>
              <a:ext cx="3035520" cy="151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39640" y="3357360"/>
            <a:ext cx="3384360" cy="821160"/>
            <a:chOff x="539640" y="3357360"/>
            <a:chExt cx="3384360" cy="821160"/>
          </a:xfrm>
        </p:grpSpPr>
        <p:grpSp>
          <p:nvGrpSpPr>
            <p:cNvPr id="127" name=""/>
            <p:cNvGrpSpPr/>
            <p:nvPr/>
          </p:nvGrpSpPr>
          <p:grpSpPr>
            <a:xfrm>
              <a:off x="539640" y="3645000"/>
              <a:ext cx="564120" cy="533520"/>
              <a:chOff x="539640" y="3645000"/>
              <a:chExt cx="564120" cy="533520"/>
            </a:xfrm>
          </p:grpSpPr>
          <p:sp>
            <p:nvSpPr>
              <p:cNvPr id="128" name=""/>
              <p:cNvSpPr/>
              <p:nvPr/>
            </p:nvSpPr>
            <p:spPr>
              <a:xfrm>
                <a:off x="542160" y="3932280"/>
                <a:ext cx="5587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Arial"/>
                  </a:rPr>
                  <a:t>Liberia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9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539640" y="3645000"/>
                <a:ext cx="564120" cy="3031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30" name=""/>
            <p:cNvSpPr/>
            <p:nvPr/>
          </p:nvSpPr>
          <p:spPr>
            <a:xfrm flipV="1">
              <a:off x="1103760" y="3357360"/>
              <a:ext cx="282024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108000" y="1195560"/>
            <a:ext cx="287280" cy="215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7"/>
          <p:cNvSpPr/>
          <p:nvPr/>
        </p:nvSpPr>
        <p:spPr>
          <a:xfrm>
            <a:off x="3564000" y="44280"/>
            <a:ext cx="5400720" cy="131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6a353"/>
                </a:solidFill>
                <a:latin typeface="Arial"/>
              </a:rPr>
              <a:t>FLEGT VPA partner coun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6a353"/>
                </a:solidFill>
                <a:latin typeface="Arial"/>
              </a:rPr>
              <a:t>November 20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4140360" y="3573360"/>
            <a:ext cx="576000" cy="2305440"/>
            <a:chOff x="4140360" y="3573360"/>
            <a:chExt cx="576000" cy="2305440"/>
          </a:xfrm>
        </p:grpSpPr>
        <p:pic>
          <p:nvPicPr>
            <p:cNvPr id="134" name="" descr=""/>
            <p:cNvPicPr/>
            <p:nvPr/>
          </p:nvPicPr>
          <p:blipFill>
            <a:blip r:embed="rId9"/>
            <a:stretch/>
          </p:blipFill>
          <p:spPr>
            <a:xfrm>
              <a:off x="4140360" y="5291280"/>
              <a:ext cx="576000" cy="39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"/>
            <p:cNvSpPr/>
            <p:nvPr/>
          </p:nvSpPr>
          <p:spPr>
            <a:xfrm>
              <a:off x="4141080" y="5632560"/>
              <a:ext cx="560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Gab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 flipV="1">
              <a:off x="4356000" y="3573360"/>
              <a:ext cx="71640" cy="172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4788000" y="3644640"/>
            <a:ext cx="1403280" cy="2262600"/>
            <a:chOff x="4788000" y="3644640"/>
            <a:chExt cx="1403280" cy="2262600"/>
          </a:xfrm>
        </p:grpSpPr>
        <p:pic>
          <p:nvPicPr>
            <p:cNvPr id="138" name="" descr=""/>
            <p:cNvPicPr/>
            <p:nvPr/>
          </p:nvPicPr>
          <p:blipFill>
            <a:blip r:embed="rId10"/>
            <a:stretch/>
          </p:blipFill>
          <p:spPr>
            <a:xfrm>
              <a:off x="5651640" y="5300640"/>
              <a:ext cx="539640" cy="35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"/>
            <p:cNvSpPr/>
            <p:nvPr/>
          </p:nvSpPr>
          <p:spPr>
            <a:xfrm>
              <a:off x="5654160" y="5661000"/>
              <a:ext cx="455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DRC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 flipV="1">
              <a:off x="4788000" y="3644640"/>
              <a:ext cx="1079280" cy="165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6804000" y="2276640"/>
            <a:ext cx="2085120" cy="647640"/>
            <a:chOff x="6804000" y="2276640"/>
            <a:chExt cx="2085120" cy="647640"/>
          </a:xfrm>
        </p:grpSpPr>
        <p:pic>
          <p:nvPicPr>
            <p:cNvPr id="142" name="" descr=""/>
            <p:cNvPicPr/>
            <p:nvPr/>
          </p:nvPicPr>
          <p:blipFill>
            <a:blip r:embed="rId11"/>
            <a:stretch/>
          </p:blipFill>
          <p:spPr>
            <a:xfrm>
              <a:off x="8278920" y="2276640"/>
              <a:ext cx="576000" cy="3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"/>
            <p:cNvSpPr/>
            <p:nvPr/>
          </p:nvSpPr>
          <p:spPr>
            <a:xfrm flipH="1">
              <a:off x="6804000" y="2492280"/>
              <a:ext cx="144000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6520" y="2637000"/>
              <a:ext cx="642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Vietna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falcoju</cp:lastModifiedBy>
  <dcterms:modified xsi:type="dcterms:W3CDTF">2011-01-07T19:44:34Z</dcterms:modified>
  <cp:revision>42</cp:revision>
  <dc:subject/>
  <dc:title>PowerPoint Presentation</dc:title>
</cp:coreProperties>
</file>