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D145-7931-4B5C-BE9D-4A094C1FE1C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448D-51DD-4243-BE7A-B09A9D64D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15DC-DF2C-4B99-AF4F-FEFD95D0BE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0185-723A-421C-9209-CE2C53378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3CA5-9288-4F74-BC28-FB3DB376E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D9BB-AA96-4F8D-A4FF-0928C7DE2A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5CB2-1D40-4747-A64C-61D7B2093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EDDE-1322-4736-8AC3-DC5F0BE0A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BAAA-84EA-47A4-BA77-605D9F542C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081A-614B-48C1-88C8-3F9151B3E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45B3-D016-4A1F-AEA9-A46963F5C4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1402-8B2E-4BC7-BA57-ABA30F4D49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a unit of measurement, used to describe a situation, monitor the evolution of a situation or measure achievements against an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measurement may be based on quantitative or qualitativ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performance standard to be reached; the concrete translation of an objective, expressed by means of an indicator (possibly expressed against a baseline) associated with a point in time (by which the target is expected to be re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key step in the process of developing or implementing a policy, programme or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adoption of a policy, law or regulation, establishment of a coordination structure, restructuring of an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lisation/completion of a milestone is a way of measuring progress towards an objective but it is not an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11F0-A88B-46A7-AEFF-EC55FFF72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CB46-B7E6-46DE-9277-DF530E2D4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5D72-10EC-48B5-9F96-074A7E57BB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78EF-E9FB-4114-B7D0-146AA22BE3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DC92-658F-4C22-A14D-6B8519649E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1F07-9ED3-4741-BD5E-C247DEEAF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D4B9-76D8-43E6-A313-3CC5F4581A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F526-6E86-4D27-BBD1-C4F44E7D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B60-11ED-4A00-B7CD-63B15373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72B-E59A-486A-893C-E34CED72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30E-973A-47FD-A35A-DF51CAFD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39A5-FF9B-4092-B92E-28CAE965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34CB-1DFD-4793-A64D-8D804202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1866-B662-4944-90B9-E65C8DBD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016A-979F-4E48-AA0F-D85A6745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C8CB-AF73-4737-A666-D3FD77BC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10AC-1EC3-497F-B335-6607917C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701D-4FEA-4348-9FB1-C5A277E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195-F12F-41EC-BDEF-1FFF7D6F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2AC5-52AB-4119-90CE-5196DD48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9B38-B374-43EF-B3F4-50984DF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03C6-7ECB-4680-A543-6E132EA6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4E98-2A10-4FA6-811B-6FCFB84C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E117-35BB-4DAE-B251-513ADEBB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D15-33E4-4F8C-A3D0-43930C76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460-8221-4A02-874C-6BA8347F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3CF-D562-4817-B6C3-2F79F6EF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E60-512A-468B-B5D9-4FC374F5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393-80AD-4B3B-A575-A9FE5508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228-251D-4D68-B09C-95F3027E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322-976A-488D-996E-B64F9E38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0F7B-0C65-4A91-8472-B9CDA01053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D791-D94E-48C8-B921-C9A9D642D42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country 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nitoring system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78A4-A01C-4BF8-A978-6741E3099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licy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itutional 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tegration of environment/climate change considerations in national &amp; sector policies/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adaptation- &amp; mitigation-oriented policies &amp; plans (e.g. DRR, REDD </a:t>
            </a: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ateg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evelopment of environment-specific policies &amp; plans (e.g. IWRM, biodiversity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olitical leadership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stitutional commit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oordination &amp; participatory mechanis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ced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apacity building program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mainstreaming getting institutionalised at all level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5D8F-8D40-420B-A1A4-102751E1D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mplementation (inputs, output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191628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utcomes, impa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allocation of resour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(Inclusion of) environment/climate change (measures in) programmes/projec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mplementation &amp; enforcement of environment/climate change measures &amp; regul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educed environmental degradation and its incidence on poverty/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vulnerable groups (women, children, farmers, coastal communities, ..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creased resilience of key secto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growth, </a:t>
            </a:r>
            <a:br>
              <a:rPr sz="1400"/>
            </a:b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green job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nvironmentally sustainable, climate-resilient, low-emission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Does the mainstreaming process produce results and impact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assessment frameworks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d budget suppor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CEE1-8A3E-4ACE-8383-21C6CC7DF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Role of PAFs in relation to budget support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gress measured against the PAF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 criteria 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 targets provides opportunities for policy dialogue in the context of budget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reasingly, the PAF associated with development and poverty reduction strategies is likely to include indicators and targets associated with environmental sustainability, climate change adaptation, disaster risk reduction, energy efficiency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 the case of EC budget support, performance against a chosen sub-set of criteria and targets also determines the final amount of disburs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BE3E-045A-473C-A67A-C35972F8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iscussion and action plann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23A5-04D4-40F9-824B-EB19D6F23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and institution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ing policy implementation and outco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5A4F-93EF-440E-B661-C13DFB467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292640"/>
            <a:ext cx="5410440" cy="194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can be done and what are the institutional and capacity needs in your country/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monitoring, and monitoring of responses for environmental sustainability and climate change, should be integrated into existing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s is a key aspect of the mainstreaming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ultiple aspects can be subject to monito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state of environmental variables closely linked to poverty and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variability and change and their impa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policies and institu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implementation and outcomes of adaptation and mitigation measur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650E-D7AC-4107-B27D-ECD80A7AC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orld Bank report o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instreaming Adaptation to Climate Change in Agriculture and Natural Resources Management Proj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pean Commission Guidance on the Integration of Environment and Climate Change in Development Cooper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B906-E9B7-489B-A8FC-953F89409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3336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Aid Delivery Methods series, Volume 1. European Commission, Brussel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9) Guidance on Integration of the Environment and Climate Change in Development Cooperation. EuropeAid Tools and Methods Series Guidelines No. 4, Brussels. Available from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ECD (2002) Glossary of Key Terms in Evaluation and Results Based Management. OECD Publishing, Paris. Available from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568A-6EF6-4359-BA82-3C98DE78B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Performance measurement and monitoring: </a:t>
            </a:r>
            <a:br>
              <a:rPr sz="2800"/>
            </a:b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Key concept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8180-F367-435E-8D03-D567B7EA4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ctives and related indicators/mileston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77336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erarchy of objectiv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773360"/>
            <a:ext cx="2971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Progress measure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57976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49416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Specific objective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405320"/>
            <a:ext cx="2971800" cy="39888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termediate resul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39888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57800" y="2576520"/>
            <a:ext cx="2971800" cy="39888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ac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490920"/>
            <a:ext cx="2971800" cy="39888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come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2530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Out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167440"/>
            <a:ext cx="2971800" cy="70380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nput indica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Mileston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78480" y="480456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78480" y="3893760"/>
            <a:ext cx="3960" cy="511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>
            <a:stCxn id="103" idx="0"/>
            <a:endCxn id="102" idx="2"/>
          </p:cNvCxnSpPr>
          <p:nvPr/>
        </p:nvCxnSpPr>
        <p:spPr>
          <a:xfrm flipV="1">
            <a:off x="2778480" y="2979000"/>
            <a:ext cx="3960" cy="51516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 flipV="1">
            <a:off x="4266720" y="55195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 flipV="1">
            <a:off x="4266720" y="4605120"/>
            <a:ext cx="991440" cy="21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6910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720" y="2776680"/>
            <a:ext cx="991440" cy="36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57200" y="1989000"/>
            <a:ext cx="304920" cy="2040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Outcom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57200" y="427356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EC (2004), OECD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1F5F-55C4-4B81-A716-81E436EDD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MART indicators and targe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C253-83F6-4731-876A-D832194E9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206064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ors and targets should be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pecific to the related objectiv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sur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vailable at a reasonable cos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evant to information needs of decision maker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ime-bound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ource: EC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instreaming environment and climate change in monitoring system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2918-216D-4E6C-A3B1-C4E8D8ECF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should be monitored, and why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10A8-1DFD-4D77-8B6F-6CD1B50D6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989000"/>
          <a:ext cx="8686800" cy="463896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 to monit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tionale for monitor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s in environmental parameters that influence poverty/development in a significant man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-informed as possible to take opportunities to enhance effects on poverty reduction and revert adverse trend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mate variability and change, impacts and vulnerabilit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decisions as well informed as pos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adaptive man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and institutional chang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e the institutionalisation of environmental and climate change mainstreaming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transparency and accountability of the mainstreaming proces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/Strategy implementation and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commitment to the objectives set in policies and strategi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mulate the achievement of tangible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nvironment and climate change in the national development monitoring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 and climate change monitoring should be integrated into wider national and specific development monitoring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Strengthen and adapt existing monitoring systems (incl. statistical systems) to integrate environment and climate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ild on existing institutions and sources of information..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... but adapt statistical systems and data sour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1067-6462-4CFB-8FD9-569E6E930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evels at which to measure environment- and climate-related performanc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tors and milestones related to environment/climate change and the associated response can be included in the PAFs 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of environmental and climate change strategies and actions plans, but also those of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ational and sectoral development strategies and programm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-national (e.g. regional, local) development pla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vidual projects (logical framewor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Performance assessment framework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15328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364000" y="5867280"/>
            <a:ext cx="306576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ltimate objective of mainstreaming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B13A-5743-45FD-8F94-DD9370512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ing environment &amp;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B7EC-7B0B-4581-A9B9-A3EECCC62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57336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Mainstream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191628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teorology, climate variability, environmental parameter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20500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28464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Data collection, management and dissemin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Strengthening of meteorological information &amp; system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28464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ew patter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merging trend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rojections, scenari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Tools for assessing impacts, vulnerabilitie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&amp; risk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487692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s the mainstreaming process based on reliable informatio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8T15:03:59Z</dcterms:modified>
  <cp:revision>119</cp:revision>
  <dc:subject/>
  <dc:title>Slide 1</dc:title>
</cp:coreProperties>
</file>