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10EF-E22F-49BD-A165-0104322312BD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2944-21F7-4FD0-A962-E43E568D14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D217-AFC9-4878-B067-B1B07CD239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552C-ACB5-4257-8612-13FA1A5A07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general course of action or proposed overall direction (“road map”) that a government is pursuing or intends to pursue, and which guides all “downstream” decision making; it usually reflects a long-term vision, defines high-level objectives and sets a number of priorities and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urposeful, forward-looking strategy, setting more precise objectives and coordinated priorities, that elaborates a policy and provides a framework for its implementation; it should ideally link objectives and priorities with the identification of required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, organised agenda or schedule of commitments, investments, projects and/or activities that elaborate and implement a plan and/or policy; it is the operational translation of a strategy, and will usually include a more detailed allocation of resources, as well as specific objectives to be achieved during a given tim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 set of activities that together, based on a detailed design, are expected to lead to the achievement of a specific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1734-CE7B-44BE-8394-491FF4E262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442F-AD01-4B54-A841-E3E9B1CBB8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29C5-4BC6-40D5-A94B-3CA0388A0E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9C0A-D8E4-4397-997A-387AC068DA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nd the Socio-economic situation both affect performance of different sectors (e.g. eroded grazing lands affect agriculture [e.g. critical in Lesotho]; large out-migration affects agricultural productivity [e.g. critical in Moldova]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development (planned and unplanned) also have impacts on the state of the environment and on the socio-economic situation (e.g. increase in use of pesticides as a policy for agricultural development can lead to water pollution and health impacts; construction of roads can fragment habitats and biological corrido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lso affects the socio-economic situation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ice ver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.g. low agricultural productivity is an incentive for migration and can also be an incentive for deforestation; water pollution affects heal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ages between the biophysical and socio-economic impacts of climate change are such that any specific effect tends to have implications in multipl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response, to be effective, thus also requires intersectoral coordination and integrated approa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rce resources must be allocated across sectors in the most efficient possible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tegrate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ased on a more comprehensive understanding of linkages, opportunities, risks and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ective respon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better coordination across sectors and between various levels of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icien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more enlightened prioritisation and alloc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more sustainabl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B36F-7F95-4811-B9DD-1F8C9E770D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streaming at strategic levels complements adaptation/mitigation projects and supports better integration than standalone climate action plans (although a climate action plan may be an outcome of the mainstreaming pro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provides the overall guiding policy framework within which “lower” levels (sectoral and sub-national) ope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policies and programmes directly contribute to the operationalisation and implementation of national policies/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key functions are best exercised at national level (e.g. collection and analysis of climate-related data, setting up of early warning systems, overall disaster risk reduction plann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absence of a national-level response to climate change, sector-level initiatives may start developing capacities and good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ional as well as sector-specific legislation/regulations: (i) affect vulnerability and adaptive capacity, and  (ii) create incentives and disincentives to engage in climate adaptation and mitig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manages international relations. This is important for shared resource management (e.g. cross-border river basins), for the implementation of international treaties including the UNFCCC, for aid coordination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-specific bodies are sometimes involved in transboundary cooperation on climate-relevant issues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e.g. river basin managemen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5931-559E-4C81-8AFE-3CCD541DD5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944B-777F-44B1-A576-5A5B6BCAF5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8FFF-CD3C-4095-97A8-6A09B9D791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A284-C832-4015-97FB-830518C851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1DDE-A207-4456-88AE-E6B69A0F8D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5AE-7ED9-49ED-BB10-9797E9F9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22D-D7F9-436B-B7B7-281CB3C4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0A4A-0028-40BC-BD9A-76E2E14F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EDD-47FC-454A-A23E-FF5E34C5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32AE-D5A3-4E15-AAAC-862F1DD6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FEF4-1A23-47DC-9DBA-8D8DD760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56E5-0D47-4AB3-B6B0-79990E36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295D-5304-473F-8D4B-50103332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9342-70E0-4E4A-91EE-9260978E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D906-0177-4A1C-AB40-1829C6D6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2C5B-8EC5-4634-AE01-65B36DEC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B0D-5117-4DE9-85B5-23079300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E7B6-E632-4FFA-8407-F6762114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C0EA-B859-4998-8786-F1B6D1D5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0CCD-2A8F-4D58-AD94-DA309D49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6CED-6F8B-43C1-8695-9F0F9ACE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9758-0E8B-4C42-AEC7-03789C66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D21-685B-49C9-A490-BC4F4574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4A2-F025-4E51-89AE-34E68917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A43-91B7-4DA5-93FC-F98D70AE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7BA-9A5E-4E25-8B14-E0EB8C10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5EA-5796-425B-ACEE-461FAD9B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17B-69A7-48F9-965C-1455301C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39D-9DA2-4422-9F76-99B41856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1447-2CD3-4F98-BEEF-28B227B757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FA55-32F0-4B81-995B-66509BBBA96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national, sector and sub-national policies, strategies and programm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ools for mainstreaming environment and climate change in 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EBB3-A910-4600-A4B5-4F33B4200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ools supporting awarenes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aising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BC0F-5AAF-459B-ACFC-36D842F24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wareness rais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fluence on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Vulnerability and adaptation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cro and meso economic analysi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Demonstration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49568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... are also useful for influencing policies and informing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 flipH="1">
            <a:off x="6481440" y="4053960"/>
            <a:ext cx="2160" cy="3279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ntegrated ecosystem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Knowledge, communication and advocacy strateg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uropeAid’s Guidelines on integration of environment and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5F5D-6CC6-4579-A190-86BA4AE5AE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20080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eneral environmental issues in cooperation focal area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3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ance for integrating environmental and climate-related aspects in SPSP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elines for integrating environmental and climate related aspects in project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581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uropeAid’s climate chang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ctor scrip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A76A-19EC-4663-B8A0-8EB920C049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riculture and rural develop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cosystems and biodiversity manag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nergy suppl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frastructure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olid waste manage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 and invest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ater supply and sanitatio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0D1E-4A96-4175-A3EF-4D0CA3DB018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trategic environmental 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ment (SE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 iterative and participative proces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alysing potential environmental consequences of proposed policies/plans/programmes, as well as the main environmental opportunities, risks and constraints to be taken into acc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aking into consideration the expected effects of climate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r the purpose of promoting more sustainable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715000"/>
            <a:ext cx="6705360" cy="838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sures that environmental considerations are taken into account EARLY in the policy &amp; planning proces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pproaches to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ased on draft PPP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in parallel to PPP elaboration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fully integra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E9AC-1D74-4AE5-98C5-DE7745CEA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" descr="SEA process 1.png"/>
          <p:cNvPicPr/>
          <p:nvPr/>
        </p:nvPicPr>
        <p:blipFill>
          <a:blip r:embed="rId1"/>
          <a:stretch/>
        </p:blipFill>
        <p:spPr>
          <a:xfrm>
            <a:off x="395280" y="3213000"/>
            <a:ext cx="3960720" cy="2629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2" descr="SEA process 2.png"/>
          <p:cNvPicPr/>
          <p:nvPr/>
        </p:nvPicPr>
        <p:blipFill>
          <a:blip r:embed="rId2"/>
          <a:stretch/>
        </p:blipFill>
        <p:spPr>
          <a:xfrm>
            <a:off x="4716360" y="3146400"/>
            <a:ext cx="4222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Guidelines for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B48B-5BB3-46F2-A368-E7C40FE74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xamples of SE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2B8A-B492-4852-9C0F-65C62F2E0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Rwanda’s Agricultural Polic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Zambia’s sugar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Sierra Leone’s mining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Example: supporting the development of a national SEA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Chile the EU supported the development of the national SEA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tting up of an SEA department within the environmental author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velopment of regulatory framework and guida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ilot SEAs to build capacities and test the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es potential risks for a programme or project by assessing, in its specific contex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standard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screening questionnair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an be developed to support this exerci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76FF-0313-485D-8CEA-ED996801D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1295280" y="281952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sure to the effects of C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1295280" y="3581280"/>
            <a:ext cx="2362320" cy="609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sitivity to such eff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1295280" y="4343400"/>
            <a:ext cx="236232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&amp; adaptation capacit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3619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ladaptation risk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361960" cy="1368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acts on clima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GHG emissions/ emission removal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 mainstream environment and climate change at the national, sector and sub-national leve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473B-54EC-4686-A53D-3E43361A2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arious tools available, e.g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World Ban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UK climate impacts programm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anida Climate change screening matri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ee, e.g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79F5-753D-478A-B492-EC6F03CD1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utcomes of 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4FD2-00BD-499D-B251-6141B6EBB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GHG emissions or emission removal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gnifica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1616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780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adaptation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7800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 for reduced vulnerability/enhanced adaptive capacity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532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 specific ac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84560"/>
            <a:ext cx="3780000" cy="79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for reduced maladaptation risk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81480"/>
            <a:ext cx="3780000" cy="43200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7800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 and enhancement of mitigation potenti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to the effects of CC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Risk of maladapt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ne or low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191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ediu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gh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Insignifica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73"/>
                </a:solidFill>
                <a:latin typeface="Calibri"/>
                <a:ea typeface="Calibri"/>
              </a:rPr>
              <a:t>(*) In proportion to the size/scope of the interven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468360" y="1413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s the assessment linked to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468360" y="215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strategy, programme or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Vulnerability and adaptation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33200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468360" y="3591000"/>
            <a:ext cx="287964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plan, programme, strategy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33200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46836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Strategic environmental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Environmental impact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508720" y="6232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  <a:ea typeface="Calibri"/>
              </a:rPr>
              <a:t>(*) With ToRs adapted to include climate-related consider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>
            <a:off x="3347640" y="2457000"/>
            <a:ext cx="648360" cy="252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 flipH="1">
            <a:off x="1907280" y="276336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>
            <a:off x="1906920" y="339228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</p:cNvCxnSpPr>
          <p:nvPr/>
        </p:nvCxnSpPr>
        <p:spPr>
          <a:xfrm flipH="1">
            <a:off x="1907280" y="420192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>
            <a:off x="1906920" y="483192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468360" y="627372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c8c93"/>
                </a:solidFill>
                <a:latin typeface="Calibri"/>
                <a:ea typeface="Calibri"/>
              </a:rPr>
              <a:t>(†) Climate risk screening can be applied before undertaking a more detailed assessment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7A53-1F33-4B0E-A79A-63F2A7F6B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Integrated ecosystem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in national and sector policies, strategies and program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81BA-D461-455B-BE50-0FDA05E8D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7b"/>
                </a:solidFill>
                <a:latin typeface="Verdana"/>
              </a:rPr>
              <a:t>What can be done and what are the institutional and capacity needs in your country/ 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26792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at strategic planning levels supports more integrated, effective, efficient and sustainable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16680" indent="-2372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top-down and bottom-up approaches are complementary and mainstreaming is also justified at loc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ultiple tools and approaches are available to support environmental and climate change mainstreaming in policies, strategies, programmes and proj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oth ad hoc studies and assessments, and integration of environmental and climate-related considerations in feasibility / formulation studies, support this mainstreaming proc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C970-523B-43E2-8C6B-BF743E71F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‘Sector scripts’ series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b) Guidelines on the Integration of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vironment and Climate Change in Development Cooperation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ECD DAC (2006) Applying Strategic Environmental Assessment, good practice guidance for development co-operation. OECD: Pari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2652-AC98-45BF-B544-F69CE00C0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 S. &amp; Hulme M. (2004) Does climate adaptation policy need probabilities? Climate Policy, vol. 4 (2) 107-128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owerpoint presentatio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(2009a) Integrating Climate Change Adaptation into Development Co-operation: Policy guidance. OECD Publishing, Paris. [Read-only, browse-it edition]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DAC (2010) Strategic Environmental Assessment and Adaptation to Climate Change. OECD: Pari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A stocktaking report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D1A7-99D2-4359-AAC5-09770DF37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62320"/>
            <a:ext cx="160020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te of the Envir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600200" cy="82404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cio-economic situ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>
            <a:off x="6819480" y="2946240"/>
            <a:ext cx="1080" cy="291240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654280"/>
            <a:ext cx="932760" cy="39744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6357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Sector coordin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llocation of resources across secto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ore: -integrated -effective-efficient-sustainable respon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56C1-6A8A-47B4-AF5E-A90B9F51F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21932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ma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91520" y="306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bio-physical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7010280" y="5029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ocio-economic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V="1">
            <a:off x="8153280" y="3789360"/>
            <a:ext cx="19080" cy="325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153280" y="4761000"/>
            <a:ext cx="0" cy="268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682760" y="2590200"/>
            <a:ext cx="40716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>
            <a:stCxn id="130" idx="2"/>
            <a:endCxn id="109" idx="3"/>
          </p:cNvCxnSpPr>
          <p:nvPr/>
        </p:nvCxnSpPr>
        <p:spPr>
          <a:xfrm rot="5400000">
            <a:off x="7556040" y="5676840"/>
            <a:ext cx="66060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2076480"/>
            <a:ext cx="37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verall guiding policy framework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076480"/>
            <a:ext cx="3959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perationalisation and implementation of national polici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Sector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5800" y="3456000"/>
            <a:ext cx="378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Exercise of some key func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Own initiatives, development of capacities &amp; good practi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Sector-specific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5800" y="277020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National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5800" y="414180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nagement of international rela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72000" y="4135320"/>
            <a:ext cx="4419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Transboundary cooperation on environment and climate-relevant issu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592360" y="51055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pool of resour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1752480" y="5940360"/>
            <a:ext cx="5639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re widespread capacity and institution build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592360" y="553068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ownership of respons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F727-FAC4-4A4C-80B0-E852D92F0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lower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evels of governanc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1981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ub-national and local lev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523880"/>
            <a:ext cx="2210040" cy="20574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st levels for observing / understanding development, environmental and climate change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600200"/>
            <a:ext cx="2133720" cy="129528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ulnerability and adaptive capacity are context-specifi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st options to respond to environmental degradation and adapt to CC require local implement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tential for piloting / pioneering initia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6F6D-9B23-4043-B2AA-69D0588F7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ey stakeholders and cross-level intera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0E3A-CC62-4104-BD51-750CFC16C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878508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Approaches to respond to environmental degradation and adapt to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523880"/>
            <a:ext cx="2895480" cy="9907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level incl. sec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289548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Verdana"/>
              </a:rPr>
              <a:t>Subnational levels (local i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93760" y="354204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Top-dow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Bottom-u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723960" y="2590920"/>
            <a:ext cx="17524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Model- and scenario-drive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hysical impacts and ‘biophysic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19814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Stakeholder approa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revailing socio-economic &amp; environmental conditions and on ‘soci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ational policies &amp; 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Community-based response, pilot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5378-C2A2-4F96-8DEB-6BEA60DEF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aptation to 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eely adapted from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to environmental degrad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in entry points for mainstreaming i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EE45-C4D5-43E7-8DA2-1C540E01C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Main entry points in th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ational and sector policy cyc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29732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cy cycle stag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onal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tor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formul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long-term vis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year development pla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al plan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alloc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-related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budget envelop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from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ming &amp; implement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-level development plans and budge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ogramm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lhoff &amp; Schaer (2010)  Fig. 1, p. 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28600" y="152280"/>
            <a:ext cx="2057400" cy="152424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cognise environment-development links and climate ris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04920" y="533412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lude environment- and climate-related programmes/ projects (sectoral and cross-sectoral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438280" y="1066680"/>
            <a:ext cx="243864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llocate funding for environmental and climate-specific ac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83808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locate funding to vulnerable or priority sectors/ reg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orporate environment and climate-related activ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380360" y="1600200"/>
            <a:ext cx="1763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de env’t and climate considera-tions in project selection criteri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5022-F5A8-4AC4-A5AD-A67201D14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7T23:33:50Z</dcterms:modified>
  <cp:revision>122</cp:revision>
  <dc:subject/>
  <dc:title>Slide 1</dc:title>
</cp:coreProperties>
</file>