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58CD-8CD7-4096-86F4-A62871D85323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FA44-5D6C-4FA5-B350-AB612ABF15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039A-A8BD-4A92-91D1-9867C393D4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8541-FE8A-48E2-B65D-4E44805421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8AE0-6616-43F4-9880-C6C2C6F9C0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CF0E-B02B-4520-BCE8-1652863D3A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683D-3222-4D33-9059-75186507FF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67D-C318-4BC8-AC89-334569D7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A40-2420-43B2-A5BE-28595C24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C63-296B-48DF-A828-1FE0CE64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0C4-5716-4657-8AC6-7B22B369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A2A2-E11E-4A8A-A602-55D88CE5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802B-6A63-46BF-AD69-9B725D6F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BE3A-1B88-445D-BA34-74947ED4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7CEA-89DF-4D7C-A2B3-9839BFFE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4AC3-FCC4-4892-91E5-619136CF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A29F-8154-4235-B41C-C96C0455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2043-33A1-4694-AED6-0A9636A7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63D-4928-4B8B-A8E7-9A54A2E3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DF2F-351B-4C2F-A5DF-61774839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B5F9-1184-4503-9347-5EE5AA9E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769F-6C9D-4B1B-8005-BD0E5C64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5BF6-24CE-4888-AD05-AB07955D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AD97-EE34-4F0C-8AC2-7EB2803B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4324-C36A-43A1-BA2F-016B17FE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FA33-8A06-4655-9D2B-25F0BE6F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179-A716-4378-80E4-AE3A08AA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143-94AB-491E-99C6-6C4792E8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41E-696B-41AF-9065-239238EC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090-7523-42CD-AB2D-709C560C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66E-C533-4379-9037-65351F8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4C98-944B-4814-B544-0612757CA9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FEF6-9E6F-4546-9F46-10AF5BCC520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4883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ound Table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onors Experience with PEFA Assessments in Latin America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3680" y="4005000"/>
            <a:ext cx="853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Workshop PEFA in Latin America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Seven Years of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Brussels, 4th December 2012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hairperson: Jose Correia Nunes - EUROPEAID - UNIT A2: Budget Support, Public Finance and Macroeconomic Analysi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5C11-0EA9-4D19-B755-E5D7D6807308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anelis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s Falkner-Olmedo – Inter-American Development Bank – Chief of the Operations Financial Management and Procurement Services Offic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Balakrishnan – World Bank – Latin America and Caribbean Manager at Financial Manage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Pessoa - IMF – Deputy Division Chief at the PFM Division of the Fiscal Affairs Department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Salinas – EuropeAid – Coordinator Budget Support Operations at Latin America and Caribbean Directorat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840B-085B-4D16-A2C2-E8961244EF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2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Discussions of this round table will cover two topics</a:t>
            </a:r>
            <a:br>
              <a:rPr sz="3200"/>
            </a:b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elopment partners' experience from PEFA assessments to PFM reform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the experience on PEFA repeat assessments has been used to measure progress and support PFM reforms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8B3C-8ADA-4CCD-A430-BF365FAE1B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2 countries in LAC region have seen changes in CPIA ratings for PFM for the period 2001-2011.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       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Source: World Bank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345F-A4C8-4EE0-8037-31B32215B4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12680" y="2421000"/>
            <a:ext cx="6944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1052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Out of 75 PEFA assessments in the region since 2006 the EU has been involved in 40 assessment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EDEC-CA11-4B85-AA87-0B05E8B61A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6280" y="2060640"/>
          <a:ext cx="8686800" cy="3922560"/>
        </p:xfrm>
        <a:graphic>
          <a:graphicData uri="http://schemas.openxmlformats.org/drawingml/2006/table">
            <a:tbl>
              <a:tblPr/>
              <a:tblGrid>
                <a:gridCol w="1868760"/>
                <a:gridCol w="1063440"/>
                <a:gridCol w="892080"/>
                <a:gridCol w="841320"/>
                <a:gridCol w="1571760"/>
                <a:gridCol w="717480"/>
                <a:gridCol w="890640"/>
                <a:gridCol w="841320"/>
              </a:tblGrid>
              <a:tr h="703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1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ill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, DFID, IMF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/Ongoing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b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errat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ze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Chiclayo Municipalit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2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Gobierno Regional Amazon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Vincent and Grenadin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s and Caicos Islands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EU heavily involved in supporting PFM reforms in the reg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6920" y="1773360"/>
          <a:ext cx="7490160" cy="4938480"/>
        </p:xfrm>
        <a:graphic>
          <a:graphicData uri="http://schemas.openxmlformats.org/drawingml/2006/table">
            <a:tbl>
              <a:tblPr/>
              <a:tblGrid>
                <a:gridCol w="3745080"/>
                <a:gridCol w="3745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cus of suppor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xpenditure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lombi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ght against corrup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ivil society oversight of the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Dominican Republic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ublic procur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cu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formation Management Syste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l Salv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scal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Hondur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icaragu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aragua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Support to </a:t>
                      </a: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reform</a:t>
                      </a: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programm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46A1-F3BB-49AC-A900-62E2AB14BC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casado</cp:lastModifiedBy>
  <cp:lastPrinted>2012-12-03T18:16:55Z</cp:lastPrinted>
  <dcterms:modified xsi:type="dcterms:W3CDTF">2012-12-04T17:24:39Z</dcterms:modified>
  <cp:revision>333</cp:revision>
  <dc:subject/>
  <dc:title>Slide 1</dc:title>
</cp:coreProperties>
</file>