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A97F-5CEF-498E-9C5D-ED924131CB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B0F5-A559-4A2B-8FB7-67FAD1172C2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1763-425E-44C5-9FDA-3A69AF41341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E14D-01B1-40F6-A78E-7FF4B7B53DB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6141-9206-4A3E-8A4B-7CC3AECD93A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C449-EC1F-4044-A500-B2FAE368E55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C27D-A3A8-43AB-8E96-5E56062AE90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A72-EC20-4A5A-8562-6164C2F3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B9B-9887-4059-9C56-016E15FD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149-4766-4CE7-846A-44FB0E15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58E-1DD8-4F4F-B672-71FBF95C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68F-18FC-40A1-8772-485694EA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196-663C-4CA9-A370-E33A4EDA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91B-17F6-4251-A7FE-10306A54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4A5-07A7-431A-BC97-A79439E3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FA5-4AC6-4A88-8FEC-B4DA415C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CE6-E704-451C-9AEB-B2ECD368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A44-EFAD-4E5A-BCBE-DEDD6ACD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EFF5-2365-4DB7-9273-82CE88C0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0C34-0070-4338-8B0E-AF27E725959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alejandro.eggenschwiler@eeas.europa.eu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3e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Protracted displacement in Afghanistan: EU Support to return and reintegration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386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lejandro Eggenschwil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EU Delegation to the Islamic Republic of Afghanist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aris, 23.01.2019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4210200" y="6426360"/>
            <a:ext cx="723600" cy="45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-14400" y="-171360"/>
            <a:ext cx="9158400" cy="1515960"/>
            <a:chOff x="-14400" y="-171360"/>
            <a:chExt cx="9158400" cy="1515960"/>
          </a:xfrm>
        </p:grpSpPr>
        <p:sp>
          <p:nvSpPr>
            <p:cNvPr id="52" name="Rectangle 3"/>
            <p:cNvSpPr/>
            <p:nvPr/>
          </p:nvSpPr>
          <p:spPr>
            <a:xfrm>
              <a:off x="-14400" y="-171360"/>
              <a:ext cx="9158400" cy="115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53" name="Picture 4" descr=""/>
            <p:cNvPicPr/>
            <p:nvPr/>
          </p:nvPicPr>
          <p:blipFill>
            <a:blip r:embed="rId2"/>
            <a:stretch/>
          </p:blipFill>
          <p:spPr>
            <a:xfrm>
              <a:off x="3793680" y="111960"/>
              <a:ext cx="1771560" cy="123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ntent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Scale of displacement in Afghanist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EU respons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4173480" y="6408720"/>
            <a:ext cx="706320" cy="44928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1"/>
          <p:cNvGrpSpPr/>
          <p:nvPr/>
        </p:nvGrpSpPr>
        <p:grpSpPr>
          <a:xfrm>
            <a:off x="0" y="7920"/>
            <a:ext cx="9158400" cy="1592280"/>
            <a:chOff x="0" y="7920"/>
            <a:chExt cx="9158400" cy="1592280"/>
          </a:xfrm>
        </p:grpSpPr>
        <p:sp>
          <p:nvSpPr>
            <p:cNvPr id="58" name="Rectangle 3"/>
            <p:cNvSpPr/>
            <p:nvPr/>
          </p:nvSpPr>
          <p:spPr>
            <a:xfrm>
              <a:off x="0" y="7920"/>
              <a:ext cx="9158400" cy="1197000"/>
            </a:xfrm>
            <a:prstGeom prst="rect">
              <a:avLst/>
            </a:prstGeom>
            <a:solidFill>
              <a:srgbClr val="24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59" name="Picture 10" descr=""/>
            <p:cNvPicPr/>
            <p:nvPr/>
          </p:nvPicPr>
          <p:blipFill>
            <a:blip r:embed="rId2"/>
            <a:stretch/>
          </p:blipFill>
          <p:spPr>
            <a:xfrm>
              <a:off x="3632040" y="271800"/>
              <a:ext cx="1900080" cy="13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1. Scale of displacement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Over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12 million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fghans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displaced internally or abroad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in the last four decad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Some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6 million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still reside in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Iran, Pakistan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nd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other countr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n estimated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2 million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internally displac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Causes: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onflict; natural hazards and disasters; economic challeng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4173480" y="6408720"/>
            <a:ext cx="706320" cy="4492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11"/>
          <p:cNvGrpSpPr/>
          <p:nvPr/>
        </p:nvGrpSpPr>
        <p:grpSpPr>
          <a:xfrm>
            <a:off x="0" y="7920"/>
            <a:ext cx="9158400" cy="1592280"/>
            <a:chOff x="0" y="7920"/>
            <a:chExt cx="9158400" cy="1592280"/>
          </a:xfrm>
        </p:grpSpPr>
        <p:sp>
          <p:nvSpPr>
            <p:cNvPr id="64" name="Rectangle 3"/>
            <p:cNvSpPr/>
            <p:nvPr/>
          </p:nvSpPr>
          <p:spPr>
            <a:xfrm>
              <a:off x="0" y="7920"/>
              <a:ext cx="9158400" cy="1197000"/>
            </a:xfrm>
            <a:prstGeom prst="rect">
              <a:avLst/>
            </a:prstGeom>
            <a:solidFill>
              <a:srgbClr val="24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5" name="Picture 10" descr=""/>
            <p:cNvPicPr/>
            <p:nvPr/>
          </p:nvPicPr>
          <p:blipFill>
            <a:blip r:embed="rId2"/>
            <a:stretch/>
          </p:blipFill>
          <p:spPr>
            <a:xfrm>
              <a:off x="3632040" y="271800"/>
              <a:ext cx="1900080" cy="13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Some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7 million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fghans have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turned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 to Afghanistan since 2002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In 2018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Over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800,000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fghans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turned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 from Iran and Pakist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Nearly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250,000 new internally displaced people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 associated with conflict and drought (first half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→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integration challenges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(including delivery of basic social service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4173480" y="6408720"/>
            <a:ext cx="706320" cy="44928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11"/>
          <p:cNvGrpSpPr/>
          <p:nvPr/>
        </p:nvGrpSpPr>
        <p:grpSpPr>
          <a:xfrm>
            <a:off x="0" y="-171360"/>
            <a:ext cx="9158400" cy="1592280"/>
            <a:chOff x="0" y="-171360"/>
            <a:chExt cx="9158400" cy="1592280"/>
          </a:xfrm>
        </p:grpSpPr>
        <p:sp>
          <p:nvSpPr>
            <p:cNvPr id="70" name="Rectangle 3"/>
            <p:cNvSpPr/>
            <p:nvPr/>
          </p:nvSpPr>
          <p:spPr>
            <a:xfrm>
              <a:off x="0" y="-171360"/>
              <a:ext cx="9158400" cy="1197000"/>
            </a:xfrm>
            <a:prstGeom prst="rect">
              <a:avLst/>
            </a:prstGeom>
            <a:solidFill>
              <a:srgbClr val="24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71" name="Picture 10" descr=""/>
            <p:cNvPicPr/>
            <p:nvPr/>
          </p:nvPicPr>
          <p:blipFill>
            <a:blip r:embed="rId2"/>
            <a:stretch/>
          </p:blipFill>
          <p:spPr>
            <a:xfrm>
              <a:off x="3632040" y="92520"/>
              <a:ext cx="1900080" cy="13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2. EU respons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Support safe and dignified return, and sustainable reintegration in host communities; self-reli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Over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EUR 200 million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in 2016 and 2017 (special measure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Direct and indirect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beneficiaries: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returnees, IDPs, refugees, potential migrants, host commun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Projects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implemented by UN agencies and international NGOs, 70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On-budget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through WB (Afghanistan Reconstruction Trust Fund), 30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ligned with/contribute to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national polic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4173480" y="6408720"/>
            <a:ext cx="706320" cy="44928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1"/>
          <p:cNvGrpSpPr/>
          <p:nvPr/>
        </p:nvGrpSpPr>
        <p:grpSpPr>
          <a:xfrm>
            <a:off x="0" y="-171360"/>
            <a:ext cx="9158400" cy="1592280"/>
            <a:chOff x="0" y="-171360"/>
            <a:chExt cx="9158400" cy="1592280"/>
          </a:xfrm>
        </p:grpSpPr>
        <p:sp>
          <p:nvSpPr>
            <p:cNvPr id="76" name="Rectangle 3"/>
            <p:cNvSpPr/>
            <p:nvPr/>
          </p:nvSpPr>
          <p:spPr>
            <a:xfrm>
              <a:off x="0" y="-171360"/>
              <a:ext cx="9158400" cy="1197000"/>
            </a:xfrm>
            <a:prstGeom prst="rect">
              <a:avLst/>
            </a:prstGeom>
            <a:solidFill>
              <a:srgbClr val="24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77" name="Picture 10" descr=""/>
            <p:cNvPicPr/>
            <p:nvPr/>
          </p:nvPicPr>
          <p:blipFill>
            <a:blip r:embed="rId2"/>
            <a:stretch/>
          </p:blipFill>
          <p:spPr>
            <a:xfrm>
              <a:off x="3632040" y="92520"/>
              <a:ext cx="1900080" cy="13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Off-budget intervention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Support access to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labour market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(IOM, IT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Market-driven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skills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 development (DRC, IOM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Support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livelihoods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 (WB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Polio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immunization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 campaigns (UNICEF, WHO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ccess to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land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nd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housing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UNHABITAT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Capacity building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r Government to deliver services (GIZ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upport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services provision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fghans in Iran and Pakistan (UNHCR, UNICEF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mmediate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post arrival assistance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fghan returnees from EU Member States and Turkey (IOM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4173480" y="6408720"/>
            <a:ext cx="706320" cy="4492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0" y="-171360"/>
            <a:ext cx="9158400" cy="1592280"/>
            <a:chOff x="0" y="-171360"/>
            <a:chExt cx="9158400" cy="1592280"/>
          </a:xfrm>
        </p:grpSpPr>
        <p:sp>
          <p:nvSpPr>
            <p:cNvPr id="82" name="Rectangle 3"/>
            <p:cNvSpPr/>
            <p:nvPr/>
          </p:nvSpPr>
          <p:spPr>
            <a:xfrm>
              <a:off x="0" y="-171360"/>
              <a:ext cx="9158400" cy="1197000"/>
            </a:xfrm>
            <a:prstGeom prst="rect">
              <a:avLst/>
            </a:prstGeom>
            <a:solidFill>
              <a:srgbClr val="24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83" name="Picture 10" descr=""/>
            <p:cNvPicPr/>
            <p:nvPr/>
          </p:nvPicPr>
          <p:blipFill>
            <a:blip r:embed="rId2"/>
            <a:stretch/>
          </p:blipFill>
          <p:spPr>
            <a:xfrm>
              <a:off x="3632040" y="92520"/>
              <a:ext cx="1900080" cy="13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On-budget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ncentives Package: policy dialogue; incentivize reforms; service delivery; implement National Priority Programmes (NP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itizens Charter NP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Human Capital Development NP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Land allocation technical procedur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4173480" y="6408720"/>
            <a:ext cx="706320" cy="44928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11"/>
          <p:cNvGrpSpPr/>
          <p:nvPr/>
        </p:nvGrpSpPr>
        <p:grpSpPr>
          <a:xfrm>
            <a:off x="0" y="-171360"/>
            <a:ext cx="9158400" cy="1592280"/>
            <a:chOff x="0" y="-171360"/>
            <a:chExt cx="9158400" cy="1592280"/>
          </a:xfrm>
        </p:grpSpPr>
        <p:sp>
          <p:nvSpPr>
            <p:cNvPr id="88" name="Rectangle 3"/>
            <p:cNvSpPr/>
            <p:nvPr/>
          </p:nvSpPr>
          <p:spPr>
            <a:xfrm>
              <a:off x="0" y="-171360"/>
              <a:ext cx="9158400" cy="1197000"/>
            </a:xfrm>
            <a:prstGeom prst="rect">
              <a:avLst/>
            </a:prstGeom>
            <a:solidFill>
              <a:srgbClr val="24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89" name="Picture 10" descr=""/>
            <p:cNvPicPr/>
            <p:nvPr/>
          </p:nvPicPr>
          <p:blipFill>
            <a:blip r:embed="rId2"/>
            <a:stretch/>
          </p:blipFill>
          <p:spPr>
            <a:xfrm>
              <a:off x="3632040" y="92520"/>
              <a:ext cx="1900080" cy="13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State of play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Inception or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early implementation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st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Widespread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insecurity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 affects implemen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EUDEL staff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evacuation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 since 2017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No field visits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; rely on report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4173480" y="6408720"/>
            <a:ext cx="706320" cy="4492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11"/>
          <p:cNvGrpSpPr/>
          <p:nvPr/>
        </p:nvGrpSpPr>
        <p:grpSpPr>
          <a:xfrm>
            <a:off x="0" y="-171360"/>
            <a:ext cx="9158400" cy="1592280"/>
            <a:chOff x="0" y="-171360"/>
            <a:chExt cx="9158400" cy="1592280"/>
          </a:xfrm>
        </p:grpSpPr>
        <p:sp>
          <p:nvSpPr>
            <p:cNvPr id="94" name="Rectangle 3"/>
            <p:cNvSpPr/>
            <p:nvPr/>
          </p:nvSpPr>
          <p:spPr>
            <a:xfrm>
              <a:off x="0" y="-171360"/>
              <a:ext cx="9158400" cy="1197000"/>
            </a:xfrm>
            <a:prstGeom prst="rect">
              <a:avLst/>
            </a:prstGeom>
            <a:solidFill>
              <a:srgbClr val="24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95" name="Picture 10" descr=""/>
            <p:cNvPicPr/>
            <p:nvPr/>
          </p:nvPicPr>
          <p:blipFill>
            <a:blip r:embed="rId2"/>
            <a:stretch/>
          </p:blipFill>
          <p:spPr>
            <a:xfrm>
              <a:off x="3632040" y="92520"/>
              <a:ext cx="1900080" cy="13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lejandro.eggenschwiler@eeas.europa.eu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4173480" y="6408720"/>
            <a:ext cx="706320" cy="44928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1"/>
          <p:cNvGrpSpPr/>
          <p:nvPr/>
        </p:nvGrpSpPr>
        <p:grpSpPr>
          <a:xfrm>
            <a:off x="0" y="-171360"/>
            <a:ext cx="9158400" cy="1592280"/>
            <a:chOff x="0" y="-171360"/>
            <a:chExt cx="9158400" cy="1592280"/>
          </a:xfrm>
        </p:grpSpPr>
        <p:sp>
          <p:nvSpPr>
            <p:cNvPr id="100" name="Rectangle 3"/>
            <p:cNvSpPr/>
            <p:nvPr/>
          </p:nvSpPr>
          <p:spPr>
            <a:xfrm>
              <a:off x="0" y="-171360"/>
              <a:ext cx="9158400" cy="1197000"/>
            </a:xfrm>
            <a:prstGeom prst="rect">
              <a:avLst/>
            </a:prstGeom>
            <a:solidFill>
              <a:srgbClr val="24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01" name="Picture 10" descr=""/>
            <p:cNvPicPr/>
            <p:nvPr/>
          </p:nvPicPr>
          <p:blipFill>
            <a:blip r:embed="rId3"/>
            <a:stretch/>
          </p:blipFill>
          <p:spPr>
            <a:xfrm>
              <a:off x="3632040" y="92520"/>
              <a:ext cx="1900080" cy="13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08:50:12Z</dcterms:created>
  <dc:creator>DEROO Marise (DEVCO)</dc:creator>
  <dc:description/>
  <dc:language>en-US</dc:language>
  <cp:lastModifiedBy>EGGENSCHWILER Alejandro (DEVCO-KABUL)</cp:lastModifiedBy>
  <dcterms:modified xsi:type="dcterms:W3CDTF">2019-01-21T08:58:42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64BDE03F9F0DA4A90C9F816DA12452C</vt:lpwstr>
  </property>
  <property fmtid="{D5CDD505-2E9C-101B-9397-08002B2CF9AE}" pid="3" name="Order">
    <vt:lpwstr>10800.000000000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TemplateUrl">
    <vt:lpwstr/>
  </property>
  <property fmtid="{D5CDD505-2E9C-101B-9397-08002B2CF9AE}" pid="7" name="display_urn:schemas-microsoft-com:office:office#Author">
    <vt:lpwstr>DEBOIS Amélie</vt:lpwstr>
  </property>
  <property fmtid="{D5CDD505-2E9C-101B-9397-08002B2CF9AE}" pid="8" name="display_urn:schemas-microsoft-com:office:office#Editor">
    <vt:lpwstr>DEBOIS Amélie</vt:lpwstr>
  </property>
  <property fmtid="{D5CDD505-2E9C-101B-9397-08002B2CF9AE}" pid="9" name="xd_ProgID">
    <vt:lpwstr/>
  </property>
  <property fmtid="{D5CDD505-2E9C-101B-9397-08002B2CF9AE}" pid="10" name="xd_Signature">
    <vt:lpwstr/>
  </property>
</Properties>
</file>