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7EFF-A768-4E1D-B9EA-E61C44B1552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92 - Climate Convention and its related legal instruments aims to achieve the stabilization of greenhouse gas concentrations in the atmosphere at a level that would prevent dangerous anthropogenic interference with the climate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F32D-50DE-4CE7-8CF1-92E11D76750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92 - Climate Convention and its related legal instruments aims to achieve the stabilization of greenhouse gas concentrations in the atmosphere at a level that would prevent dangerous anthropogenic interference with the climate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1CD3-8088-4FA3-90E1-3787749FCF3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Change has great impacts on development in Africa because the Gross Domestic Product (GDP) on most countries are dependent on climate sensitive sectors such as agriculture, livestock and fisheries, tourism, and energy. The continent contributes the least greenhouse gases (GHGs) but suffers most on the adverse impacts of climate change because of its vulnerability and limited adaptation capacity. Consequently, it is the continent that has the greatest interest and has instituted a firm negotiating structure at the three tiers in the climate governance framework that is functional and capable of controlling emissions while at the same time providing for adaptation to already occurring changes in the climate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mediate effects of climate change in Africa are being experienced primarily in terms of human security as a result of threats to food and water supplies, properties and infrastructure. These are made manifest through reduced or variable precipitation, droughts and flooding and the consequent disruption of agricultural, energy and trans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IPCC Reports, by 20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mate Convention and its related legal instruments aims to achieve the stabilization of greenhouse gas concentrations in the atmosphere at a level that would prevent dangerous anthropogenic interference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14BE-B2A0-43BE-8B6E-EE6D47EE074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5D72-2DAB-41A1-B62F-7D72ADF8681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DD5B-C301-40EC-869E-9907FFCFFFB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F970-7CC8-4A36-A8A5-1BCBA952A38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0B0A-9FE4-4DB5-8BBB-2136A0FF52C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9E05-9A39-48A1-9856-C1D9259BE4E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613C-29ED-4610-BAD3-EB73716717A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5AEE-7228-4E57-B546-213995329BE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3AB9-E42D-430B-940D-55BBD07AABF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0350-8019-4C66-A2FA-A4DC3367DE8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47DD-BE74-4432-9F3B-FF40131CB54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0711-524B-4583-9A64-365889EF8DC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BA45-A800-43D1-93A1-3DC2899244C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7A41-F245-4414-8AEA-EA1E0B5678C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9C2F-8DF9-4EAA-BA1F-FF21E995B72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Change has great impacts on development in Africa because the Gross Domestic Product (GDP) on most countries are dependent on climate sensitive sectors such as agriculture, livestock and fisheries, tourism, and energy. The continent contributes the least greenhouse gases (GHGs) but suffers most on the adverse impacts of climate change because of its vulnerability and limited adaptation capacity. Consequently, it is the continent that has the greatest interest and has instituted a firm negotiating structure at the three tiers in the climate governance framework that is functional and capable of controlling emissions while at the same time providing for adaptation to already occurring changes in the climate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mediate effects of climate change in Africa are being experienced primarily in terms of human security as a result of threats to food and water supplies, properties and infrastructure. These are made manifest through reduced or variable precipitation, droughts and flooding and the consequent disruption of agricultural, energy and trans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IPCC Reports, by 20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mate Convention and its related legal instruments aims to achieve the stabilization of greenhouse gas concentrations in the atmosphere at a level that would prevent dangerous anthropogenic interference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87C1-F120-4B0C-BB42-B124B1684FA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Change has great impacts on development in Africa because the Gross Domestic Product (GDP) on most countries are dependent on climate sensitive sectors such as agriculture, livestock and fisheries, tourism, and energy. The continent contributes the least greenhouse gases (GHGs) but suffers most on the adverse impacts of climate change because of its vulnerability and limited adaptation capacity. Consequently, it is the continent that has the greatest interest and has instituted a firm negotiating structure at the three tiers in the climate governance framework that is functional and capable of controlling emissions while at the same time providing for adaptation to already occurring changes in the climate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mediate effects of climate change in Africa are being experienced primarily in terms of human security as a result of threats to food and water supplies, properties and infrastructure. These are made manifest through reduced or variable precipitation, droughts and flooding and the consequent disruption of agricultural, energy and trans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IPCC Reports, by 20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mate Convention and its related legal instruments aims to achieve the stabilization of greenhouse gas concentrations in the atmosphere at a level that would prevent dangerous anthropogenic interference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A2D6-52F4-4CB8-A0ED-3BFB8ECCD3B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Change has great impacts on development in Africa because the Gross Domestic Product (GDP) on most countries are dependent on climate sensitive sectors such as agriculture, livestock and fisheries, tourism, and energy. The continent contributes the least greenhouse gases (GHGs) but suffers most on the adverse impacts of climate change because of its vulnerability and limited adaptation capacity. Consequently, it is the continent that has the greatest interest and has instituted a firm negotiating structure at the three tiers in the climate governance framework that is functional and capable of controlling emissions while at the same time providing for adaptation to already occurring changes in the climate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mediate effects of climate change in Africa are being experienced primarily in terms of human security as a result of threats to food and water supplies, properties and infrastructure. These are made manifest through reduced or variable precipitation, droughts and flooding and the consequent disruption of agricultural, energy and trans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IPCC Reports, by 20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mate Convention and its related legal instruments aims to achieve the stabilization of greenhouse gas concentrations in the atmosphere at a level that would prevent dangerous anthropogenic interference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B89B-6479-41EC-B317-07E91E36DD7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PCC Reports - by 2020: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9600-137A-45D9-AFC5-0267A20E88C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PCC Reports - by 2020: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D33B-AEA7-465E-B91E-E7A80D7B359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92 - Climate Convention and its related legal instruments aims to achieve the stabilization of greenhouse gas concentrations in the atmosphere at a level that would prevent dangerous anthropogenic interference with the climate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3CD4-584F-460C-AE26-455492B9119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92 - Climate Convention and its related legal instruments aims to achieve the stabilization of greenhouse gas concentrations in the atmosphere at a level that would prevent dangerous anthropogenic interference with the climate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A507-F063-4040-BD22-29E34A4F61C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2D834-E2D3-41C3-9A68-073951C94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EABB6-0305-49AD-BE5A-09A09EF09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C0D85-1CEF-4855-8C4F-5D2ED3B10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DF8D0-1AEA-4C93-A84C-5EC493AF6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28C46-4FD1-4F04-8BB7-BE91BEE70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2A708-391D-40A1-9239-5069E7105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CC4BF-F00B-4C3E-8750-0656DD5A8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F8462-8C1F-45B2-A2FF-E05A0225E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DB4B7-E6FE-4A83-8CC3-896FDEF72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571B9-01D1-4112-8D00-65D59C470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41672-C5C0-40B3-A61F-C02022179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EC2B-11FE-4426-9A35-84E491637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EA83B-C071-4D75-A84E-566F6D547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9E381-4234-4A21-B7E6-0EF83A81C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D9595-5B87-4766-8A9F-057759CE7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20208-FCEE-4AE1-BE56-14B11AF4B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8D0B9-DBCC-47CD-9D52-DE2182869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3E8205-7E3F-4A60-809E-9A5C5DA63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BE04E-4343-47F4-A52F-0C5A97714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53C00-A057-4B59-BCEA-2ABE3A650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39042-ABA1-4CEE-8101-A2FA2DA76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75F6E-F95F-4348-88F2-E6C5F3E7F7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52A0-73F4-4EAC-811A-B0CE6C524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0CE679-D032-4069-9B89-5D55A1E8A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1D884-B488-4F72-9D2F-D6200CE7F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7ED9E-6EE4-4D51-A509-B5C47A602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3CE10-2DEA-4405-A4E2-91B308215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FBD7B-D909-47C1-8265-3345183BF2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AA6994-F51A-46D5-945C-723DC34A92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2638E3-CBFB-4C8A-8666-B7FA833D7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F427C-057E-4046-A164-C8EABC05B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BA293-7288-4E2B-8127-99077A5A8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8AE57-FFCE-434A-87EB-AE5FBC7CA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F4D4D-E0E6-4A9B-8656-8A1B08DDE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EB8F4-603A-4913-850B-D6B4DC501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7FD3E-6724-42C8-9120-3287E6A07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1969-E649-45BE-A099-10FDDD8E60E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logo"/>
          <p:cNvPicPr/>
          <p:nvPr/>
        </p:nvPicPr>
        <p:blipFill>
          <a:blip r:embed="rId2">
            <a:lum bright="40000"/>
          </a:blip>
          <a:stretch/>
        </p:blipFill>
        <p:spPr>
          <a:xfrm>
            <a:off x="1828800" y="1523880"/>
            <a:ext cx="4800600" cy="41119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35EC-363B-45D0-8BEF-DB1565A82F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logo"/>
          <p:cNvPicPr/>
          <p:nvPr/>
        </p:nvPicPr>
        <p:blipFill>
          <a:blip r:embed="rId2">
            <a:lum bright="40000"/>
          </a:blip>
          <a:stretch/>
        </p:blipFill>
        <p:spPr>
          <a:xfrm>
            <a:off x="1828800" y="1523880"/>
            <a:ext cx="4800600" cy="4111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FBE2-31E9-4607-BB8A-98E54BA150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 </a:t>
            </a:r>
            <a:endParaRPr b="0" lang="en-US" sz="3600" spc="-1" strike="noStrike">
              <a:solidFill>
                <a:srgbClr val="000000"/>
              </a:solidFill>
              <a:latin typeface="Calibri"/>
            </a:endParaRPr>
          </a:p>
        </p:txBody>
      </p:sp>
      <p:sp>
        <p:nvSpPr>
          <p:cNvPr id="133" name="Rectangle 1"/>
          <p:cNvSpPr/>
          <p:nvPr/>
        </p:nvSpPr>
        <p:spPr>
          <a:xfrm>
            <a:off x="934920" y="990720"/>
            <a:ext cx="7543800" cy="597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RIEFING OF AFRICAN GROUP OF AMBASSADORS ON CLIMATE CHANGE NEGOTIATIONS IN PREPARATION FOR  TWENTY-FIRST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FERENCE OF PARTIES TO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NITED NATIONS FRAMEWORK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VENTION ON CLIMAT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HANGE (UNFCCC)</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COP 21)</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FRICAN UNION COMMISSION (AUC)</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RUSSELS, BELGIU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7 OCTOBER 2015</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Rectangle 8"/>
          <p:cNvSpPr/>
          <p:nvPr/>
        </p:nvSpPr>
        <p:spPr>
          <a:xfrm>
            <a:off x="685800" y="6477120"/>
            <a:ext cx="754380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Picture 5" descr=""/>
          <p:cNvPicPr/>
          <p:nvPr/>
        </p:nvPicPr>
        <p:blipFill>
          <a:blip r:embed="rId1"/>
          <a:stretch/>
        </p:blipFill>
        <p:spPr>
          <a:xfrm>
            <a:off x="6443640" y="5060880"/>
            <a:ext cx="2557440" cy="170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0"/>
            <a:ext cx="691200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Efforts and Responses (3)</a:t>
            </a:r>
            <a:endParaRPr b="0" lang="en-US" sz="3600" spc="-1" strike="noStrike">
              <a:solidFill>
                <a:srgbClr val="000000"/>
              </a:solidFill>
              <a:latin typeface="Calibri"/>
            </a:endParaRPr>
          </a:p>
        </p:txBody>
      </p:sp>
      <p:sp>
        <p:nvSpPr>
          <p:cNvPr id="153" name="Rectangle 2"/>
          <p:cNvSpPr/>
          <p:nvPr/>
        </p:nvSpPr>
        <p:spPr>
          <a:xfrm>
            <a:off x="0" y="907920"/>
            <a:ext cx="9144000" cy="494028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However, despite years of negotiations since 1992;</a:t>
            </a:r>
            <a:endParaRPr b="0" lang="en-US" sz="35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Reports:</a:t>
            </a:r>
            <a:endParaRPr b="0" lang="en-US" sz="35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 </a:t>
            </a:r>
            <a:r>
              <a:rPr b="0" lang="en-GB" sz="3100" spc="-1" strike="noStrike">
                <a:solidFill>
                  <a:srgbClr val="000000"/>
                </a:solidFill>
                <a:latin typeface="Calibri"/>
              </a:rPr>
              <a:t>Global warming worsened, eroding past efforts on development </a:t>
            </a:r>
            <a:endParaRPr b="0" lang="en-US" sz="31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earch continues for an appropriate governance framework </a:t>
            </a:r>
            <a:endParaRPr b="0" lang="en-US" sz="27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SimSun"/>
              </a:rPr>
              <a:t>Capable of adequately controlling GHGs emissions</a:t>
            </a:r>
            <a:endParaRPr b="0" lang="en-US" sz="27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SimSun"/>
              </a:rPr>
              <a:t>Generating new resources and investments in adaptation and disaster risk reduction, and ensuring development remains sustainable.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0"/>
            <a:ext cx="691344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gional Efforts in African Continent (1)</a:t>
            </a:r>
            <a:endParaRPr b="0" lang="en-US" sz="3200" spc="-1" strike="noStrike">
              <a:solidFill>
                <a:srgbClr val="000000"/>
              </a:solidFill>
              <a:latin typeface="Calibri"/>
            </a:endParaRPr>
          </a:p>
        </p:txBody>
      </p:sp>
      <p:sp>
        <p:nvSpPr>
          <p:cNvPr id="155" name="Rectangle 2"/>
          <p:cNvSpPr/>
          <p:nvPr/>
        </p:nvSpPr>
        <p:spPr>
          <a:xfrm>
            <a:off x="252360" y="1093680"/>
            <a:ext cx="8891640" cy="612900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n States have been Parties to the United Nations Framework Convention on Climate Change (UNFCCC) from its outset</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eveloped several high-level continental, sub-regional and national mechanisms to enhance their implementation of the Convention. </a:t>
            </a:r>
            <a:endParaRPr b="0" lang="en-US" sz="36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2600"/>
            <a:ext cx="691344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gional Efforts in African Continent (2) </a:t>
            </a:r>
            <a:endParaRPr b="0" lang="en-US" sz="3200" spc="-1" strike="noStrike">
              <a:solidFill>
                <a:srgbClr val="000000"/>
              </a:solidFill>
              <a:latin typeface="Calibri"/>
            </a:endParaRPr>
          </a:p>
        </p:txBody>
      </p:sp>
      <p:sp>
        <p:nvSpPr>
          <p:cNvPr id="157" name="Rectangle 2"/>
          <p:cNvSpPr/>
          <p:nvPr/>
        </p:nvSpPr>
        <p:spPr>
          <a:xfrm>
            <a:off x="281160" y="1060560"/>
            <a:ext cx="8891280" cy="39344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n Union Summit Decisions (2009 – 2015)</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stituted firm negotiating structure at three tiers in climate governance framework that is functional, capable of controlling emissions in the climate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0"/>
            <a:ext cx="878364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gional Efforts in African Continent (3) </a:t>
            </a:r>
            <a:endParaRPr b="0" lang="en-US" sz="3600" spc="-1" strike="noStrike">
              <a:solidFill>
                <a:srgbClr val="000000"/>
              </a:solidFill>
              <a:latin typeface="Calibri"/>
            </a:endParaRPr>
          </a:p>
        </p:txBody>
      </p:sp>
      <p:sp>
        <p:nvSpPr>
          <p:cNvPr id="159" name="Rectangle 2"/>
          <p:cNvSpPr/>
          <p:nvPr/>
        </p:nvSpPr>
        <p:spPr>
          <a:xfrm>
            <a:off x="252360" y="990720"/>
            <a:ext cx="8891640" cy="63115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mmittee of African Heads of State and Government on Climate Change (CAHOSCC)</a:t>
            </a:r>
            <a:endParaRPr b="0" lang="en-US" sz="3600" spc="-1" strike="noStrike">
              <a:solidFill>
                <a:srgbClr val="000000"/>
              </a:solidFill>
              <a:latin typeface="Calibri"/>
            </a:endParaRPr>
          </a:p>
          <a:p>
            <a:pPr lvl="1" marL="914400" indent="-45720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Reinforce African Common Position and  its Key Messages in global fora &amp; negotiations leading to  Paris to get a good new Climate Change Agreement.</a:t>
            </a:r>
            <a:endParaRPr b="0" lang="en-US" sz="28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rican Ministerial Conference on Environment (AMCEN).</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rican Group of Negotiators on Climate Change (AGN).</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2000" y="0"/>
            <a:ext cx="878364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eys Milestones in African Regional Efforts</a:t>
            </a:r>
            <a:endParaRPr b="0" lang="en-US" sz="3600" spc="-1" strike="noStrike">
              <a:solidFill>
                <a:srgbClr val="000000"/>
              </a:solidFill>
              <a:latin typeface="Calibri"/>
            </a:endParaRPr>
          </a:p>
        </p:txBody>
      </p:sp>
      <p:sp>
        <p:nvSpPr>
          <p:cNvPr id="161" name="Rectangle 2"/>
          <p:cNvSpPr/>
          <p:nvPr/>
        </p:nvSpPr>
        <p:spPr>
          <a:xfrm>
            <a:off x="252360" y="692280"/>
            <a:ext cx="8891640" cy="55760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opted a Decision and Declaration in January 2007 Summit and launched Climate for Development in Africa (ClimDev-Africa) Programme.</a:t>
            </a:r>
            <a:endParaRPr b="0" lang="en-US" sz="30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une 2009 Sirte Summit adopted a Decision for AUC to elaboration of Climate Change Strategy  (draft considered by AMCEN in March 2015 as work in progress).</a:t>
            </a:r>
            <a:endParaRPr b="0" lang="en-US" sz="30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labo June 2014 Summit endorsed High Level Work Programme on Climate Change Action in Africa (WPCCAA) – Africa’s blueprint for Climate Action.</a:t>
            </a:r>
            <a:endParaRPr b="0" lang="en-US" sz="30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June 2015 – preparation of two initiatives for Par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14000" y="82080"/>
            <a:ext cx="90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parations for COP 21 / CMP 11 (1) </a:t>
            </a:r>
            <a:endParaRPr b="0" lang="en-US" sz="4000" spc="-1" strike="noStrike">
              <a:solidFill>
                <a:srgbClr val="000000"/>
              </a:solidFill>
              <a:latin typeface="Calibri"/>
            </a:endParaRPr>
          </a:p>
        </p:txBody>
      </p:sp>
      <p:sp>
        <p:nvSpPr>
          <p:cNvPr id="163" name="Rectangle 2"/>
          <p:cNvSpPr/>
          <p:nvPr/>
        </p:nvSpPr>
        <p:spPr>
          <a:xfrm>
            <a:off x="252360" y="1225440"/>
            <a:ext cx="8891640" cy="612900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5</a:t>
            </a:r>
            <a:r>
              <a:rPr b="0" lang="en-US" sz="3600" spc="-1" strike="noStrike" baseline="30000">
                <a:solidFill>
                  <a:srgbClr val="000000"/>
                </a:solidFill>
                <a:latin typeface="Calibri"/>
              </a:rPr>
              <a:t>th</a:t>
            </a:r>
            <a:r>
              <a:rPr b="0" lang="en-US" sz="3600" spc="-1" strike="noStrike">
                <a:solidFill>
                  <a:srgbClr val="000000"/>
                </a:solidFill>
                <a:latin typeface="Calibri"/>
              </a:rPr>
              <a:t> Session of AMCEN held in March 2015 in Cairo, Egypt– Decision on Climate Change.</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 Summits held in January and June 2015 in Addis Ababa, Ethiopia and Johannesburg, South Africa adopted Decisions.</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0 Project P</a:t>
            </a:r>
            <a:r>
              <a:rPr b="0" lang="de-DE" sz="3600" spc="-1" strike="noStrike">
                <a:solidFill>
                  <a:srgbClr val="000000"/>
                </a:solidFill>
                <a:latin typeface="Calibri"/>
              </a:rPr>
              <a:t>roposals endorsed by ClimDev-Africa Steering Committee in April 2015 and fund disbursement commenced immediately.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765440" y="-360"/>
            <a:ext cx="12497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parations for COP 21 / CMP 11 (2) </a:t>
            </a:r>
            <a:endParaRPr b="0" lang="en-US" sz="3600" spc="-1" strike="noStrike">
              <a:solidFill>
                <a:srgbClr val="000000"/>
              </a:solidFill>
              <a:latin typeface="Calibri"/>
            </a:endParaRPr>
          </a:p>
        </p:txBody>
      </p:sp>
      <p:sp>
        <p:nvSpPr>
          <p:cNvPr id="165" name="Rectangle 2"/>
          <p:cNvSpPr/>
          <p:nvPr/>
        </p:nvSpPr>
        <p:spPr>
          <a:xfrm>
            <a:off x="216000" y="979560"/>
            <a:ext cx="8891640" cy="58208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Calibri"/>
              </a:rPr>
              <a:t>African countries presenting  individual and collective efforts on adaptation and mitigation including the Intended Nationally Determined Contributions (INDCs): High level Event on Climate Change in June 2015 and prior to Paris COP</a:t>
            </a:r>
            <a:r>
              <a:rPr b="0" lang="en-GB" sz="3300" spc="-1" strike="noStrike">
                <a:solidFill>
                  <a:srgbClr val="000000"/>
                </a:solidFill>
                <a:latin typeface="Calibri"/>
              </a:rPr>
              <a:t>.</a:t>
            </a:r>
            <a:endParaRPr b="0" lang="en-US" sz="3300" spc="-1" strike="noStrike">
              <a:solidFill>
                <a:srgbClr val="000000"/>
              </a:solidFill>
              <a:latin typeface="Calibri"/>
            </a:endParaRPr>
          </a:p>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AHOSCC on margins of UNGA -70, New York in September 2015:</a:t>
            </a:r>
            <a:endParaRPr b="0" lang="en-US" sz="33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SimSun"/>
              </a:rPr>
              <a:t>Adopted Key Political Messages.</a:t>
            </a:r>
            <a:endParaRPr b="0" lang="en-US" sz="28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SimSun"/>
              </a:rPr>
              <a:t>Endorsed two Initiatives – African Renewable Energy Initiative (AREI) and Adaptation and Loss and Damage Initia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2420640"/>
            <a:ext cx="74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CAHOSCC Key Messages</a:t>
            </a:r>
            <a:br>
              <a:rPr sz="3600"/>
            </a:b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67" name="Rectangle 2"/>
          <p:cNvSpPr/>
          <p:nvPr/>
        </p:nvSpPr>
        <p:spPr>
          <a:xfrm>
            <a:off x="1187280" y="2781360"/>
            <a:ext cx="8891640" cy="39344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115920"/>
            <a:ext cx="8218440" cy="61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GB" sz="2900" spc="-1" strike="noStrike">
                <a:solidFill>
                  <a:srgbClr val="000000"/>
                </a:solidFill>
                <a:latin typeface="Calibri"/>
              </a:rPr>
              <a:t>African COP 17 known as Durban COP in 2011 launched a process to advance negotiations to meet the mandate to adopt </a:t>
            </a:r>
            <a:br>
              <a:rPr sz="2900"/>
            </a:br>
            <a:br>
              <a:rPr sz="2900"/>
            </a:br>
            <a:r>
              <a:rPr b="1" lang="en-GB" sz="2900" spc="-1" strike="noStrike">
                <a:solidFill>
                  <a:srgbClr val="000000"/>
                </a:solidFill>
                <a:latin typeface="Calibri"/>
              </a:rPr>
              <a:t>“a protocol, another legal instrument or an agreed outcome with legal force under the Convention applicable to all parties,” </a:t>
            </a:r>
            <a:r>
              <a:rPr b="0" lang="en-GB" sz="2900" spc="-1" strike="noStrike">
                <a:solidFill>
                  <a:srgbClr val="000000"/>
                </a:solidFill>
                <a:latin typeface="Calibri"/>
              </a:rPr>
              <a:t>which is to come into force in 2020. </a:t>
            </a:r>
            <a:br>
              <a:rPr sz="2900"/>
            </a:br>
            <a:br>
              <a:rPr sz="2900"/>
            </a:br>
            <a:r>
              <a:rPr b="0" lang="en-GB" sz="2900" spc="-1" strike="noStrike">
                <a:solidFill>
                  <a:srgbClr val="000000"/>
                </a:solidFill>
                <a:latin typeface="Calibri"/>
              </a:rPr>
              <a:t>New Climate Change Agreement is to be adopted in Paris at COP 21/CMP 11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475920"/>
            <a:ext cx="766764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Key issues for Africa @ COP 21 in Paris new Climate Change Agreement  (1)</a:t>
            </a:r>
            <a:br>
              <a:rPr sz="2900"/>
            </a:br>
            <a:endParaRPr b="0" lang="en-US" sz="2900" spc="-1" strike="noStrike">
              <a:solidFill>
                <a:srgbClr val="000000"/>
              </a:solidFill>
              <a:latin typeface="Calibri"/>
            </a:endParaRPr>
          </a:p>
        </p:txBody>
      </p:sp>
      <p:sp>
        <p:nvSpPr>
          <p:cNvPr id="170" name="Rectangle 2"/>
          <p:cNvSpPr/>
          <p:nvPr/>
        </p:nvSpPr>
        <p:spPr>
          <a:xfrm>
            <a:off x="181080" y="1268280"/>
            <a:ext cx="8891640" cy="55803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e in accordance with Principles and provisions of Convention, in particular the Principles of common but differentiated responsibilities and respective capabilities (CBDR) and equity.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hance the implementation of the Convention and its annexes, to be consistent with science and equity.</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hance a multilateral rules-based system in a balanced and ambitious mann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utline of Presentation</a:t>
            </a:r>
            <a:endParaRPr b="0" lang="en-US" sz="3600" spc="-1" strike="noStrike">
              <a:solidFill>
                <a:srgbClr val="000000"/>
              </a:solidFill>
              <a:latin typeface="Calibri"/>
            </a:endParaRPr>
          </a:p>
        </p:txBody>
      </p:sp>
      <p:sp>
        <p:nvSpPr>
          <p:cNvPr id="137" name="Rectangle 2"/>
          <p:cNvSpPr/>
          <p:nvPr/>
        </p:nvSpPr>
        <p:spPr>
          <a:xfrm>
            <a:off x="380880" y="1371600"/>
            <a:ext cx="8077320" cy="558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ackground</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lobal Efforts and Responses</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gional efforts in African Continent</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eparations for COP 21 /CMP 11</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HOSCC Key Messages</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tatus of Negotiations</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s Engagement @ COP 21 / CMP 11</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Calibri"/>
              </a:rPr>
              <a:t>Conclusion</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475920"/>
            <a:ext cx="766764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Key issues for Africa @ COP 21 in Paris new Climate Change Agreement  (2)</a:t>
            </a:r>
            <a:br>
              <a:rPr sz="2900"/>
            </a:br>
            <a:endParaRPr b="0" lang="en-US" sz="2900" spc="-1" strike="noStrike">
              <a:solidFill>
                <a:srgbClr val="000000"/>
              </a:solidFill>
              <a:latin typeface="Calibri"/>
            </a:endParaRPr>
          </a:p>
        </p:txBody>
      </p:sp>
      <p:sp>
        <p:nvSpPr>
          <p:cNvPr id="172" name="Rectangle 2"/>
          <p:cNvSpPr/>
          <p:nvPr/>
        </p:nvSpPr>
        <p:spPr>
          <a:xfrm>
            <a:off x="181080" y="1413000"/>
            <a:ext cx="8891640" cy="50317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sure balance in content and legality of mitigation and adaptation activities, Means of Implementation.</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daptation and mitigation should be given equal prominence.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limate Finance -adequate funding for developing countries for adaptation and mitigation measures, including period 2015–202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475920"/>
            <a:ext cx="766764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Key issues for Africa @ COP 21 in Paris new Climate Change Agreement  (3)</a:t>
            </a:r>
            <a:br>
              <a:rPr sz="2900"/>
            </a:br>
            <a:endParaRPr b="0" lang="en-US" sz="2900" spc="-1" strike="noStrike">
              <a:solidFill>
                <a:srgbClr val="000000"/>
              </a:solidFill>
              <a:latin typeface="Calibri"/>
            </a:endParaRPr>
          </a:p>
        </p:txBody>
      </p:sp>
      <p:sp>
        <p:nvSpPr>
          <p:cNvPr id="174" name="Rectangle 2"/>
          <p:cNvSpPr/>
          <p:nvPr/>
        </p:nvSpPr>
        <p:spPr>
          <a:xfrm>
            <a:off x="181080" y="1206360"/>
            <a:ext cx="8891640" cy="612900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fordable Technology Development and Transfer.</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pacity Building to ensure coherence and coordination following adoption of new Agreement in Paris in December 2015, and in period beyond 2020, when new agreement takes effect.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ransparency - building trust in multilateral system and Monitoring, Reporting and Verification (MRV) of emissions and f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75920"/>
            <a:ext cx="766764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Key issues for Africa @ COP 21 in Paris new Climate Change Agreement  (4)</a:t>
            </a:r>
            <a:br>
              <a:rPr sz="2900"/>
            </a:br>
            <a:endParaRPr b="0" lang="en-US" sz="2900" spc="-1" strike="noStrike">
              <a:solidFill>
                <a:srgbClr val="000000"/>
              </a:solidFill>
              <a:latin typeface="Calibri"/>
            </a:endParaRPr>
          </a:p>
        </p:txBody>
      </p:sp>
      <p:sp>
        <p:nvSpPr>
          <p:cNvPr id="176" name="Rectangle 2"/>
          <p:cNvSpPr/>
          <p:nvPr/>
        </p:nvSpPr>
        <p:spPr>
          <a:xfrm>
            <a:off x="181080" y="1413000"/>
            <a:ext cx="8891640" cy="39344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ima-Paris Action Agenda (LPAA) and Intended Nationally Determined Contributions (INDCs) on the various climate actions of different regions and countries on the various actions to be presented at the Paris COP in December 201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2492280"/>
            <a:ext cx="7523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Status of Negotiations</a:t>
            </a:r>
            <a:br>
              <a:rPr sz="2900"/>
            </a:b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188640"/>
            <a:ext cx="75247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Status of Negotiations</a:t>
            </a:r>
            <a:br>
              <a:rPr sz="2900"/>
            </a:br>
            <a:endParaRPr b="0" lang="en-US" sz="2900" spc="-1" strike="noStrike">
              <a:solidFill>
                <a:srgbClr val="000000"/>
              </a:solidFill>
              <a:latin typeface="Calibri"/>
            </a:endParaRPr>
          </a:p>
        </p:txBody>
      </p:sp>
      <p:sp>
        <p:nvSpPr>
          <p:cNvPr id="179" name="Rectangle 2"/>
          <p:cNvSpPr/>
          <p:nvPr/>
        </p:nvSpPr>
        <p:spPr>
          <a:xfrm>
            <a:off x="216000" y="1143000"/>
            <a:ext cx="8891640" cy="119761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Messages</a:t>
            </a:r>
            <a:endParaRPr b="0" lang="en-US" sz="36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DP 2-11 convened throughout last week in spin-off groups to advance negotiations on specific sections in the agreement and decision text, and in an open-ended contact group to take stock of progress and discuss issues not addressed in spin-off groups.  </a:t>
            </a: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arties agreed to forward the revised non-paper, that captured the work undertaken by parties at ADP 2-11, for further negotiations at COP 21</a:t>
            </a: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der </a:t>
            </a:r>
            <a:r>
              <a:rPr b="0" lang="en-GB" sz="3600" spc="-1" strike="noStrike">
                <a:solidFill>
                  <a:srgbClr val="000000"/>
                </a:solidFill>
                <a:latin typeface="Calibri"/>
              </a:rPr>
              <a:t>the ADP. Parties also requested that the Secretariat prepare a technical paper, which would identify closely related paragraphs and duplications within sections, and possible areas for streamlining, without any changes to the content of the text.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23760"/>
            <a:ext cx="9612360" cy="81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frica’s Engagement @COP 21 / CMP 11</a:t>
            </a:r>
            <a:endParaRPr b="0" lang="en-US" sz="4000" spc="-1" strike="noStrike">
              <a:solidFill>
                <a:srgbClr val="000000"/>
              </a:solidFill>
              <a:latin typeface="Calibri"/>
            </a:endParaRPr>
          </a:p>
        </p:txBody>
      </p:sp>
      <p:sp>
        <p:nvSpPr>
          <p:cNvPr id="181" name="Rectangle 2"/>
          <p:cNvSpPr/>
          <p:nvPr/>
        </p:nvSpPr>
        <p:spPr>
          <a:xfrm>
            <a:off x="162000" y="981000"/>
            <a:ext cx="8740800" cy="60339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Date: 30 Nov – 11 Dec 2015.</a:t>
            </a:r>
            <a:endParaRPr b="0" lang="en-US" sz="33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Venue: Le </a:t>
            </a:r>
            <a:r>
              <a:rPr b="1" lang="en-GB" sz="3300" spc="-1" strike="noStrike" u="sng">
                <a:solidFill>
                  <a:srgbClr val="ff0000"/>
                </a:solidFill>
                <a:uFillTx/>
                <a:latin typeface="Calibri"/>
              </a:rPr>
              <a:t>Bourget</a:t>
            </a:r>
            <a:r>
              <a:rPr b="0" lang="en-GB" sz="3300" spc="-1" strike="noStrike">
                <a:solidFill>
                  <a:srgbClr val="000000"/>
                </a:solidFill>
                <a:latin typeface="Calibri"/>
              </a:rPr>
              <a:t>, Paris, France.</a:t>
            </a:r>
            <a:endParaRPr b="0" lang="en-US" sz="33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Commences with Regional Group meetings:</a:t>
            </a:r>
            <a:endParaRPr b="0" lang="en-US" sz="33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SimSun"/>
              </a:rPr>
              <a:t>African Group convening: 25 – 26 Nov 2015.</a:t>
            </a: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et up a Preparatory Committee with AUC, AfDB, UNECA and NEPAD (NPCA) to have an African Pavilion in COP 21 / CMP 11 in Paris to:</a:t>
            </a:r>
            <a:endParaRPr b="0" lang="en-US" sz="33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Support Africa’s participation. </a:t>
            </a:r>
            <a:endParaRPr b="0" lang="en-US" sz="32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An Africa Day side event – 8 December 2015 (jointly organized by 4 institutions and Federal Democratic Republic of Ethiopia). </a:t>
            </a:r>
            <a:endParaRPr b="0" lang="en-US" sz="32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23400"/>
            <a:ext cx="961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frican Pavilion @ COP 21 / CMP 11</a:t>
            </a:r>
            <a:endParaRPr b="0" lang="en-US" sz="4000" spc="-1" strike="noStrike">
              <a:solidFill>
                <a:srgbClr val="000000"/>
              </a:solidFill>
              <a:latin typeface="Calibri"/>
            </a:endParaRPr>
          </a:p>
        </p:txBody>
      </p:sp>
      <p:sp>
        <p:nvSpPr>
          <p:cNvPr id="183" name="Rectangle 2"/>
          <p:cNvSpPr/>
          <p:nvPr/>
        </p:nvSpPr>
        <p:spPr>
          <a:xfrm>
            <a:off x="360360" y="1066680"/>
            <a:ext cx="8740800" cy="50317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intly organized by 4 institutions  - established </a:t>
            </a:r>
            <a:r>
              <a:rPr b="0" lang="en-GB" sz="3600" spc="-1" strike="noStrike">
                <a:solidFill>
                  <a:srgbClr val="000000"/>
                </a:solidFill>
                <a:latin typeface="Calibri"/>
              </a:rPr>
              <a:t>4 Sub-Committees:</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Technical.</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Africa Day side event.</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Communication and</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Resource Mobilization)</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bilizing 1.5 million Euro - World Bank, French Government, UNDP, Civil Society,, Benin Republic et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23400"/>
            <a:ext cx="961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185" name="Rectangle 2"/>
          <p:cNvSpPr/>
          <p:nvPr/>
        </p:nvSpPr>
        <p:spPr>
          <a:xfrm>
            <a:off x="360360" y="1066680"/>
            <a:ext cx="8740800" cy="338580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rge all African States and Friends of Africa to participate at COP 21</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mpion the interests of mother Africa with one voice that is heard loud and clear in the spirit of our African Agenda 2063 – The Africa we wa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fontScale="96000"/>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Thank You!</a:t>
            </a: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Calibri"/>
              </a:rPr>
              <a:t>Merci Beaucoup!</a:t>
            </a: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Calibri"/>
              </a:rPr>
              <a:t>Obrigada!</a:t>
            </a: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Calibri"/>
              </a:rPr>
              <a:t>Shukuran!</a:t>
            </a: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Calibri"/>
              </a:rPr>
              <a:t>Asante sana!</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437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ackground </a:t>
            </a:r>
            <a:endParaRPr b="0" lang="en-US" sz="3600" spc="-1" strike="noStrike">
              <a:solidFill>
                <a:srgbClr val="000000"/>
              </a:solidFill>
              <a:latin typeface="Calibri"/>
            </a:endParaRPr>
          </a:p>
        </p:txBody>
      </p:sp>
      <p:sp>
        <p:nvSpPr>
          <p:cNvPr id="139" name="Rectangle 2"/>
          <p:cNvSpPr/>
          <p:nvPr/>
        </p:nvSpPr>
        <p:spPr>
          <a:xfrm>
            <a:off x="380880" y="1371600"/>
            <a:ext cx="8077320" cy="558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16000" y="64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hallenge and Vulnerability</a:t>
            </a:r>
            <a:endParaRPr b="0" lang="en-US" sz="3600" spc="-1" strike="noStrike">
              <a:solidFill>
                <a:srgbClr val="000000"/>
              </a:solidFill>
              <a:latin typeface="Calibri"/>
            </a:endParaRPr>
          </a:p>
        </p:txBody>
      </p:sp>
      <p:sp>
        <p:nvSpPr>
          <p:cNvPr id="141" name="Rectangle 2"/>
          <p:cNvSpPr/>
          <p:nvPr/>
        </p:nvSpPr>
        <p:spPr>
          <a:xfrm>
            <a:off x="326880" y="1093680"/>
            <a:ext cx="8891640" cy="55803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limate Change is a global challenge.</a:t>
            </a:r>
            <a:endParaRPr b="0" lang="en-US" sz="3600" spc="-1" strike="noStrike">
              <a:solidFill>
                <a:srgbClr val="000000"/>
              </a:solidFill>
              <a:latin typeface="Calibri"/>
            </a:endParaRPr>
          </a:p>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 is most vulnerable continent and least adaptive capability.</a:t>
            </a:r>
            <a:endParaRPr b="0" lang="en-US" sz="3600" spc="-1" strike="noStrike">
              <a:solidFill>
                <a:srgbClr val="000000"/>
              </a:solidFill>
              <a:latin typeface="Calibri"/>
            </a:endParaRPr>
          </a:p>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eat impacts on development in Africa - GDP of most countries are dependent on climate sensitive sectors such as:</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Agriculture, Livestock and fisheries, Tourism and Energy. </a:t>
            </a:r>
            <a:endParaRPr b="0" lang="en-US" sz="3600" spc="-1" strike="noStrike">
              <a:solidFill>
                <a:srgbClr val="000000"/>
              </a:solidFill>
              <a:latin typeface="Calibri"/>
            </a:endParaRPr>
          </a:p>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 contributes least Greenhouse Gases (GHGs) but suffers mo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0"/>
            <a:ext cx="691200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verse Impacts </a:t>
            </a:r>
            <a:endParaRPr b="0" lang="en-US" sz="3600" spc="-1" strike="noStrike">
              <a:solidFill>
                <a:srgbClr val="000000"/>
              </a:solidFill>
              <a:latin typeface="Calibri"/>
            </a:endParaRPr>
          </a:p>
        </p:txBody>
      </p:sp>
      <p:sp>
        <p:nvSpPr>
          <p:cNvPr id="143" name="Rectangle 2"/>
          <p:cNvSpPr/>
          <p:nvPr/>
        </p:nvSpPr>
        <p:spPr>
          <a:xfrm>
            <a:off x="252360" y="1093680"/>
            <a:ext cx="8640720" cy="55803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dverse impacts of Climate Change.</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anifestations through reduced or variable precipitation, droughts and flooding and the consequent disruption of agricultural, energy and transport systems.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uman security - Threats to :</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Food and Water supplies.</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Properties and</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Infrastructure 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71640" y="333000"/>
            <a:ext cx="6913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PCC Report – Africa by 2020: (1)</a:t>
            </a:r>
            <a:endParaRPr b="0" lang="en-US" sz="3600" spc="-1" strike="noStrike">
              <a:solidFill>
                <a:srgbClr val="000000"/>
              </a:solidFill>
              <a:latin typeface="Calibri"/>
            </a:endParaRPr>
          </a:p>
        </p:txBody>
      </p:sp>
      <p:sp>
        <p:nvSpPr>
          <p:cNvPr id="145" name="Rectangle 2"/>
          <p:cNvSpPr/>
          <p:nvPr/>
        </p:nvSpPr>
        <p:spPr>
          <a:xfrm>
            <a:off x="252360" y="1557360"/>
            <a:ext cx="8891640" cy="44809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ater Resources - 75 and 250 million people projected: increased water stress and variability, pressures on water availability, water accessibility and water demand. </a:t>
            </a: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griculture: Adversely affect food security and exacerbate malnutrition, some countries - rain-fed agriculture reduced by 50%, agricultural production - severely compromis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640" y="333000"/>
            <a:ext cx="6913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PCC Report – Africa by 2020: (2) </a:t>
            </a:r>
            <a:endParaRPr b="0" lang="en-US" sz="3600" spc="-1" strike="noStrike">
              <a:solidFill>
                <a:srgbClr val="000000"/>
              </a:solidFill>
              <a:latin typeface="Calibri"/>
            </a:endParaRPr>
          </a:p>
        </p:txBody>
      </p:sp>
      <p:sp>
        <p:nvSpPr>
          <p:cNvPr id="147" name="Rectangle 2"/>
          <p:cNvSpPr/>
          <p:nvPr/>
        </p:nvSpPr>
        <p:spPr>
          <a:xfrm>
            <a:off x="252360" y="1341360"/>
            <a:ext cx="8891640" cy="44809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uman health - e.g. malaria in southern Africa and East African highlands.</a:t>
            </a: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ociated infrastructure losses - reduced hydro-generation capacity.</a:t>
            </a: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ise of conflicts - reduced access to natural resources depend considerably for their lives and liveliho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0"/>
            <a:ext cx="691200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Efforts and Responses (1)</a:t>
            </a:r>
            <a:endParaRPr b="0" lang="en-US" sz="3600" spc="-1" strike="noStrike">
              <a:solidFill>
                <a:srgbClr val="000000"/>
              </a:solidFill>
              <a:latin typeface="Calibri"/>
            </a:endParaRPr>
          </a:p>
        </p:txBody>
      </p:sp>
      <p:sp>
        <p:nvSpPr>
          <p:cNvPr id="149" name="Rectangle 2"/>
          <p:cNvSpPr/>
          <p:nvPr/>
        </p:nvSpPr>
        <p:spPr>
          <a:xfrm>
            <a:off x="252360" y="1093680"/>
            <a:ext cx="8640720" cy="52725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992 - Climate Convention and its related legal instruments established to:</a:t>
            </a:r>
            <a:endParaRPr b="0" lang="en-US" sz="36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SimSun"/>
              </a:rPr>
              <a:t>Stabilize Greenhouse Gas concentrations in the atmosphere at a level that would prevent dangerous anthropogenic interference with climate system. </a:t>
            </a:r>
            <a:endParaRPr b="0" lang="en-US" sz="30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SimSun"/>
              </a:rPr>
              <a:t>Level to achieve within a time-frame sufficient to allow ecosystems to adapt naturally to climate chang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0"/>
            <a:ext cx="691200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Efforts and Responses (2)</a:t>
            </a:r>
            <a:endParaRPr b="0" lang="en-US" sz="3600" spc="-1" strike="noStrike">
              <a:solidFill>
                <a:srgbClr val="000000"/>
              </a:solidFill>
              <a:latin typeface="Calibri"/>
            </a:endParaRPr>
          </a:p>
        </p:txBody>
      </p:sp>
      <p:sp>
        <p:nvSpPr>
          <p:cNvPr id="151" name="Rectangle 2"/>
          <p:cNvSpPr/>
          <p:nvPr/>
        </p:nvSpPr>
        <p:spPr>
          <a:xfrm>
            <a:off x="281160" y="1114560"/>
            <a:ext cx="8891280" cy="39344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992 - Climate Convention  - Ensure food production is not threatened and enable economic development to proceed in a sustainable manner.”</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ticle 2 of UNFCCC seeks to control carbon emissions and support sustainable develop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6T09:48:17Z</dcterms:created>
  <dc:creator>Olushola Dell</dc:creator>
  <dc:description/>
  <dc:language>en-US</dc:language>
  <cp:lastModifiedBy>ACP Staff</cp:lastModifiedBy>
  <dcterms:modified xsi:type="dcterms:W3CDTF">2015-10-28T14:58:50Z</dcterms:modified>
  <cp:revision>52</cp:revision>
  <dc:subject/>
  <dc:title> </dc:title>
</cp:coreProperties>
</file>