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2C1A-6DE9-4988-B524-39869B6464D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5F00-9396-47BE-907D-883377C3CBC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324D-667A-4E23-BF4B-788712C2C7EB}" type="datetime">
              <a:rPr b="0" lang="en-US" sz="1200" spc="-1" strike="noStrike">
                <a:solidFill>
                  <a:srgbClr val="ffffff"/>
                </a:solidFill>
                <a:latin typeface="Verdana"/>
              </a:rPr>
              <a:t>07/30/26</a:t>
            </a:fld>
            <a:r>
              <a:rPr b="0" lang="en-US" sz="1200" spc="-1" strike="noStrike">
                <a:solidFill>
                  <a:srgbClr val="ffffff"/>
                </a:solidFill>
                <a:latin typeface="Verdana"/>
              </a:rPr>
              <a:t> </a:t>
            </a:r>
            <a:fld id="{6539249D-448B-4DCE-97B4-3180A61AC571}"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E7A9-3CC5-4815-9551-5F8CE2530CF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F7CD-235C-4DE4-951C-BB80322D7BD9}" type="datetime">
              <a:rPr b="0" lang="en-US" sz="1200" spc="-1" strike="noStrike">
                <a:solidFill>
                  <a:srgbClr val="ffffff"/>
                </a:solidFill>
                <a:latin typeface="Verdana"/>
              </a:rPr>
              <a:t>07/30/26</a:t>
            </a:fld>
            <a:r>
              <a:rPr b="0" lang="en-US" sz="1200" spc="-1" strike="noStrike">
                <a:solidFill>
                  <a:srgbClr val="ffffff"/>
                </a:solidFill>
                <a:latin typeface="Verdana"/>
              </a:rPr>
              <a:t> </a:t>
            </a:r>
            <a:fld id="{55686D41-5BF6-4EFE-ACDE-2955D17134A8}"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3F4D-90D7-4A1B-8503-ED44806240D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C1B0-17B6-4CB9-9FC0-154D0F4242E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C2B3-9A31-4441-A6DD-59DA8181DD00}" type="datetime">
              <a:rPr b="0" lang="en-US" sz="1200" spc="-1" strike="noStrike">
                <a:solidFill>
                  <a:srgbClr val="ffffff"/>
                </a:solidFill>
                <a:latin typeface="Verdana"/>
              </a:rPr>
              <a:t>07/30/26</a:t>
            </a:fld>
            <a:r>
              <a:rPr b="0" lang="en-US" sz="1200" spc="-1" strike="noStrike">
                <a:solidFill>
                  <a:srgbClr val="ffffff"/>
                </a:solidFill>
                <a:latin typeface="Verdana"/>
              </a:rPr>
              <a:t> </a:t>
            </a:r>
            <a:fld id="{9DCC02FB-06E9-41AE-B985-4AB39F25979A}"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988A-F157-4C82-8805-46AB6D423D0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2A26-9616-4A22-AF4B-A783E988C960}" type="datetime">
              <a:rPr b="0" lang="en-US" sz="1200" spc="-1" strike="noStrike">
                <a:solidFill>
                  <a:srgbClr val="ffffff"/>
                </a:solidFill>
                <a:latin typeface="Verdana"/>
              </a:rPr>
              <a:t>07/30/26</a:t>
            </a:fld>
            <a:r>
              <a:rPr b="0" lang="en-US" sz="1200" spc="-1" strike="noStrike">
                <a:solidFill>
                  <a:srgbClr val="ffffff"/>
                </a:solidFill>
                <a:latin typeface="Verdana"/>
              </a:rPr>
              <a:t> </a:t>
            </a:r>
            <a:fld id="{E0FFC700-395D-4EB9-820E-1D6BBF58FCC8}"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1E61-A5E1-4A4B-BB33-76B6716AA59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3B42-A67F-4C79-8D15-62174C968ED7}" type="datetime">
              <a:rPr b="0" lang="en-US" sz="1200" spc="-1" strike="noStrike">
                <a:solidFill>
                  <a:srgbClr val="ffffff"/>
                </a:solidFill>
                <a:latin typeface="Verdana"/>
              </a:rPr>
              <a:t>07/30/26</a:t>
            </a:fld>
            <a:r>
              <a:rPr b="0" lang="en-US" sz="1200" spc="-1" strike="noStrike">
                <a:solidFill>
                  <a:srgbClr val="ffffff"/>
                </a:solidFill>
                <a:latin typeface="Verdana"/>
              </a:rPr>
              <a:t> </a:t>
            </a:r>
            <a:fld id="{08847266-B108-4E49-8001-1433643AE873}"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E402-3F9C-4C4A-8278-C096FAFF175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EF75-405A-4916-9CFF-AADFE66AA639}" type="datetime">
              <a:rPr b="0" lang="en-US" sz="1200" spc="-1" strike="noStrike">
                <a:solidFill>
                  <a:srgbClr val="ffffff"/>
                </a:solidFill>
                <a:latin typeface="Verdana"/>
              </a:rPr>
              <a:t>07/30/26</a:t>
            </a:fld>
            <a:r>
              <a:rPr b="0" lang="en-US" sz="1200" spc="-1" strike="noStrike">
                <a:solidFill>
                  <a:srgbClr val="ffffff"/>
                </a:solidFill>
                <a:latin typeface="Verdana"/>
              </a:rPr>
              <a:t> </a:t>
            </a:r>
            <a:fld id="{15EBDD75-C5C2-410F-8206-106E38A6C732}"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AEC1-F9FE-40B7-83F1-7F763D09CBA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9171-E4E2-4E5A-A8A8-7BFE2A47F593}" type="datetime">
              <a:rPr b="0" lang="en-US" sz="1200" spc="-1" strike="noStrike">
                <a:solidFill>
                  <a:srgbClr val="ffffff"/>
                </a:solidFill>
                <a:latin typeface="Verdana"/>
              </a:rPr>
              <a:t>07/30/26</a:t>
            </a:fld>
            <a:r>
              <a:rPr b="0" lang="en-US" sz="1200" spc="-1" strike="noStrike">
                <a:solidFill>
                  <a:srgbClr val="ffffff"/>
                </a:solidFill>
                <a:latin typeface="Verdana"/>
              </a:rPr>
              <a:t> </a:t>
            </a:r>
            <a:fld id="{D47BF340-74B1-4826-96ED-711ADFBD3D60}"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1B56-F85C-41C5-BEA2-7FB87543CC5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2783-7092-4211-9B64-7E79D4BCD582}" type="datetime">
              <a:rPr b="0" lang="en-US" sz="1200" spc="-1" strike="noStrike">
                <a:solidFill>
                  <a:srgbClr val="ffffff"/>
                </a:solidFill>
                <a:latin typeface="Verdana"/>
              </a:rPr>
              <a:t>07/30/26</a:t>
            </a:fld>
            <a:r>
              <a:rPr b="0" lang="en-US" sz="1200" spc="-1" strike="noStrike">
                <a:solidFill>
                  <a:srgbClr val="ffffff"/>
                </a:solidFill>
                <a:latin typeface="Verdana"/>
              </a:rPr>
              <a:t> </a:t>
            </a:r>
            <a:fld id="{677C170A-A6F3-4619-8E76-DB74E80801A4}"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A0C9-4ED0-428B-A3D9-3C6524A4E11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21AC-3C85-4CD7-B8CE-5394228522A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3AD8-678F-4E2D-AF16-B1C6F7019BF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6561-1A59-4088-92C7-46C572557C4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187D-AAAE-4AA0-9C17-B298437E2E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BBB0-7AA4-4E45-9804-FE2FEA19C60B}" type="datetime">
              <a:rPr b="0" lang="en-US" sz="1200" spc="-1" strike="noStrike">
                <a:solidFill>
                  <a:srgbClr val="ffffff"/>
                </a:solidFill>
                <a:latin typeface="Verdana"/>
              </a:rPr>
              <a:t>07/30/26</a:t>
            </a:fld>
            <a:r>
              <a:rPr b="0" lang="en-US" sz="1200" spc="-1" strike="noStrike">
                <a:solidFill>
                  <a:srgbClr val="ffffff"/>
                </a:solidFill>
                <a:latin typeface="Verdana"/>
              </a:rPr>
              <a:t> </a:t>
            </a:r>
            <a:fld id="{71B4B26C-0E9F-4A1F-AB4E-14259EE596B7}"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D64B-1964-4928-94E5-4B3E0259AA7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FFD7-B9CD-4D6C-8F41-967A0442467F}" type="datetime">
              <a:rPr b="0" lang="en-US" sz="1200" spc="-1" strike="noStrike">
                <a:solidFill>
                  <a:srgbClr val="ffffff"/>
                </a:solidFill>
                <a:latin typeface="Verdana"/>
              </a:rPr>
              <a:t>07/30/26</a:t>
            </a:fld>
            <a:r>
              <a:rPr b="0" lang="en-US" sz="1200" spc="-1" strike="noStrike">
                <a:solidFill>
                  <a:srgbClr val="ffffff"/>
                </a:solidFill>
                <a:latin typeface="Verdana"/>
              </a:rPr>
              <a:t> </a:t>
            </a:r>
            <a:fld id="{C4F431B4-91BD-4004-B854-A75F0B2C2282}"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6A51-CC1A-4AB0-AD00-D776A3C189E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0CC5-160D-4806-8225-3A1EE105D616}" type="datetime">
              <a:rPr b="0" lang="en-US" sz="1200" spc="-1" strike="noStrike">
                <a:solidFill>
                  <a:srgbClr val="ffffff"/>
                </a:solidFill>
                <a:latin typeface="Verdana"/>
              </a:rPr>
              <a:t>07/30/26</a:t>
            </a:fld>
            <a:r>
              <a:rPr b="0" lang="en-US" sz="1200" spc="-1" strike="noStrike">
                <a:solidFill>
                  <a:srgbClr val="ffffff"/>
                </a:solidFill>
                <a:latin typeface="Verdana"/>
              </a:rPr>
              <a:t> </a:t>
            </a:r>
            <a:fld id="{9B6F537C-71F4-45F5-8B9A-EACCF0E5F67D}" type="datetime10">
              <a:rPr b="0" lang="en-US" sz="1200" spc="-1" strike="noStrike">
                <a:solidFill>
                  <a:srgbClr val="ffffff"/>
                </a:solidFill>
                <a:latin typeface="Verdana"/>
              </a:rPr>
              <a:t>18:01</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6A9F-9BEE-427A-BA1E-828AE9ED03E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C0EAE-0D36-404B-B992-2F051E6C0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C598E-A0D8-4428-B4DE-31FE75B4D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E4C21-0249-4A02-98F0-2A54D5537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22894-3120-4BCA-9640-F7A3284C7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C3D19-E501-4C37-964C-E9FCA3331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ACEB9-EE89-4736-A0AB-03E9FBE2E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33FCE-635B-4EC4-BBAA-03AD486A5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07BAE-D65A-4100-AC59-9922FF524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53F26-69E1-45B4-A42F-DADB4B154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29CB9-246A-432F-8ABB-125B40AF9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5D08D-CF90-4E08-8350-59C876DB8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07989-8851-44D7-ABF9-D33D4E822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DBAD1-8642-4AAC-9BD5-3B78B33FE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4BBBC-80AC-4940-A786-024ECE61A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D8F5C-321A-447D-A52E-7ED1FABF8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CE8EE-1C30-4053-984D-660A9A01E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DAE56-44B3-4286-A67D-E672DCC22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64661-E87F-4B19-AFC4-C8A1C5F46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08013-25F0-425B-8A1F-7E1D3DDD7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A5A48-DCF2-4A7D-A438-71EECEEF1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55C67-B2F5-49DB-B5BC-A6E81B9E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3884A-54BF-4205-ADA3-7116820AE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23B07-45F2-4C8A-A710-29F3DAEEE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1DBB8-7C21-4167-A499-C62A272F9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215F-A8E8-4725-9872-05AE6689DC3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9B38-E69A-4B3D-88B8-562A9AC1DE9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439A-01A7-492D-B733-3F8D91009B36}"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