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webgate.ec.europa.eu/fpfis/mwikis/aidco/images/0/07/Mapping1.PN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cc"/>
                </a:solidFill>
                <a:latin typeface="Times New Roman"/>
              </a:rPr>
              <a:t>Mapping civil society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A tool for engaging with non state act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Training seminar 4-8 July 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olo 1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321760" cy="536760"/>
          </a:xfrm>
          <a:prstGeom prst="rect">
            <a:avLst/>
          </a:prstGeom>
          <a:ln w="0">
            <a:noFill/>
          </a:ln>
        </p:spPr>
      </p:pic>
      <p:pic>
        <p:nvPicPr>
          <p:cNvPr id="109" name="Tabella 2" descr=""/>
          <p:cNvPicPr/>
          <p:nvPr/>
        </p:nvPicPr>
        <p:blipFill>
          <a:blip r:embed="rId3"/>
          <a:stretch/>
        </p:blipFill>
        <p:spPr>
          <a:xfrm>
            <a:off x="249120" y="1054080"/>
            <a:ext cx="8718840" cy="5402160"/>
          </a:xfrm>
          <a:prstGeom prst="rect">
            <a:avLst/>
          </a:prstGeom>
          <a:ln w="0">
            <a:noFill/>
          </a:ln>
        </p:spPr>
      </p:pic>
      <p:sp>
        <p:nvSpPr>
          <p:cNvPr id="110" name="Indietro o precedente 3"/>
          <p:cNvSpPr/>
          <p:nvPr/>
        </p:nvSpPr>
        <p:spPr>
          <a:xfrm>
            <a:off x="8567640" y="6364440"/>
            <a:ext cx="576360" cy="493560"/>
          </a:xfrm>
          <a:custGeom>
            <a:avLst/>
            <a:gdLst>
              <a:gd name="textAreaLeft" fmla="*/ 31680 w 576360"/>
              <a:gd name="textAreaRight" fmla="*/ 544680 w 57636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5221" h="21600">
                <a:moveTo>
                  <a:pt x="0" y="0"/>
                </a:moveTo>
                <a:lnTo>
                  <a:pt x="25221" y="0"/>
                </a:lnTo>
                <a:lnTo>
                  <a:pt x="25221" y="21600"/>
                </a:lnTo>
                <a:lnTo>
                  <a:pt x="0" y="21600"/>
                </a:lnTo>
                <a:close/>
              </a:path>
              <a:path fill="lightenLess" w="25221" h="21600">
                <a:moveTo>
                  <a:pt x="0" y="0"/>
                </a:moveTo>
                <a:lnTo>
                  <a:pt x="25221" y="0"/>
                </a:lnTo>
                <a:lnTo>
                  <a:pt x="23821" y="1400"/>
                </a:lnTo>
                <a:lnTo>
                  <a:pt x="1400" y="1400"/>
                </a:lnTo>
                <a:close/>
              </a:path>
              <a:path fill="darken" w="25221" h="21600">
                <a:moveTo>
                  <a:pt x="25221" y="0"/>
                </a:moveTo>
                <a:lnTo>
                  <a:pt x="25221" y="21600"/>
                </a:lnTo>
                <a:lnTo>
                  <a:pt x="23821" y="20200"/>
                </a:lnTo>
                <a:lnTo>
                  <a:pt x="23821" y="1400"/>
                </a:lnTo>
                <a:close/>
              </a:path>
              <a:path fill="darkenLess" w="25221" h="21600">
                <a:moveTo>
                  <a:pt x="25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21" y="20200"/>
                </a:lnTo>
                <a:close/>
              </a:path>
              <a:path fill="lighten" w="25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21" h="21600">
                <a:moveTo>
                  <a:pt x="5604" y="10800"/>
                </a:moveTo>
                <a:lnTo>
                  <a:pt x="19617" y="3794"/>
                </a:lnTo>
                <a:lnTo>
                  <a:pt x="19617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RVEY ON MAPPING EXERCICES  (2010)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last 5 years, about 30 Civil Society / NSA mapping studies have been conducted or are ongo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P: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IA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: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IGHBOURHOOD SOUTH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NEIGHBOURHOOD EAST 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Strenghts (2010)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ppings prove to be useful in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agnosis and in the preparation of action fiches (AAP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oth for thematic and geographic programmes. However, mapping studies proved to be more relevant in the identification than in the programming pha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light of the   'budget support' (General BS or SPSP), the mapping studies could be  extremely useful to engage NSA in the New Aid Modalities (NAM)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</a:rPr>
              <a:t>[1]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ping allows formal and informal knowledge of the local society; it might be  a tool to analyze the "actors" side of a local society in the 'Political Economy' analysis schem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some countries, the mapping is completed with a comprehensiv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b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ventually made by other donors (CIVICU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[1]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 Reference Document n° 12 "Engaging Non-State Actors in New Aid Modalities" (to be publish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Weaknesses (2010)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6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pping studies should be qualitativ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antitativ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ppings often lack sufficient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quantitative data'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needed by the programming exercise;  quantitative data's of NSA involved in a particular sector, or  in a geographical area,  might influence the programming of  activiti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pping is a relevant to involve the CS actors in th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irst ph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of a programming cycle; might be of a limited contribution for the formulation of the activiti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pping should be better used to  improve policy and  sectoral dialog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ynamic mapping should include an analysis of the dynamicis with national Parliaments and  private sector (three spher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ck of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erritorial analysis and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isibility of the geographical distribution of activities of NSA on the territo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ue  to restricte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pert day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average: 45) need to hire consultants with an excellent knowledge of the Country and of the language of the count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gular update is requir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; turn over of EU staff makes continuity difficult (especially in fragile countries and in post conflict situation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operation between political and operation sectio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a mu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3333cc"/>
                </a:solidFill>
                <a:latin typeface="Times New Roman"/>
              </a:rPr>
              <a:t>Sources for the session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CISOCH web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ccff"/>
                </a:solidFill>
                <a:latin typeface="Times New Roman"/>
              </a:rPr>
              <a:t>/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ww.cc.cec/dgintranet/europeaid/activities/thematic/e4/civil_society/key_tools_guidelines_en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9th EDF Capitalizatio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cc"/>
                </a:solidFill>
                <a:latin typeface="Times New Roman"/>
              </a:rPr>
              <a:t>MAPPING, A NEW TOOL ?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GUIDELINES ON PRINCIPLES AND GOOD PRACTICES FOR THE PARTICIPATION OF NSA IN THE DEVELOPMENT DIALOGUE AND CONSULTATION (20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HANDBOOK ON PROMOTING GOOD GOVERNANCE IN EC DEVELOPMENT AND COOPERATION (20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CAPITALISATION STUDY OF 9TH EDF (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PI CIVIL SOCIETY FACILITY 2011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FORSEES THE FINANCING OF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CHALLENGES FOR GOVERNANCE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NSA called to play a role in domestic accoun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and ownershi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New roles might be: advocate specific group’s interest; increase social ownership (capacity to mobilise social actors); strenghten governance and accountability; service delivery ; quality of services 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« New » aid modalities (budget support and SPSP) apply different and upgraded roles for NSA and require improved knowledge of CSOs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Mapping, what is it about ?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6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Mapping is a tool that applies to different nee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28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Call for proposal on civil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28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Preparation of a capacity building programme for C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28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ectorial programmes (SP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28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Political dialogue on country strategy or mid term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28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Preparation of a Poverty reduction  strategic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28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Human Rights policy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28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Component of the « political economy »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cc"/>
                </a:solidFill>
                <a:latin typeface="Times New Roman"/>
              </a:rPr>
              <a:t>Timing for the mapping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File:Mapping1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557360"/>
            <a:ext cx="8820000" cy="4967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About objective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re is a proper understanding of the objectives that originate the mapping of civil society actors, the mapping scope will be better defined and its findings will better meet the expec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6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Well defined objectives will be translated in clear 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Components of a mapping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v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sion of the institutional actors acting in the country State, economic and civil society sphe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v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stor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sion of the activities of these actors in connection with the main economic, social and political events of the country or reg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ve a vision of the social actors in the variou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lating to cooperation with the European Union, their connections and respective we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 decision-mak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identifying, formulating and implementing policies and strateg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Mapping what ?  Types of Matrix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827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Types of </a:t>
            </a:r>
            <a:r>
              <a:rPr b="1" lang="fr-BE" sz="2800" spc="-1" strike="noStrike">
                <a:solidFill>
                  <a:srgbClr val="3333cc"/>
                </a:solidFill>
                <a:latin typeface="Times New Roman"/>
              </a:rPr>
              <a:t>Actors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(state, economy, civil society) in general and per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cc"/>
                </a:solidFill>
                <a:latin typeface="Times New Roman"/>
              </a:rPr>
              <a:t>Timelines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and legal frame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cc"/>
                </a:solidFill>
                <a:latin typeface="Times New Roman"/>
              </a:rPr>
              <a:t>Dynamics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/Contradictions/t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Levels of </a:t>
            </a:r>
            <a:r>
              <a:rPr b="1" lang="fr-BE" sz="2800" spc="-1" strike="noStrike">
                <a:solidFill>
                  <a:srgbClr val="3333cc"/>
                </a:solidFill>
                <a:latin typeface="Times New Roman"/>
              </a:rPr>
              <a:t>structuration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of CSOs (represent different level of interest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cc"/>
                </a:solidFill>
                <a:latin typeface="Times New Roman"/>
              </a:rPr>
              <a:t>Geographical 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map: (concentration/gap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olo 3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321760" cy="5364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1"/>
          <p:cNvGrpSpPr/>
          <p:nvPr/>
        </p:nvGrpSpPr>
        <p:grpSpPr>
          <a:xfrm>
            <a:off x="82440" y="907920"/>
            <a:ext cx="9061560" cy="5710320"/>
            <a:chOff x="82440" y="907920"/>
            <a:chExt cx="9061560" cy="5710320"/>
          </a:xfrm>
        </p:grpSpPr>
        <p:sp>
          <p:nvSpPr>
            <p:cNvPr id="63" name="AutoShape 45"/>
            <p:cNvSpPr/>
            <p:nvPr/>
          </p:nvSpPr>
          <p:spPr>
            <a:xfrm>
              <a:off x="82440" y="907920"/>
              <a:ext cx="9061560" cy="57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44"/>
            <p:cNvSpPr/>
            <p:nvPr/>
          </p:nvSpPr>
          <p:spPr>
            <a:xfrm>
              <a:off x="2347920" y="907920"/>
              <a:ext cx="5628960" cy="1090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Niveau plate-forme/foru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AutoShape 43"/>
            <p:cNvSpPr/>
            <p:nvPr/>
          </p:nvSpPr>
          <p:spPr>
            <a:xfrm>
              <a:off x="82440" y="940680"/>
              <a:ext cx="2188800" cy="1272960"/>
            </a:xfrm>
            <a:prstGeom prst="rightArrowCallout">
              <a:avLst>
                <a:gd name="adj1" fmla="val 25002"/>
                <a:gd name="adj2" fmla="val 25000"/>
                <a:gd name="adj3" fmla="val 28658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iveau des Plates-formes /Forums, Collectifs, Coali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des v</a:t>
              </a:r>
              <a:r>
                <a:rPr b="1" lang="fr-FR" sz="10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é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itables espaces de concertatio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42"/>
            <p:cNvSpPr/>
            <p:nvPr/>
          </p:nvSpPr>
          <p:spPr>
            <a:xfrm>
              <a:off x="2155320" y="2217960"/>
              <a:ext cx="1507680" cy="920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0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R</a:t>
              </a:r>
              <a:r>
                <a:rPr b="1" i="1" lang="fr-FR" sz="1000" spc="-1" strike="noStrike">
                  <a:solidFill>
                    <a:srgbClr val="0070c0"/>
                  </a:solidFill>
                  <a:latin typeface="Constantia"/>
                  <a:ea typeface="Times New Roman"/>
                </a:rPr>
                <a:t>é</a:t>
              </a:r>
              <a:r>
                <a:rPr b="1" i="1" lang="fr-FR" sz="10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seau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Th</a:t>
              </a:r>
              <a:r>
                <a:rPr b="0" lang="fr-FR" sz="1000" spc="-1" strike="noStrike">
                  <a:solidFill>
                    <a:srgbClr val="0070c0"/>
                  </a:solidFill>
                  <a:latin typeface="Constantia"/>
                  <a:ea typeface="Times New Roman"/>
                </a:rPr>
                <a:t>é</a:t>
              </a:r>
              <a:r>
                <a:rPr b="0" lang="fr-FR" sz="10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matiqu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41"/>
            <p:cNvSpPr/>
            <p:nvPr/>
          </p:nvSpPr>
          <p:spPr>
            <a:xfrm>
              <a:off x="3931560" y="2246040"/>
              <a:ext cx="1673280" cy="780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1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F</a:t>
              </a:r>
              <a:r>
                <a:rPr b="1" i="1" lang="fr-FR" sz="1100" spc="-1" strike="noStrike">
                  <a:solidFill>
                    <a:srgbClr val="0070c0"/>
                  </a:solidFill>
                  <a:latin typeface="Constantia"/>
                  <a:ea typeface="Times New Roman"/>
                </a:rPr>
                <a:t>é</a:t>
              </a:r>
              <a:r>
                <a:rPr b="1" i="1" lang="fr-FR" sz="11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d</a:t>
              </a:r>
              <a:r>
                <a:rPr b="1" i="1" lang="fr-FR" sz="1100" spc="-1" strike="noStrike">
                  <a:solidFill>
                    <a:srgbClr val="0070c0"/>
                  </a:solidFill>
                  <a:latin typeface="Constantia"/>
                  <a:ea typeface="Times New Roman"/>
                </a:rPr>
                <a:t>é</a:t>
              </a:r>
              <a:r>
                <a:rPr b="1" i="1" lang="fr-FR" sz="11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ra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40"/>
            <p:cNvSpPr/>
            <p:nvPr/>
          </p:nvSpPr>
          <p:spPr>
            <a:xfrm>
              <a:off x="3720240" y="3769560"/>
              <a:ext cx="1067760" cy="622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ndica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39"/>
            <p:cNvSpPr/>
            <p:nvPr/>
          </p:nvSpPr>
          <p:spPr>
            <a:xfrm>
              <a:off x="5916600" y="3747600"/>
              <a:ext cx="861840" cy="511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38"/>
            <p:cNvSpPr/>
            <p:nvPr/>
          </p:nvSpPr>
          <p:spPr>
            <a:xfrm>
              <a:off x="4812840" y="3782880"/>
              <a:ext cx="1042920" cy="844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ganisation patron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37"/>
            <p:cNvSpPr/>
            <p:nvPr/>
          </p:nvSpPr>
          <p:spPr>
            <a:xfrm>
              <a:off x="2536920" y="3762720"/>
              <a:ext cx="993960" cy="712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soci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36"/>
            <p:cNvSpPr/>
            <p:nvPr/>
          </p:nvSpPr>
          <p:spPr>
            <a:xfrm>
              <a:off x="2760120" y="4755600"/>
              <a:ext cx="1419840" cy="5007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oup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35"/>
            <p:cNvSpPr/>
            <p:nvPr/>
          </p:nvSpPr>
          <p:spPr>
            <a:xfrm>
              <a:off x="3872520" y="4560840"/>
              <a:ext cx="1213200" cy="646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g 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34"/>
            <p:cNvSpPr/>
            <p:nvPr/>
          </p:nvSpPr>
          <p:spPr>
            <a:xfrm>
              <a:off x="4796640" y="4795560"/>
              <a:ext cx="1309320" cy="4996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oup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33"/>
            <p:cNvSpPr/>
            <p:nvPr/>
          </p:nvSpPr>
          <p:spPr>
            <a:xfrm>
              <a:off x="3615120" y="3031560"/>
              <a:ext cx="275760" cy="76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32"/>
            <p:cNvSpPr/>
            <p:nvPr/>
          </p:nvSpPr>
          <p:spPr>
            <a:xfrm flipH="1">
              <a:off x="4372920" y="3020760"/>
              <a:ext cx="316080" cy="74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31"/>
            <p:cNvSpPr/>
            <p:nvPr/>
          </p:nvSpPr>
          <p:spPr>
            <a:xfrm>
              <a:off x="5004720" y="3031560"/>
              <a:ext cx="134280" cy="73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30"/>
            <p:cNvSpPr/>
            <p:nvPr/>
          </p:nvSpPr>
          <p:spPr>
            <a:xfrm>
              <a:off x="3853080" y="3974760"/>
              <a:ext cx="241560" cy="65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29"/>
            <p:cNvSpPr/>
            <p:nvPr/>
          </p:nvSpPr>
          <p:spPr>
            <a:xfrm flipH="1">
              <a:off x="3210480" y="4096800"/>
              <a:ext cx="169560" cy="64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4377600" y="4236840"/>
              <a:ext cx="550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 flipH="1">
              <a:off x="5713560" y="2971440"/>
              <a:ext cx="505800" cy="79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6"/>
            <p:cNvSpPr/>
            <p:nvPr/>
          </p:nvSpPr>
          <p:spPr>
            <a:xfrm flipH="1">
              <a:off x="6445080" y="3015360"/>
              <a:ext cx="90000" cy="70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25"/>
            <p:cNvSpPr/>
            <p:nvPr/>
          </p:nvSpPr>
          <p:spPr>
            <a:xfrm flipH="1">
              <a:off x="6138000" y="4300200"/>
              <a:ext cx="126000" cy="66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4"/>
            <p:cNvSpPr/>
            <p:nvPr/>
          </p:nvSpPr>
          <p:spPr>
            <a:xfrm flipH="1">
              <a:off x="6536160" y="4352760"/>
              <a:ext cx="394560" cy="4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3"/>
            <p:cNvSpPr/>
            <p:nvPr/>
          </p:nvSpPr>
          <p:spPr>
            <a:xfrm flipH="1" flipV="1">
              <a:off x="6794640" y="2950200"/>
              <a:ext cx="6318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AutoShape 22"/>
            <p:cNvSpPr/>
            <p:nvPr/>
          </p:nvSpPr>
          <p:spPr>
            <a:xfrm>
              <a:off x="82440" y="3008880"/>
              <a:ext cx="2516040" cy="1383480"/>
            </a:xfrm>
            <a:prstGeom prst="rightArrowCallout">
              <a:avLst>
                <a:gd name="adj1" fmla="val 16779"/>
                <a:gd name="adj2" fmla="val 25000"/>
                <a:gd name="adj3" fmla="val 268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GANISATIONS DE 2</a:t>
              </a:r>
              <a:r>
                <a:rPr b="1" lang="fr-FR" sz="1000" spc="-1" strike="noStrike" baseline="30000">
                  <a:solidFill>
                    <a:srgbClr val="000000"/>
                  </a:solidFill>
                  <a:latin typeface="Constantia"/>
                  <a:ea typeface="Times New Roman"/>
                </a:rPr>
                <a:t>è</a:t>
              </a:r>
              <a:r>
                <a:rPr b="1" lang="fr-FR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me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IVEA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G formellement constitu</a:t>
              </a:r>
              <a:r>
                <a:rPr b="1" lang="fr-FR" sz="10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é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, (d</a:t>
              </a:r>
              <a:r>
                <a:rPr b="1" lang="fr-FR" sz="10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’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pui et d</a:t>
              </a:r>
              <a:r>
                <a:rPr b="1" lang="fr-FR" sz="10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’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mpagnement), Syndicats, Patronat, Org Confessions religieuses, Associations, 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 flipH="1">
              <a:off x="4507200" y="3542760"/>
              <a:ext cx="26571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 flipH="1">
              <a:off x="3052800" y="2993400"/>
              <a:ext cx="341640" cy="67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"/>
            <p:cNvSpPr/>
            <p:nvPr/>
          </p:nvSpPr>
          <p:spPr>
            <a:xfrm>
              <a:off x="3846600" y="2857320"/>
              <a:ext cx="1180800" cy="95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18"/>
            <p:cNvSpPr/>
            <p:nvPr/>
          </p:nvSpPr>
          <p:spPr>
            <a:xfrm>
              <a:off x="2673000" y="1025280"/>
              <a:ext cx="1507680" cy="780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0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Organisations de </a:t>
              </a:r>
              <a:r>
                <a:rPr b="1" lang="fr-FR" sz="10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4</a:t>
              </a:r>
              <a:r>
                <a:rPr b="1" i="1" lang="fr-FR" sz="1000" spc="-1" strike="noStrike" baseline="30000">
                  <a:solidFill>
                    <a:srgbClr val="0070c0"/>
                  </a:solidFill>
                  <a:latin typeface="Constantia"/>
                  <a:ea typeface="Times New Roman"/>
                </a:rPr>
                <a:t>è</a:t>
              </a:r>
              <a:r>
                <a:rPr b="1" i="1" lang="fr-FR" sz="1000" spc="-1" strike="noStrike" baseline="30000">
                  <a:solidFill>
                    <a:srgbClr val="0070c0"/>
                  </a:solidFill>
                  <a:latin typeface="Arial"/>
                  <a:ea typeface="Times New Roman"/>
                </a:rPr>
                <a:t>me</a:t>
              </a:r>
              <a:r>
                <a:rPr b="0" i="1" lang="fr-FR" sz="10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 </a:t>
              </a:r>
              <a:r>
                <a:rPr b="1" i="1" lang="fr-FR" sz="10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nivea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17"/>
            <p:cNvSpPr/>
            <p:nvPr/>
          </p:nvSpPr>
          <p:spPr>
            <a:xfrm>
              <a:off x="4338720" y="1123560"/>
              <a:ext cx="1509120" cy="654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0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Organisations de </a:t>
              </a:r>
              <a:r>
                <a:rPr b="1" lang="fr-FR" sz="10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4</a:t>
              </a:r>
              <a:r>
                <a:rPr b="1" i="1" lang="fr-FR" sz="1000" spc="-1" strike="noStrike" baseline="30000">
                  <a:solidFill>
                    <a:srgbClr val="0070c0"/>
                  </a:solidFill>
                  <a:latin typeface="Constantia"/>
                  <a:ea typeface="Times New Roman"/>
                </a:rPr>
                <a:t>è</a:t>
              </a:r>
              <a:r>
                <a:rPr b="1" i="1" lang="fr-FR" sz="1000" spc="-1" strike="noStrike" baseline="30000">
                  <a:solidFill>
                    <a:srgbClr val="0070c0"/>
                  </a:solidFill>
                  <a:latin typeface="Arial"/>
                  <a:ea typeface="Times New Roman"/>
                </a:rPr>
                <a:t>me</a:t>
              </a:r>
              <a:r>
                <a:rPr b="1" i="1" lang="fr-FR" sz="10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 nivea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16"/>
            <p:cNvSpPr/>
            <p:nvPr/>
          </p:nvSpPr>
          <p:spPr>
            <a:xfrm>
              <a:off x="5778360" y="2214720"/>
              <a:ext cx="1674720" cy="779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0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Coordin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15"/>
            <p:cNvSpPr/>
            <p:nvPr/>
          </p:nvSpPr>
          <p:spPr>
            <a:xfrm>
              <a:off x="6076800" y="1018800"/>
              <a:ext cx="1684080" cy="780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0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Organisations de </a:t>
              </a:r>
              <a:r>
                <a:rPr b="1" lang="fr-FR" sz="10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4</a:t>
              </a:r>
              <a:r>
                <a:rPr b="1" i="1" lang="fr-FR" sz="1000" spc="-1" strike="noStrike" baseline="30000">
                  <a:solidFill>
                    <a:srgbClr val="0070c0"/>
                  </a:solidFill>
                  <a:latin typeface="Constantia"/>
                  <a:ea typeface="Times New Roman"/>
                </a:rPr>
                <a:t>è</a:t>
              </a:r>
              <a:r>
                <a:rPr b="1" i="1" lang="fr-FR" sz="1000" spc="-1" strike="noStrike" baseline="30000">
                  <a:solidFill>
                    <a:srgbClr val="0070c0"/>
                  </a:solidFill>
                  <a:latin typeface="Arial"/>
                  <a:ea typeface="Times New Roman"/>
                </a:rPr>
                <a:t>me</a:t>
              </a:r>
              <a:r>
                <a:rPr b="1" i="1" lang="fr-FR" sz="10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 nivea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14"/>
            <p:cNvSpPr/>
            <p:nvPr/>
          </p:nvSpPr>
          <p:spPr>
            <a:xfrm>
              <a:off x="3566880" y="5260320"/>
              <a:ext cx="1420560" cy="500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op</a:t>
              </a:r>
              <a:r>
                <a:rPr b="1" lang="fr-FR" sz="10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é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ti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13"/>
            <p:cNvSpPr/>
            <p:nvPr/>
          </p:nvSpPr>
          <p:spPr>
            <a:xfrm>
              <a:off x="4798800" y="5210280"/>
              <a:ext cx="1213920" cy="50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g 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12"/>
            <p:cNvSpPr/>
            <p:nvPr/>
          </p:nvSpPr>
          <p:spPr>
            <a:xfrm>
              <a:off x="2352600" y="5208120"/>
              <a:ext cx="1421280" cy="9194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oup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ligieu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11"/>
            <p:cNvSpPr/>
            <p:nvPr/>
          </p:nvSpPr>
          <p:spPr>
            <a:xfrm>
              <a:off x="5794560" y="4969440"/>
              <a:ext cx="1420560" cy="499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op</a:t>
              </a:r>
              <a:r>
                <a:rPr b="1" lang="fr-FR" sz="10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é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ti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"/>
            <p:cNvSpPr/>
            <p:nvPr/>
          </p:nvSpPr>
          <p:spPr>
            <a:xfrm flipH="1">
              <a:off x="4586040" y="4272840"/>
              <a:ext cx="469440" cy="11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9"/>
            <p:cNvSpPr/>
            <p:nvPr/>
          </p:nvSpPr>
          <p:spPr>
            <a:xfrm>
              <a:off x="5287680" y="4474800"/>
              <a:ext cx="12564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 flipH="1">
              <a:off x="2672640" y="4352760"/>
              <a:ext cx="125640" cy="86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7"/>
            <p:cNvSpPr/>
            <p:nvPr/>
          </p:nvSpPr>
          <p:spPr>
            <a:xfrm flipH="1">
              <a:off x="7210440" y="4793040"/>
              <a:ext cx="219960" cy="57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AutoShape 6"/>
            <p:cNvSpPr/>
            <p:nvPr/>
          </p:nvSpPr>
          <p:spPr>
            <a:xfrm>
              <a:off x="82440" y="2003400"/>
              <a:ext cx="2175480" cy="946800"/>
            </a:xfrm>
            <a:prstGeom prst="rightArrowCallout">
              <a:avLst>
                <a:gd name="adj1" fmla="val 25002"/>
                <a:gd name="adj2" fmla="val 25000"/>
                <a:gd name="adj3" fmla="val 38295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GANISATIONS DE 3</a:t>
              </a:r>
              <a:r>
                <a:rPr b="1" lang="fr-FR" sz="1000" spc="-1" strike="noStrike" baseline="30000">
                  <a:solidFill>
                    <a:srgbClr val="000000"/>
                  </a:solidFill>
                  <a:latin typeface="Constantia"/>
                  <a:ea typeface="Times New Roman"/>
                </a:rPr>
                <a:t>è</a:t>
              </a:r>
              <a:r>
                <a:rPr b="1" lang="fr-FR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me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IVEA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iveau des r</a:t>
              </a:r>
              <a:r>
                <a:rPr b="1" lang="fr-FR" sz="10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é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aux, f</a:t>
              </a:r>
              <a:r>
                <a:rPr b="1" lang="fr-FR" sz="10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é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</a:t>
              </a:r>
              <a:r>
                <a:rPr b="1" lang="fr-FR" sz="10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é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tions coordin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5"/>
            <p:cNvSpPr/>
            <p:nvPr/>
          </p:nvSpPr>
          <p:spPr>
            <a:xfrm>
              <a:off x="5641560" y="5501520"/>
              <a:ext cx="1420560" cy="7102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oupes religieu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 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4"/>
            <p:cNvSpPr/>
            <p:nvPr/>
          </p:nvSpPr>
          <p:spPr>
            <a:xfrm flipH="1">
              <a:off x="3329640" y="2887560"/>
              <a:ext cx="2580480" cy="81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AutoShape 3"/>
            <p:cNvSpPr/>
            <p:nvPr/>
          </p:nvSpPr>
          <p:spPr>
            <a:xfrm>
              <a:off x="82440" y="4643640"/>
              <a:ext cx="2175480" cy="1724760"/>
            </a:xfrm>
            <a:prstGeom prst="rightArrowCallout">
              <a:avLst>
                <a:gd name="adj1" fmla="val 18724"/>
                <a:gd name="adj2" fmla="val 21597"/>
                <a:gd name="adj3" fmla="val 15229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GANISATIONS DE 1</a:t>
              </a:r>
              <a:r>
                <a:rPr b="1" lang="fr-FR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er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IVEA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ganisations de base</a:t>
              </a:r>
              <a:r>
                <a:rPr b="1" lang="fr-FR" sz="10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 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: associations, coop</a:t>
              </a:r>
              <a:r>
                <a:rPr b="1" lang="fr-FR" sz="10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é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tives, associations professionnelles locales, groupes religieux de base, ASC, GPF, 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2"/>
            <p:cNvSpPr/>
            <p:nvPr/>
          </p:nvSpPr>
          <p:spPr>
            <a:xfrm>
              <a:off x="6854760" y="3306240"/>
              <a:ext cx="1533240" cy="16581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rganisations d</a:t>
              </a:r>
              <a:r>
                <a:rPr b="1" lang="fr-FR" sz="1000" spc="-1" strike="noStrike">
                  <a:solidFill>
                    <a:srgbClr val="ffffff"/>
                  </a:solidFill>
                  <a:latin typeface="Constantia"/>
                  <a:ea typeface="Times New Roman"/>
                </a:rPr>
                <a:t>’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ccompagnement (instituts, asbl, etc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Indietro o precedente 48"/>
          <p:cNvSpPr/>
          <p:nvPr/>
        </p:nvSpPr>
        <p:spPr>
          <a:xfrm>
            <a:off x="8101080" y="5877000"/>
            <a:ext cx="574560" cy="493560"/>
          </a:xfrm>
          <a:custGeom>
            <a:avLst/>
            <a:gdLst>
              <a:gd name="textAreaLeft" fmla="*/ 31680 w 574560"/>
              <a:gd name="textAreaRight" fmla="*/ 542880 w 57456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5142" h="21600">
                <a:moveTo>
                  <a:pt x="0" y="0"/>
                </a:moveTo>
                <a:lnTo>
                  <a:pt x="25142" y="0"/>
                </a:lnTo>
                <a:lnTo>
                  <a:pt x="25142" y="21600"/>
                </a:lnTo>
                <a:lnTo>
                  <a:pt x="0" y="21600"/>
                </a:lnTo>
                <a:close/>
              </a:path>
              <a:path fill="lightenLess" w="25142" h="21600">
                <a:moveTo>
                  <a:pt x="0" y="0"/>
                </a:moveTo>
                <a:lnTo>
                  <a:pt x="25142" y="0"/>
                </a:lnTo>
                <a:lnTo>
                  <a:pt x="23742" y="1400"/>
                </a:lnTo>
                <a:lnTo>
                  <a:pt x="1400" y="1400"/>
                </a:lnTo>
                <a:close/>
              </a:path>
              <a:path fill="darken" w="25142" h="21600">
                <a:moveTo>
                  <a:pt x="25142" y="0"/>
                </a:moveTo>
                <a:lnTo>
                  <a:pt x="25142" y="21600"/>
                </a:lnTo>
                <a:lnTo>
                  <a:pt x="23742" y="20200"/>
                </a:lnTo>
                <a:lnTo>
                  <a:pt x="23742" y="1400"/>
                </a:lnTo>
                <a:close/>
              </a:path>
              <a:path fill="darkenLess" w="25142" h="21600">
                <a:moveTo>
                  <a:pt x="251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2" y="20200"/>
                </a:lnTo>
                <a:close/>
              </a:path>
              <a:path fill="lighten" w="251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2" h="21600">
                <a:moveTo>
                  <a:pt x="5565" y="10800"/>
                </a:moveTo>
                <a:lnTo>
                  <a:pt x="19578" y="3794"/>
                </a:lnTo>
                <a:lnTo>
                  <a:pt x="19578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6T06:50:26Z</dcterms:modified>
  <cp:revision>4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