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7F4E-5F31-4B47-8FCC-E786F242EC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31E-D1ED-48BD-8D65-28F887D0C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1768-E59B-4FD9-BAE0-D080E53528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1B47-8D31-4938-AF65-6DCF41F063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BEA2D-D5D4-4D9D-96E8-560E4F09BA6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FB12C0-18B9-49B9-8917-2390B925BD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1F42-E099-4FE8-BD4A-789490DF90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B71C5-EE99-4AA3-86C6-40518260C3F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689000"/>
            <a:ext cx="54356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F8DFAD-B110-4BA2-B464-055E65149B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456C-8DE0-4502-AC12-7D25FFCC36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6B6E4-AA4F-46DA-A153-A296EA38466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0005-EFAA-4461-875F-C74870C55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95C65-0D82-4067-8C62-FB197CECA90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FF34-65B3-4DCC-88AC-A07A33A4A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69849-1ADD-4DDA-9FE1-7E17EBD032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F90C-0027-42C2-9457-E2869D38A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3B240-F66F-4E4A-8734-7FC23D5ABB6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AF3B-CA79-4502-8802-6DAE45AE4A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96900-F8B0-45C1-A412-392164DF02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GAGING STRATEGICALLY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WITH 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NON-STATE ACTORS IN NEW AID MODALITI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VCO-Europeaid – D2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obstacles in partner countrie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al commitment  behind pro-poor policie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3933720"/>
            <a:ext cx="297828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civil society have the capacities/interest to engage with the st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budget transparent? Does it reflect priorities? Is it cred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open and transparent dialogue with NSA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incentives to involve NSA in BS and SPSP 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allenges for DEL/NSA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Oval 3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492360" y="285120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32000" y="1143000"/>
            <a:ext cx="302436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ong political commitment  behind decla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54080" y="3886200"/>
            <a:ext cx="2977920" cy="1552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civil society enabled to engage with the state through the PCM 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46120" y="566100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re an enabling environment for Non-State Actors to participat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00720" y="2349360"/>
            <a:ext cx="2592360" cy="1536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ion and Harmonisation amongst don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1"/>
          <p:cNvSpPr/>
          <p:nvPr/>
        </p:nvSpPr>
        <p:spPr>
          <a:xfrm rot="10800000">
            <a:off x="4475160" y="227628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2"/>
          <p:cNvSpPr/>
          <p:nvPr/>
        </p:nvSpPr>
        <p:spPr>
          <a:xfrm rot="5400000">
            <a:off x="2937960" y="4125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300720" y="4114800"/>
            <a:ext cx="252108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r and objective knowledge of NSA/CSO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2276640"/>
            <a:ext cx="2916360" cy="1247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d to play a facilitation ro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6651000">
            <a:off x="2937960" y="2901960"/>
            <a:ext cx="457200" cy="21564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undamentals of this “new” approach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64960" y="1028880"/>
            <a:ext cx="88790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Down Arrow 6"/>
          <p:cNvSpPr/>
          <p:nvPr/>
        </p:nvSpPr>
        <p:spPr>
          <a:xfrm>
            <a:off x="3057480" y="2108160"/>
            <a:ext cx="731880" cy="1166760"/>
          </a:xfrm>
          <a:prstGeom prst="downArrow">
            <a:avLst>
              <a:gd name="adj1" fmla="val 50000"/>
              <a:gd name="adj2" fmla="val 5252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own Arrow 8"/>
          <p:cNvSpPr/>
          <p:nvPr/>
        </p:nvSpPr>
        <p:spPr>
          <a:xfrm>
            <a:off x="5319720" y="2108160"/>
            <a:ext cx="804960" cy="1301760"/>
          </a:xfrm>
          <a:prstGeom prst="downArrow">
            <a:avLst>
              <a:gd name="adj1" fmla="val 50000"/>
              <a:gd name="adj2" fmla="val 433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0" y="3646440"/>
            <a:ext cx="227484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SAs are full fledg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2146320" y="3605040"/>
            <a:ext cx="2435040" cy="146052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yze state-society relations syste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7102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lore full potential within and beyond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Down Arrow 12"/>
          <p:cNvSpPr/>
          <p:nvPr/>
        </p:nvSpPr>
        <p:spPr>
          <a:xfrm>
            <a:off x="7488360" y="2108160"/>
            <a:ext cx="804600" cy="1166760"/>
          </a:xfrm>
          <a:prstGeom prst="downArrow">
            <a:avLst>
              <a:gd name="adj1" fmla="val 50000"/>
              <a:gd name="adj2" fmla="val 3884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6900840" y="3646440"/>
            <a:ext cx="2243160" cy="128268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C Prepared to play new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Down Arrow 14"/>
          <p:cNvSpPr/>
          <p:nvPr/>
        </p:nvSpPr>
        <p:spPr>
          <a:xfrm>
            <a:off x="641520" y="1925640"/>
            <a:ext cx="731520" cy="1166760"/>
          </a:xfrm>
          <a:prstGeom prst="downArrow">
            <a:avLst>
              <a:gd name="adj1" fmla="val 50000"/>
              <a:gd name="adj2" fmla="val 5255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lternate Process 3"/>
          <p:cNvSpPr/>
          <p:nvPr/>
        </p:nvSpPr>
        <p:spPr>
          <a:xfrm>
            <a:off x="1604880" y="3411360"/>
            <a:ext cx="4830840" cy="15289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Introduce systematically “political economy” and “governance”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lternate Process 5"/>
          <p:cNvSpPr/>
          <p:nvPr/>
        </p:nvSpPr>
        <p:spPr>
          <a:xfrm>
            <a:off x="1604880" y="1050840"/>
            <a:ext cx="4830840" cy="95580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Use several analytical tools to know the CSOs (mapping, sectoral stud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ounded Rectangle 8"/>
          <p:cNvSpPr/>
          <p:nvPr/>
        </p:nvSpPr>
        <p:spPr>
          <a:xfrm>
            <a:off x="957240" y="1274760"/>
            <a:ext cx="432000" cy="7318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731880"/>
              <a:gd name="textAreaBottom" fmla="*/ 719280 h 731880"/>
            </a:gdLst>
            <a:ahLst/>
            <a:rect l="textAreaLeft" t="textAreaTop" r="textAreaRight" b="textAreaBottom"/>
            <a:pathLst>
              <a:path w="21600" h="36582">
                <a:moveTo>
                  <a:pt x="2160" y="0"/>
                </a:moveTo>
                <a:arcTo wR="2160" hR="2160" stAng="16200000" swAng="-5400000"/>
                <a:lnTo>
                  <a:pt x="0" y="34422"/>
                </a:lnTo>
                <a:arcTo wR="2160" hR="2160" stAng="10800000" swAng="-5400000"/>
                <a:lnTo>
                  <a:pt x="19440" y="3658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unded Rectangle 9"/>
          <p:cNvSpPr/>
          <p:nvPr/>
        </p:nvSpPr>
        <p:spPr>
          <a:xfrm>
            <a:off x="957240" y="4041720"/>
            <a:ext cx="432000" cy="490680"/>
          </a:xfrm>
          <a:custGeom>
            <a:avLst/>
            <a:gdLst>
              <a:gd name="textAreaLeft" fmla="*/ 12600 w 432000"/>
              <a:gd name="textAreaRight" fmla="*/ 419400 w 432000"/>
              <a:gd name="textAreaTop" fmla="*/ 12600 h 490680"/>
              <a:gd name="textAreaBottom" fmla="*/ 478080 h 490680"/>
            </a:gdLst>
            <a:ahLst/>
            <a:rect l="textAreaLeft" t="textAreaTop" r="textAreaRight" b="textAreaBottom"/>
            <a:pathLst>
              <a:path w="21600" h="24532">
                <a:moveTo>
                  <a:pt x="2160" y="0"/>
                </a:moveTo>
                <a:arcTo wR="2160" hR="2160" stAng="16200000" swAng="-5400000"/>
                <a:lnTo>
                  <a:pt x="0" y="22372"/>
                </a:lnTo>
                <a:arcTo wR="2160" hR="2160" stAng="10800000" swAng="-5400000"/>
                <a:lnTo>
                  <a:pt x="19440" y="2453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6858000" y="1299600"/>
            <a:ext cx="20462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Analyze state-society relations syst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1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sible entry points for analysis of  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-society relations</a:t>
            </a: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523880"/>
            <a:ext cx="8785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ffects the opportunities for NSAs to particip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lations between state and socie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holds power over who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o exerts pressure on whom? Who influences whom? With what me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the resources, and how are these distribu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are incentives? Why is it difficult for citizens to work collective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at is the history? The history of struggle? The history of social or other movements? The history of re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Page </a:t>
            </a:r>
            <a:fld id="{FB94C9B9-97B3-4C28-A97D-20BAB1B361BB}" type="slidenum">
              <a:rPr b="0" lang="nl-BE" sz="1000" spc="-1" strike="noStrike">
                <a:solidFill>
                  <a:srgbClr val="00a6c8"/>
                </a:solidFill>
                <a:latin typeface="Verdan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lternate Process 2"/>
          <p:cNvSpPr/>
          <p:nvPr/>
        </p:nvSpPr>
        <p:spPr>
          <a:xfrm>
            <a:off x="1547640" y="3933720"/>
            <a:ext cx="4830840" cy="93528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Prepared  for playing new roles and being creative within the existing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lternate Process 3"/>
          <p:cNvSpPr/>
          <p:nvPr/>
        </p:nvSpPr>
        <p:spPr>
          <a:xfrm>
            <a:off x="1547640" y="2565360"/>
            <a:ext cx="4830840" cy="69372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Systematically apply a ‘political economy’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lternate Process 5"/>
          <p:cNvSpPr/>
          <p:nvPr/>
        </p:nvSpPr>
        <p:spPr>
          <a:xfrm>
            <a:off x="1547640" y="1052640"/>
            <a:ext cx="4830840" cy="955440"/>
          </a:xfrm>
          <a:prstGeom prst="flowChartAlternateProcess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Avoid a ‘technocratic’ approach to aid effectiv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ounded Rectangle 15"/>
          <p:cNvSpPr/>
          <p:nvPr/>
        </p:nvSpPr>
        <p:spPr>
          <a:xfrm>
            <a:off x="900000" y="1413000"/>
            <a:ext cx="446040" cy="2998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16"/>
          <p:cNvSpPr/>
          <p:nvPr/>
        </p:nvSpPr>
        <p:spPr>
          <a:xfrm>
            <a:off x="900000" y="2852640"/>
            <a:ext cx="432000" cy="31284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ounded Rectangle 17"/>
          <p:cNvSpPr/>
          <p:nvPr/>
        </p:nvSpPr>
        <p:spPr>
          <a:xfrm>
            <a:off x="900000" y="4292640"/>
            <a:ext cx="432000" cy="274680"/>
          </a:xfrm>
          <a:prstGeom prst="roundRect">
            <a:avLst>
              <a:gd name="adj" fmla="val 1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76092"/>
                </a:solidFill>
                <a:latin typeface="Calibri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6858000" y="1851120"/>
            <a:ext cx="186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  <a:ea typeface="ＭＳ Ｐゴシック"/>
              </a:rPr>
              <a:t>New roles for EC/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3333cc"/>
                </a:solidFill>
                <a:uFillTx/>
                <a:latin typeface="Times New Roman"/>
              </a:rPr>
              <a:t>Questions for the discussion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DEL welcome the idea of NSAs playing an active role in BS and SPSP ? Relevance and added value ? Risks ? Problems (time and resource consum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 the DEL consider that this approach should be pushed forward in the follow up of the structured dialogue with civil society and in the forthcoming communication on NSA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required from the NSAs AND from the Commission to push such process (enabling environment, capacity development, specific role of “Northern” NSAs) ?  Is it feasible  ? Do we have the means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pic of the session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5092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w can the 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gage strategically and oper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oth the state and non-state 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n various development relate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ly when it provides “budget suppor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engages in “sector policy support programm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900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o called “New Aid Modaliti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ountries engaged with NSA in BS and SPSP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752480"/>
          <a:ext cx="7772400" cy="41148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-literacy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occo/Ecu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Budge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 resources and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hana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mechanism:  multi donor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nationa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accounting for public expendi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agreed with the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seen in Country Strategic P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s for NS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y dialogue,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1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toral Budget Support to Ecuadorian national Education pl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: 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the short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untry M&amp;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inforce Constitution implementation: Citizens participation in nation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 in the long ru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relationship between public and private sector based on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9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mote result oriented and domestic accoun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uador (2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pping of actors and roles </a:t>
            </a: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Added-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negotiated with the State the involvement of NSAs at early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ed indicators to performance of both Govt &amp;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otiated to put aside part of SBS to support 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 for proposals (restricted/targeted) managed by DEL but transparent with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250920" y="762480"/>
            <a:ext cx="77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Overview of functions and roles of NSAs in th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6280" y="1052640"/>
          <a:ext cx="8732880" cy="4311360"/>
        </p:xfrm>
        <a:graphic>
          <a:graphicData uri="http://schemas.openxmlformats.org/drawingml/2006/table">
            <a:tbl>
              <a:tblPr/>
              <a:tblGrid>
                <a:gridCol w="1603440"/>
                <a:gridCol w="828720"/>
                <a:gridCol w="955800"/>
                <a:gridCol w="1025280"/>
                <a:gridCol w="757440"/>
                <a:gridCol w="890640"/>
                <a:gridCol w="961920"/>
                <a:gridCol w="819000"/>
                <a:gridCol w="89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provi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Capi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novation/ pilo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raging effo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Moroc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– literacy poli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sic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3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4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ha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tural resources and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5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dia (Education and Heal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6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outh Africa (Justi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ase 7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cuador (Edu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33cc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08080" y="53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C/EU policies/agendas concerned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Content Placeholder 5" descr=""/>
          <p:cNvPicPr/>
          <p:nvPr/>
        </p:nvPicPr>
        <p:blipFill>
          <a:blip r:embed="rId2"/>
          <a:stretch/>
        </p:blipFill>
        <p:spPr>
          <a:xfrm>
            <a:off x="1163520" y="17524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"/>
          <p:cNvSpPr/>
          <p:nvPr/>
        </p:nvSpPr>
        <p:spPr>
          <a:xfrm>
            <a:off x="3165480" y="3017880"/>
            <a:ext cx="2835360" cy="1325520"/>
          </a:xfrm>
          <a:prstGeom prst="ellips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08080" y="2023920"/>
            <a:ext cx="255276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558ed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assistance includes support to and through N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276960" y="202392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NSA contributes to  strengthen domestic accoun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971800" y="1371600"/>
            <a:ext cx="302904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ment is a multi-stakeholder/multi actor process where the central state i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f the 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4920" y="4495680"/>
            <a:ext cx="2552760" cy="145440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SAs are not only implementing agencies but also promoters of democracy, justice and huma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165480" y="4932360"/>
            <a:ext cx="2835360" cy="1704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U is committed to support NSAs to fully participate in political, economic and social dialogue processes (mainstreaming of NSA particip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6276960" y="4711680"/>
            <a:ext cx="2554200" cy="993960"/>
          </a:xfrm>
          <a:prstGeom prst="rect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ivil Society is recognized in all its diversity (concept of non state a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Down Arrow 14"/>
          <p:cNvSpPr/>
          <p:nvPr/>
        </p:nvSpPr>
        <p:spPr>
          <a:xfrm>
            <a:off x="4381560" y="2392200"/>
            <a:ext cx="404640" cy="368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76092"/>
          </a:solidFill>
          <a:ln w="9360">
            <a:solidFill>
              <a:srgbClr val="00cc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own Arrow 15" descr=""/>
          <p:cNvPicPr/>
          <p:nvPr/>
        </p:nvPicPr>
        <p:blipFill>
          <a:blip r:embed="rId2"/>
          <a:stretch/>
        </p:blipFill>
        <p:spPr>
          <a:xfrm>
            <a:off x="4316400" y="4443480"/>
            <a:ext cx="523800" cy="488880"/>
          </a:xfrm>
          <a:prstGeom prst="rect">
            <a:avLst/>
          </a:prstGeom>
          <a:ln w="0">
            <a:noFill/>
          </a:ln>
        </p:spPr>
      </p:pic>
      <p:pic>
        <p:nvPicPr>
          <p:cNvPr id="76" name="Down Arrow 16" descr=""/>
          <p:cNvPicPr/>
          <p:nvPr/>
        </p:nvPicPr>
        <p:blipFill>
          <a:blip r:embed="rId3"/>
          <a:stretch/>
        </p:blipFill>
        <p:spPr>
          <a:xfrm>
            <a:off x="2627280" y="2865600"/>
            <a:ext cx="701640" cy="699840"/>
          </a:xfrm>
          <a:prstGeom prst="rect">
            <a:avLst/>
          </a:prstGeom>
          <a:ln w="0">
            <a:noFill/>
          </a:ln>
        </p:spPr>
      </p:pic>
      <p:pic>
        <p:nvPicPr>
          <p:cNvPr id="77" name="Down Arrow 17" descr=""/>
          <p:cNvPicPr/>
          <p:nvPr/>
        </p:nvPicPr>
        <p:blipFill>
          <a:blip r:embed="rId4"/>
          <a:stretch/>
        </p:blipFill>
        <p:spPr>
          <a:xfrm>
            <a:off x="2627280" y="3975120"/>
            <a:ext cx="701640" cy="700200"/>
          </a:xfrm>
          <a:prstGeom prst="rect">
            <a:avLst/>
          </a:prstGeom>
          <a:ln w="0">
            <a:noFill/>
          </a:ln>
        </p:spPr>
      </p:pic>
      <p:pic>
        <p:nvPicPr>
          <p:cNvPr id="78" name="Down Arrow 18" descr=""/>
          <p:cNvPicPr/>
          <p:nvPr/>
        </p:nvPicPr>
        <p:blipFill>
          <a:blip r:embed="rId5"/>
          <a:stretch/>
        </p:blipFill>
        <p:spPr>
          <a:xfrm>
            <a:off x="5632560" y="4164120"/>
            <a:ext cx="689040" cy="693720"/>
          </a:xfrm>
          <a:prstGeom prst="rect">
            <a:avLst/>
          </a:prstGeom>
          <a:ln w="0">
            <a:noFill/>
          </a:ln>
        </p:spPr>
      </p:pic>
      <p:pic>
        <p:nvPicPr>
          <p:cNvPr id="79" name="Down Arrow 19" descr=""/>
          <p:cNvPicPr/>
          <p:nvPr/>
        </p:nvPicPr>
        <p:blipFill>
          <a:blip r:embed="rId6"/>
          <a:stretch/>
        </p:blipFill>
        <p:spPr>
          <a:xfrm>
            <a:off x="5711760" y="2871720"/>
            <a:ext cx="69552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7080" y="-36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icipatory development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catherine de borchgrave</cp:lastModifiedBy>
  <dcterms:modified xsi:type="dcterms:W3CDTF">2011-07-04T09:35:16Z</dcterms:modified>
  <cp:revision>4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