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2D4E4-8948-4C98-91B2-655614EE9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77B9A-B45B-4887-A60A-87121EA5C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85E2B-0443-4ED1-9999-3FCA3B0BB9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730EE-8245-4F43-A0D2-11AF692A00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5A8D9-9E5A-4458-8DF6-91C5B025B5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A99C6-8780-438B-B7EB-64C6CA7C97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52283-54B9-409A-98FB-0BE7AC3F51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D8EEB-309E-4E9C-8434-A26DA8831C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EC: CLOSE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TERNAL PARTNERS /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es of accountability are more complex in decentralized or decentralizing politic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As a separate sphere of the state, LG adds to the system of checks and balances and has an important role to play in enhancing accountability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But effectiveness of accountability arrangements contingent on many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ere can be diverse and competing claims to authority and power at local level: those based on constitutional or administrative law and others based on customs and traditions  - both a help and hindrance to domestic accounta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542BC-5400-44DF-9703-4BCE98D7D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BAF-15DE-4F46-99CC-48F33130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2FC-C266-4A62-B1DC-C8B6572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0DE-9D32-4450-8E2B-2913A197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B98-88D3-4C05-A34A-9F5869EB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1FE-045A-4895-928F-6BF2F20C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CA8-F80E-47B0-9DAD-4CF6A059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EAA-898B-460F-B5D6-18C401BB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7E5-7E91-4713-BDB5-AD87D3E1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368-C062-4517-9C85-8E39B54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A19-758C-472A-9873-BA2DB9B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15E-1E32-4CF7-84A4-ECBD3DD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BC8-CC42-4D9E-B5B2-621BC0A9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B4982-49A1-4FD1-AF41-D28872F180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46C08-3B1E-41BA-AF14-345A0CE4B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thinking and experiences around domestic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Introduction s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EC Governance semin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(4-8</a:t>
            </a:r>
            <a:r>
              <a:rPr b="0" lang="en-US" sz="3200" spc="-1" strike="noStrike" baseline="30000">
                <a:solidFill>
                  <a:srgbClr val="008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 July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By Jean Bossuyt (ECDP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alibri"/>
              </a:rPr>
              <a:t>Decentralisation changes accountability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"/>
          <p:cNvGrpSpPr/>
          <p:nvPr/>
        </p:nvGrpSpPr>
        <p:grpSpPr>
          <a:xfrm>
            <a:off x="1447920" y="2209680"/>
            <a:ext cx="5976720" cy="3808440"/>
            <a:chOff x="1447920" y="2209680"/>
            <a:chExt cx="5976720" cy="3808440"/>
          </a:xfrm>
        </p:grpSpPr>
        <p:sp>
          <p:nvSpPr>
            <p:cNvPr id="77" name="AutoShape 6"/>
            <p:cNvSpPr/>
            <p:nvPr/>
          </p:nvSpPr>
          <p:spPr>
            <a:xfrm>
              <a:off x="1447920" y="2209680"/>
              <a:ext cx="597672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332440" y="2342880"/>
              <a:ext cx="4857840" cy="419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4061520" y="2400120"/>
              <a:ext cx="14619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entral Gover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2332440" y="3428640"/>
              <a:ext cx="1067760" cy="743400"/>
            </a:xfrm>
            <a:prstGeom prst="hexagon">
              <a:avLst>
                <a:gd name="adj" fmla="val 35908"/>
                <a:gd name="vf" fmla="val 11547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2415600" y="3504960"/>
              <a:ext cx="83736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unc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2332440" y="5304960"/>
              <a:ext cx="4857840" cy="45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5679720" y="3963240"/>
              <a:ext cx="1510560" cy="46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061520" y="3963240"/>
              <a:ext cx="110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wn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5679720" y="3963240"/>
              <a:ext cx="151056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l Sector Department 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3018240" y="5378040"/>
              <a:ext cx="34956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itizens, voters, taxpayers &amp; users of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2646720" y="2761920"/>
              <a:ext cx="0" cy="666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3018240" y="2761920"/>
              <a:ext cx="0" cy="66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694240" y="4220640"/>
              <a:ext cx="1800" cy="1084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3018240" y="4240800"/>
              <a:ext cx="1080" cy="10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1532160" y="2838600"/>
              <a:ext cx="990000" cy="66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1447920" y="4325400"/>
              <a:ext cx="11217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pward politic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3253320" y="2923920"/>
              <a:ext cx="1837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legal compliance &amp; fiscal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 flipH="1">
              <a:off x="3066480" y="3133440"/>
              <a:ext cx="1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5"/>
            <p:cNvSpPr/>
            <p:nvPr/>
          </p:nvSpPr>
          <p:spPr>
            <a:xfrm>
              <a:off x="4128120" y="3342960"/>
              <a:ext cx="29570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orizontal managerial accountability &amp;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6"/>
            <p:cNvSpPr/>
            <p:nvPr/>
          </p:nvSpPr>
          <p:spPr>
            <a:xfrm>
              <a:off x="3400560" y="3800160"/>
              <a:ext cx="260856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459936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6009120" y="3800160"/>
              <a:ext cx="0" cy="16308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3253320" y="4233240"/>
              <a:ext cx="1199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policy &amp; planning decisions, management &amp; overall gover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0"/>
            <p:cNvSpPr/>
            <p:nvPr/>
          </p:nvSpPr>
          <p:spPr>
            <a:xfrm flipH="1">
              <a:off x="3066480" y="4779360"/>
              <a:ext cx="18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4875840" y="4240800"/>
              <a:ext cx="1080" cy="9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5037480" y="4423680"/>
              <a:ext cx="1285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general administ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 flipH="1">
              <a:off x="4876920" y="463716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6856920" y="4423680"/>
              <a:ext cx="1080" cy="8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5447160" y="4854960"/>
              <a:ext cx="123804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Quality of service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685560" y="5075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37"/>
          <p:cNvSpPr/>
          <p:nvPr/>
        </p:nvSpPr>
        <p:spPr>
          <a:xfrm>
            <a:off x="2962080" y="1675800"/>
            <a:ext cx="42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l Government Accountability 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as a highly political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ogenous proc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imits external intervention, risk of doing h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importanc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tical economy analys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aseline, incentives, reform capac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as a “system”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a chain of actors and potential agents of accountability (=choosing smart “entry points” yet addressing the sy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c0504d"/>
                </a:solidFill>
                <a:latin typeface="Calibri"/>
              </a:rPr>
              <a:t>LET’s LOOK THROUGH the W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ole_in_wall_eyes_hg_wht_20683_3"/>
          <p:cNvPicPr/>
          <p:nvPr/>
        </p:nvPicPr>
        <p:blipFill>
          <a:blip r:embed="rId1"/>
          <a:stretch/>
        </p:blipFill>
        <p:spPr>
          <a:xfrm>
            <a:off x="1547640" y="184464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too much"/>
          <p:cNvPicPr/>
          <p:nvPr/>
        </p:nvPicPr>
        <p:blipFill>
          <a:blip r:embed="rId1"/>
          <a:stretch/>
        </p:blipFill>
        <p:spPr>
          <a:xfrm>
            <a:off x="450720" y="343080"/>
            <a:ext cx="82425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41360" y="609300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are of external drivers moving too quickl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essons of experien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e supply and demand driven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information/transpare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linkages between DA at local level and at macro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age with actors “beyond the comfort zon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ve beyond “DA and aid” and rather invest in societal processes of 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quately consider role and limitations as don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cus on intermediate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oad to nowhere"/>
          <p:cNvPicPr/>
          <p:nvPr/>
        </p:nvPicPr>
        <p:blipFill>
          <a:blip r:embed="rId1"/>
          <a:stretch/>
        </p:blipFill>
        <p:spPr>
          <a:xfrm>
            <a:off x="971640" y="1268280"/>
            <a:ext cx="7134120" cy="51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11280" y="3366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…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supporting domestic accountabilit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0633f4"/>
                </a:solidFill>
                <a:latin typeface="Verdana"/>
                <a:ea typeface="Times New Roman"/>
              </a:rPr>
              <a:t>not a quick fix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3336840" y="2619360"/>
            <a:ext cx="2691000" cy="224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492360" y="2781360"/>
            <a:ext cx="2374920" cy="194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Promoting dome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accoun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from the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32000" y="1413000"/>
            <a:ext cx="3024360" cy="79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ing PE-analysis into the actual design of support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2781360"/>
            <a:ext cx="2521080" cy="2362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suring institutional change on the donor side to deliver effective support in domestic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124000" y="5589720"/>
            <a:ext cx="5329440" cy="934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sting in concrete processes and mechanisms for accessing, reconciling and enforcing rights and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300720" y="1844640"/>
            <a:ext cx="2592360" cy="172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using on incremental change through realistic, cumulative and combined suppor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451400" y="49417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 rot="14772000">
            <a:off x="5746680" y="294768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10800000">
            <a:off x="4500720" y="234936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7228200">
            <a:off x="3003480" y="3854520"/>
            <a:ext cx="457200" cy="216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24000" y="404640"/>
            <a:ext cx="83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Calibri"/>
              </a:rPr>
              <a:t>Main challenges for greater effectiveness in promoting domestic account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4191120"/>
            <a:ext cx="2521080" cy="1253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ilding coalitions of reform-minded actors (social mobilis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 rot="17398800">
            <a:off x="5677560" y="4626720"/>
            <a:ext cx="457200" cy="2206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c0504d"/>
                </a:solidFill>
                <a:latin typeface="Calibri"/>
              </a:rPr>
              <a:t>Four major limitations faced by donor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39640" y="3141720"/>
            <a:ext cx="1800360" cy="2065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GI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2728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788000" y="3141720"/>
            <a:ext cx="1728720" cy="20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OV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32720" y="3141720"/>
            <a:ext cx="2016000" cy="19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268360" y="380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644364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4420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ESTIC ACCOUNTABILITY IS MOVING TO THE FOREFRONT OF THE DEVELOPMENT AGEN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offers a great window of opportunities for donor agencies willing to support chang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 is not primarily an aid effectiveness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all about societ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“social contract” between state and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itizens claiming their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PUSH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nd aid effectiveness (Busan 20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going work on DA in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 DA in budget support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key governance challenge (GOVNE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 as a tool to ensure democratic deepe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ry points into DA such as “citizen action” or “taxation/domestic resource mobilisation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wing research and community of 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32040"/>
            <a:ext cx="82296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500" spc="-1" strike="noStrike">
                <a:solidFill>
                  <a:srgbClr val="800000"/>
                </a:solidFill>
                <a:latin typeface="Calibri"/>
              </a:rPr>
              <a:t>Three underpinning principl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access to information about commitments the state has made and the extent to which these commitments have been honour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swerabil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obligation of the government, its agencies and public officials to provide information about their decisions and actions and to justify them to the public and institutions tasked with providing oversight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Enforce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willingness and power of citizens or the institutions that are responsible for accountability to sanction the offending party or remedy the contravening behaviour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Voice and accountability are essential ingredients</a:t>
            </a:r>
            <a:br>
              <a:rPr sz="2800"/>
            </a:b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of the </a:t>
            </a:r>
            <a:r>
              <a:rPr b="1" i="1" lang="fr-FR" sz="2800" spc="-1" strike="noStrike">
                <a:solidFill>
                  <a:srgbClr val="00007d"/>
                </a:solidFill>
                <a:latin typeface="Arial"/>
              </a:rPr>
              <a:t>domestic </a:t>
            </a:r>
            <a:r>
              <a:rPr b="0" i="1" lang="fr-FR" sz="2800" spc="-1" strike="noStrike">
                <a:solidFill>
                  <a:srgbClr val="00007d"/>
                </a:solidFill>
                <a:latin typeface="Arial"/>
              </a:rPr>
              <a:t>democracy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11280" y="1673280"/>
            <a:ext cx="3343320" cy="806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10360" y="1670040"/>
            <a:ext cx="3431880" cy="812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5d5dd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indent="-32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2593800"/>
            <a:ext cx="3330360" cy="38214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fers to capacity to EXPRESS VIEWS and to EXERCISE this CAPACITY in policy and governance processes (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ked to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sential building block of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is expressed through variety of  formal and informal channels/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48160" y="2593800"/>
            <a:ext cx="3419640" cy="3807000"/>
          </a:xfrm>
          <a:prstGeom prst="rect">
            <a:avLst/>
          </a:prstGeom>
          <a:gradFill rotWithShape="0">
            <a:gsLst>
              <a:gs pos="0">
                <a:srgbClr val="33b115"/>
              </a:gs>
              <a:gs pos="100000">
                <a:srgbClr val="1c600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cerns the relationship between rulers and r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(domestic politics and p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ustification of decisions a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bility of citizens to hold state ANSWERABLE for its actions and impose sanctions (ENFORCE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ccountability is sought through variety of channel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09896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3851280" y="4076640"/>
            <a:ext cx="1584360" cy="647640"/>
          </a:xfrm>
          <a:prstGeom prst="leftRightArrow">
            <a:avLst>
              <a:gd name="adj1" fmla="val 50000"/>
              <a:gd name="adj2" fmla="val 487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The various dimensions of 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being held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state, politicians, public offici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O is holding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accountability institutions such as parliament, opposition parties, the media, civil society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AT are they holding them to account f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? (i.e. policies implemented or not by the St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HERE are they holding them in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(i.e. within the country concern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OW are they holding them to account?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i.e. through various formal/informal mechanisms beyond el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64682-D94F-4F32-8D60-B2ABC49C5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7792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57200" y="1027080"/>
            <a:ext cx="82296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606744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apted from: Morazán and Koch 2010: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nitoring Budget support in Developing countries, A comparative analysis of national control mechanisms over budget support in developing countr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. Sűdwind, p.5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NEED TO LOOK MORE CLOSE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T TRANSFORMATIONAL CAPACITY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LITICAL SOCIETY                 CIVI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own Arrow 3"/>
          <p:cNvSpPr/>
          <p:nvPr/>
        </p:nvSpPr>
        <p:spPr>
          <a:xfrm rot="1287000">
            <a:off x="2323800" y="33825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41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4"/>
          <p:cNvSpPr/>
          <p:nvPr/>
        </p:nvSpPr>
        <p:spPr>
          <a:xfrm rot="20176800">
            <a:off x="5422680" y="33843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68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0:45:34Z</dcterms:created>
  <dc:creator>Jean Bossuyt</dc:creator>
  <dc:description/>
  <dc:language>en-US</dc:language>
  <cp:lastModifiedBy>Alisa Herrero Cangas</cp:lastModifiedBy>
  <dcterms:modified xsi:type="dcterms:W3CDTF">2011-07-07T05:29:54Z</dcterms:modified>
  <cp:revision>18</cp:revision>
  <dc:subject/>
  <dc:title>Recent thinking and experiences around domestic accountability</dc:title>
</cp:coreProperties>
</file>