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8CF0-1A7C-4023-A045-977E339B8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A353-F84E-4092-A6BA-FB662FB1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CC13-B1D7-49A3-B1E2-9A5B70A07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392D-AFEB-4E8A-8A65-A94256BF8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29FD2-7E96-4848-B4C9-341AB49B1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6154E-799E-4F33-86C1-B5ABB80C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E570-39DC-49A4-8D78-F8C95DF3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B365-4846-48DB-ADE6-78AC5571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39C7-462E-4516-90CA-21D25004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98A8-AA58-413D-BA68-D36BF9BA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5B5F-0F4F-4DCD-8EE4-0924EAE5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3AC3-7579-4581-B732-DD0650A5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1BFC-6429-416A-921F-6244ABB7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152B-FFED-4075-9EC1-F3C6B5C1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77A8-8F75-417F-BB86-77AE0475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A7EF-F3C4-436E-A49F-3CDF03991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12B78-EE71-4248-BA2B-3157A36D5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E2372-9D3A-43DA-8053-EA6847A48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3E56D-3295-4D0E-BDC3-1255C7D3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CCEE4-2FA1-42CA-8B91-3CC36143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5785F-27BA-403F-80E2-F0565D76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F7556-72FB-4E4D-829C-865B0421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11F7-3801-46C6-91CD-573663FB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A705C-52FF-4F52-B204-8E8584FA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991D3-68E3-4912-88A0-920FF47A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40E82-1DE7-47D4-B1A2-683A08BF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29151-9F0C-40AA-A113-BF31D884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4D3CB-C1AA-46F6-8E96-A2D62C86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67BE8-5C43-4713-B281-24567E385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DAF47-09B9-4DA4-8A8A-DD37AA39D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C7104-B517-40DB-AA89-5B59CDEFE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A6A6B-C7B0-4B92-A7B7-01C603BC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A0684-71BE-4F88-8C40-808E5A54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065A-0794-4ACE-8680-7723D4C2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405DE-63DF-4545-8656-821023F9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E46DE-6AFC-4D45-ABC5-29FD7A81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225C1-9C5A-4EB2-B465-163B6D40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496A9-897A-4944-B423-41DD775D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81E40-3711-42B1-B874-D23FD429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67B30-030A-4AA3-AC4A-79E0056E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33E85-90D2-4052-BDE0-8EF5FD50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C3439-87E8-4995-89CA-A21B87C3E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87126-B659-44B6-B04F-396BF0CC3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1039-8540-4269-889B-782C3A44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D09D-429E-4CD3-A68D-661D8622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C91F-069D-4E03-888C-04B9B6C4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7729-FD8F-4FBD-9241-7FCF73CB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4DAD-F681-4E44-8AE5-5447533D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372F-AA64-46E8-987F-D35381DCF04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4382-B93B-4581-9FF5-664976B22E0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CA4D-9A35-4EAF-A389-48C9F58E84A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9D8D-7F1D-4187-ACAE-96D8E79ADB7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7832520" cy="2505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03280" y="3142800"/>
            <a:ext cx="6383520" cy="214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Presentation at the Workshop Held  on  the 07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nstantia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April 2011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Lisema Lekhooan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PAF OBJECTIV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serve as a tool to measure sector performance on selected indicators which represents key sector performance are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provide evidence that investments are actually achieving the intended developmen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influence Government and donors in deciding on priority areas for suppor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STRATEGIC PRIORITY AREAS FOR 2010-2012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rban Domestic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ural Water Supp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mestic Sani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stitutional and Capacity Develop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SECTOR PERFOMANCE INDICATO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RURAL WATER SUPPLY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: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portion of the rural households using piped water and public boreholes as their main source of drinking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URBAN WATER SUPPL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   Proportion of the urban households using piped water as their main source of drinking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SECTOR PERFOMANCE INDICATORS (cont.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RURAL SANITATION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: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Proportion of the rural households using in their place of residence a sewage system, septic tank, own VIP or own lat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URBAN SANITATION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: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Proportion of the rural households using in their place of residence a sewage system, septic tank, own VIP or own lat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BASELINE AND TARGE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3325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Content Placeholder 3" descr=""/>
          <p:cNvPicPr/>
          <p:nvPr/>
        </p:nvPicPr>
        <p:blipFill>
          <a:blip r:embed="rId1"/>
          <a:stretch/>
        </p:blipFill>
        <p:spPr>
          <a:xfrm>
            <a:off x="728640" y="2082960"/>
            <a:ext cx="76867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CHALLENGES and POTENTIAL CONSTRAINT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rmonization of Sector Information and analy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keholder Capacity for Monitoring and Evaluation especially key sector departments and agenc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keholder information flow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nor Coordination and agreement to common approach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ectangle 2" descr=""/>
          <p:cNvPicPr/>
          <p:nvPr/>
        </p:nvPicPr>
        <p:blipFill>
          <a:blip r:embed="rId1"/>
          <a:stretch/>
        </p:blipFill>
        <p:spPr>
          <a:xfrm>
            <a:off x="420840" y="414360"/>
            <a:ext cx="83214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0:04:22Z</dcterms:created>
  <dc:creator> </dc:creator>
  <dc:description/>
  <dc:language>en-US</dc:language>
  <cp:lastModifiedBy>user</cp:lastModifiedBy>
  <dcterms:modified xsi:type="dcterms:W3CDTF">2011-04-06T14:05:57Z</dcterms:modified>
  <cp:revision>110</cp:revision>
  <dc:subject/>
  <dc:title>MONITORING AND EVALUATION</dc:title>
</cp:coreProperties>
</file>