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F0F0-6326-43C2-BF87-ADDF14478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0f51"/>
                </a:solidFill>
                <a:latin typeface="Tahoma"/>
              </a:rPr>
              <a:t>WIEGOand Senior Research AssociateSchool of Development StudiesUniversity of KwaZulu-Natal4041 D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social security system remains fragmented, institutionally weak and unevenly regulated; there exist considerable disparities in social security coverage– by location (urban/rural), gender and employment status; coverage is particularly low among women workers and those in the rural ar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Mapping and Analysis - legislation, national/local govt domain, who controls the physical environment where informal workers are active, training institutions and curricula, platforms/forums for involvement of informal workers in discussions of work conditions and work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stat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of the workforce is in the informal sector - they exist everywhere, in every sector and in every profession - for some it is their primary earning, for others informal work supplements their earnings from their formal job. Micro-traders are the largest group of informal opera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1 – this new expanded definition of the “informal economy” or “informal employment” has been endorsed by the 2002 International Labour Conference and the 2003 International Conference of Labour Statist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2 – the international definition of the “informal sector” that was adopted by the 1993 International Conference of Labour Statisticians included only those who work in informal enterprises (shown in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abo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minantly women &amp; youth : high poverty risk, low earnings - base of the pyra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19FE-52FC-4261-B278-E52813C3E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engaged in the informal econom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cky entrepreneurs” – to borrow Hernando de Soto’s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poor – as depicted i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working Ghanaians &gt;15 yrs, ….% of working Tanzanians over 15 yrs are employed inform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reforms should be done through dialogues and nego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ps = large and growing share of self-employment, especially own accou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943B-3365-476D-A5D2-A4B46E82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E5DE-D7BC-4A33-A79F-6EB36219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ED0D-E5E8-444A-B9E7-6633DAF4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D479-3B62-4E3F-862D-90D62C94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FDB0-3752-4509-87B3-B15DC4A3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81A4-BE7A-4173-B1ED-EBA1880F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5428-72D2-4C6F-9604-D61ADF9F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CA41-5E8F-44F6-BBBB-1CE25B77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E55D-8C82-40DE-9A7E-346212E3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949C-5D09-4220-B68D-50D17393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5177-6DE7-4E6E-B344-A35E72B9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D103-4014-4129-90AC-AE61743A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BD24-4B4A-4638-9BDF-87090542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FA3C-95AE-40CF-B816-064C828F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BD8D-8DCB-4A41-B0BE-958EA06B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D198-1691-4EA8-A79F-F4D217A5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80A6-B1AE-45C8-904F-C5BBFB48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D360-AE4F-4BCC-894F-FD941C80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6443-FB76-42AA-8DB3-9270AF61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392C-3923-4F83-9185-277F44AC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3579-4532-49DB-9DF4-03640679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F9A1-9822-4709-B9ED-E583AE98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E27F-D4A3-45B3-9EB6-844AAF6E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A3CB-BBA3-4E75-80B4-A08DC875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8477-E3BA-4A36-9385-40A362C1E89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6DCB-B519-4E64-B952-1CD2CA1F2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wiego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8442-16FB-44D3-A604-9EF802D5874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PATIONAL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Protection in Af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Experiences on the Informal Econom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 &amp; AU Commission Capacity Building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1 March 2011, Nairobi, Keny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uma Mamdani, Senior Researcher, Ifakara Health Institute, Tanz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e Lund, WIEGO (SP-OHS Programme Director) and Senior Research Associate, Univ. of KwaZulu, Durban, 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business_card"/>
          <p:cNvPicPr/>
          <p:nvPr/>
        </p:nvPicPr>
        <p:blipFill>
          <a:blip r:embed="rId1"/>
          <a:stretch/>
        </p:blipFill>
        <p:spPr>
          <a:xfrm>
            <a:off x="3603600" y="274680"/>
            <a:ext cx="1967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cial Protection: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majority of poor who work informal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rious &amp; high risk expo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no social security co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otect against short term risks or life-time contin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fford private insurance, 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little access to social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er people </a:t>
            </a:r>
            <a:r>
              <a:rPr b="1" lang="en-US" sz="2200" spc="-1" strike="noStrike">
                <a:solidFill>
                  <a:srgbClr val="ce2450"/>
                </a:solidFill>
                <a:latin typeface="Arial"/>
              </a:rPr>
              <a:t>live and work in poor commun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here it is hard to insure against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veloping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insurance do not target informal workers, wage employed or self-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assistance for poorer and vulnerable people do not target able bodied people of working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Domestic work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ial for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tegrating into existing labour policy and legis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ine with ‘extend social protection’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85840" y="1447560"/>
            <a:ext cx="4800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Street and marke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ational government)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service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risk AND increase productivity AND protect both informal workers and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Industrial outwork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employer/ owner-of-capital insu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clude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social protection for informal workers in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trade agreements/ codes of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2450"/>
                </a:solidFill>
                <a:latin typeface="Arial"/>
              </a:rPr>
              <a:t>Waste-pick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 with municipalities/private sector for provision of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safety equi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duction of hazards at the plac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ccess for workers 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/private sector social prov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ealth services and health insurance, training courses, educational burs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-think OHS as a mo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clusive discip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different types of informal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titutional re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be necessary – at national and local government level - to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eac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informal workers be 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clusive and sustainable platforms for negotiation and policy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PROGRAM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, Tanz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medabad and Pu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in Americ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al groups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et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genous cate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based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 recycling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estic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weed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Understanding th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l economy in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mapping and analysis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Participatory research on risks and hazards with M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s discussions, mobility mapping, time and motion studies, household/ enterprise interviews, photography, health 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B4B5-D523-479F-A6DD-992164305E0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ZANIA MAINLAND: DATA ON OCCUPATIONAL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data - hugely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der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workers covered by the system - those largely working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ound a tenth of workplaces are regist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Environmental haz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ide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especially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the majority of the work force is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s - ofte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a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OH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main vulnerable to occupational inju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: OPPORTUNITIES FOR IMPROVED STATISTICS ON OCCUPATIONAL INJURY AND DISEASE FOR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ening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 routine 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district/counci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(and nested) questions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eriodic surv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BS, LFS, DHS, census) at nationa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going data collection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rengthening the ro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Municipalities or Counc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ocal Government (LG)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management and implementation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mproved statistics =&gt; improved understanding of OHS complexity =&gt; informed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 SOCIAL PROTEC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rotective laws, policies, programmes &amp; proje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ing multiple state and non-state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ttered, ill-coordinated and the general impact of these has been lim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t is therefore not just about building new systems and new programmes. It is also about assessing the effectiveness or rather weaknesses of existing systems and programm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: POOR OPERATORS LACK INCENTIVE TO MAINTAIN CLEAN WORK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genous Caterers Association, Accra: survey of 20 chop bars (informal eating establish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operators on average spent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around US$ 1,142 ann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water, refuse removal, use of toilets, cleaning equipment, employee health certificates &amp; fire fight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ow to make OHS more affordable for informal busin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global research and advocacy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ing in some 40 countries, promoting and advancing the interests of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er informal work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pecially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work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es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member-based organisations (MBOs),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orks with, builds &amp; strength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tworks of informal worker organisations (MB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MBOs and informal worker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visibility, voice, and validity (recog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19D0-59D1-4D5C-A522-FD017C35903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 &amp; TANZANIA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ITUTIONAL PROBLEMS OF 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horizontal 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ocal government departments that have jurisdiction over various aspects of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 enough fit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LG and national gov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institutionalised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G and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 dissemination of public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aws, policies, regulations, by-law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ufficient reg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ivati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ENTIONS: PREVENTION OF RISKS, IMPROVING WORK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ealth screen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orbidity and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prototypes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rov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new/ modifi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Exchanging good pract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countries; and between national, regional and international organisations &amp; networks of informal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men in Informal Employ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izing and Organ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160" y="2428920"/>
            <a:ext cx="8305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eg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OHS micr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nclusivecitie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B4B0-2D43-4A05-B97E-330CBAFD3F0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G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ocial Protection, Urban Policies, Global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 content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atistics Pr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undamental to greater visibility and recognition, changed the way labour force data is collected in many countries, inc. 14 Af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Organization &amp;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vocacy wing in direct contact with ‘worker org’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&amp;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shops, policy dialogue, regional meetings, papers, articles, development and dissemination of accessible 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ED DEFINITION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FORMAL ECONOMY (IE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35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E - the diversified set of economic activities, enterprises, and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worker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hat are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not</a:t>
            </a:r>
            <a:r>
              <a:rPr b="0" lang="en-GB" sz="1600" spc="-1" strike="noStrike">
                <a:solidFill>
                  <a:srgbClr val="ce245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gulated or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protect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y the st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 (or informal employment) includ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e2450"/>
                </a:solidFill>
                <a:latin typeface="Times New Roman"/>
              </a:rPr>
              <a:t>Self-employment in informal enterpris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wn account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paid contributing family 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ce2450"/>
                </a:solidFill>
                <a:latin typeface="Times New Roman"/>
              </a:rPr>
              <a:t>Wage employment in informal jobs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in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asual or day labou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dustrial outworkers (also called homework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Italic"/>
              </a:rPr>
              <a:t>IE</a:t>
            </a:r>
            <a:r>
              <a:rPr b="1" lang="en-US" sz="2000" spc="-1" strike="noStrike">
                <a:solidFill>
                  <a:srgbClr val="ce2450"/>
                </a:solidFill>
                <a:latin typeface="Arial Italic"/>
              </a:rPr>
              <a:t>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inside</a:t>
            </a:r>
            <a:r>
              <a:rPr b="0" i="1" lang="en-US" sz="2000" spc="-1" strike="noStrike">
                <a:solidFill>
                  <a:srgbClr val="000000"/>
                </a:solidFill>
                <a:latin typeface="Arial Ital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and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 informal enterprises (whether carried out for formal sector enterprises or house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EGO promoted this expanded definition in collaboration with the ILO and the International Expert Group on Informal Sector Statistics (the Delhi Group): it was endorsed by the International Conference of Labour Statisticians (ICLS) in 2003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ED LABOR MARKETS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MEN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 we mean by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 exist which prevent individuals from moving into better employment opportunities (or improving the quality of existing em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causes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tion, social norms, unequal wealth/assets, unpaid care responsibilities, lack of credit, lack of public goods/servic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does ‘segmentation’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forces existing patterns of poverty and social exclu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equity: gender, racial, caste seg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basic rights and the choices available to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245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2450"/>
                </a:solidFill>
                <a:latin typeface="Times New Roman"/>
              </a:rPr>
              <a:t>In summary: a social justice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240" y="11430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914400" y="228600"/>
            <a:ext cx="783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ATION OF THE INFORMAL ECONOMY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Y SEX, AVERAGE EARNINGS, AND POVERTY RISK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ING POOR IN THE INFORMAL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6172200" y="1143000"/>
          <a:ext cx="2514600" cy="19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143000"/>
                    <a:ext cx="251460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457200" y="5105520"/>
          <a:ext cx="2514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105520"/>
                    <a:ext cx="2514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4"/>
          <p:cNvGraphicFramePr/>
          <p:nvPr/>
        </p:nvGraphicFramePr>
        <p:xfrm>
          <a:off x="6172200" y="3276720"/>
          <a:ext cx="259092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2767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6"/>
          <p:cNvSpPr/>
          <p:nvPr/>
        </p:nvSpPr>
        <p:spPr>
          <a:xfrm>
            <a:off x="3200400" y="1219320"/>
            <a:ext cx="4419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Unregulated Factories: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Small Workshop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rap metal recyclers 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av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 and 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-bag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 Streets or In Open Spa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ee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sh-car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bage collect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ide barb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uction wor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Fields, Pastures, and Fores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farm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gricultural labou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epherd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est gath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  Ho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wor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ma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tisans or craft produc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ers of electronic part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457200" y="3200400"/>
          <a:ext cx="2438280" cy="16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200400"/>
                    <a:ext cx="243828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457200" y="1219320"/>
          <a:ext cx="2438280" cy="18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1219320"/>
                    <a:ext cx="243828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6172200" y="5181480"/>
          <a:ext cx="266688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181480"/>
                    <a:ext cx="2666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LOYMENT, INFORMALITY, POVERTY</a:t>
            </a:r>
            <a:br>
              <a:rPr sz="36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- the most important way in which the benefits of growth can be sh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world’s poor – especially in developing countries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 rather than formal employment is on the 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ast majority of the working poor – those who earn less than US$ 1 per day - earn their living in the informal economy 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earnings are 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 are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Poverty reduction is not possible 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formal employment opportun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the assets and earning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reducing the risks of those who work in the informal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AND INSTITUTIONAL REFORM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THROUGH DIALOGUE AND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partite dialogues and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initi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volving multiple relevant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e.g.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Fair Trade and Ethical T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Global Comp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refor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Times New Roman"/>
              </a:rPr>
              <a:t>Process should involve all relevant key stakehold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government (national &amp; local), private sector, civil society (trade unions + MBOs of working poor + NGOs working on labor and employment issues, employer 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0:03:53Z</dcterms:created>
  <dc:creator>user</dc:creator>
  <dc:description/>
  <dc:language>en-US</dc:language>
  <cp:lastModifiedBy>user</cp:lastModifiedBy>
  <dcterms:modified xsi:type="dcterms:W3CDTF">2011-03-09T12:18:44Z</dcterms:modified>
  <cp:revision>26</cp:revision>
  <dc:subject/>
  <dc:title>PowerPoint Presentation</dc:title>
</cp:coreProperties>
</file>