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5B74E-7746-4ACA-9E53-5EFF2FABBB50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3D4F7-A2D3-47B2-8B23-9B3862F94ED0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DD5C6-969F-47A3-B96E-2C24F197E22E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55966-2C88-4AC6-A892-97F335118C12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60546-44DE-4F99-9199-B585B35E6B99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A1149-F77A-4EAE-8F9A-C8487626595D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D5203-6851-4876-8AC5-1C26809C7FEC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A40C9-D44D-471B-9B94-334F85CF6FBD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FE940-3540-44C0-B453-2431B4C211E4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D224-C035-4FDD-8EC7-007455E9D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301D-4037-4B57-91AC-D546A1C8E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3611-D334-442C-B411-67827CFD9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8024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123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477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98024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123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DBB7-FBA7-48A7-9F42-63AD7F7EA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93AF0-E574-4BE6-98B4-1EDB239CC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D9743-F69B-4D29-866E-380BAD798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08CDC-4F1B-4656-9A03-17D23EF68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2630E-FC2E-4869-AB0E-820EBB4E1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F413E-E188-4CF0-A617-D8483655C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440" y="83772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09B43-64F7-402F-B71B-5A4E37C4A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50DDA-6AFF-401E-849F-F0766B52D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B7DE-7779-4ACE-B8CB-75582810E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7B9B8-FD15-408F-A378-BDA06E956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B6FE8-3052-41C1-BB9C-48C7AAA87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6F1DD-CE4F-4949-BE52-CDA7F10A2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90DD6-4C0A-41DC-A37F-DE56B9C97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8024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9123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0477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498024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9123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E6F17-7D14-410A-BC8C-BA74D01B7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9FE0-5F88-4584-A122-EBBE0DDE3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7025-5992-45A2-A900-1726A694E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DBFE-52DC-4617-8089-F9A3BA87D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440" y="83772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404B-E750-4B0A-B358-E543C7ADE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4096-A3F3-4E6B-9D10-C73E7D7FE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0A9F-3687-490E-813E-1F299899B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F05A-32A5-413D-8D6E-54BEB8347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2" marL="1017000" indent="-20340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3" marL="1424160" indent="-20340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4" marL="1830960" indent="-203400">
              <a:spcBef>
                <a:spcPts val="700"/>
              </a:spcBef>
              <a:buClr>
                <a:srgbClr val="ffff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5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6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05E2E-A419-40F1-834C-4790F62BA6AA}" type="datetime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E2B0E-8B4C-45E1-8887-024A7A4DEBD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Picture 19" descr="banner_en"/>
          <p:cNvPicPr/>
          <p:nvPr/>
        </p:nvPicPr>
        <p:blipFill>
          <a:blip r:embed="rId2"/>
          <a:stretch/>
        </p:blipFill>
        <p:spPr>
          <a:xfrm>
            <a:off x="3048120" y="5578560"/>
            <a:ext cx="5715000" cy="593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" name="Object 24"/>
          <p:cNvGraphicFramePr/>
          <p:nvPr/>
        </p:nvGraphicFramePr>
        <p:xfrm>
          <a:off x="662040" y="4562640"/>
          <a:ext cx="2157480" cy="1609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" name="Object 2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2040" y="4562640"/>
                    <a:ext cx="2157480" cy="160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7" descr="banner_en"/>
          <p:cNvPicPr/>
          <p:nvPr/>
        </p:nvPicPr>
        <p:blipFill>
          <a:blip r:embed="rId2"/>
          <a:stretch/>
        </p:blipFill>
        <p:spPr>
          <a:xfrm>
            <a:off x="685800" y="457200"/>
            <a:ext cx="5715000" cy="593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8"/>
          <p:cNvGraphicFramePr/>
          <p:nvPr/>
        </p:nvGraphicFramePr>
        <p:xfrm>
          <a:off x="662040" y="3733920"/>
          <a:ext cx="2919240" cy="217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2040" y="3733920"/>
                    <a:ext cx="2919240" cy="21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2" marL="1017000" indent="-20340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3" marL="1424160" indent="-20340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4" marL="1830960" indent="-203400">
              <a:spcBef>
                <a:spcPts val="700"/>
              </a:spcBef>
              <a:buClr>
                <a:srgbClr val="ffff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5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6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A3139-7BF1-4A69-965D-8E0C87C1CC41}" type="datetime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F7219-C371-484E-BD93-8EB0D08C154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africa-eu-partnership.org/" TargetMode="External"/><Relationship Id="rId2" Type="http://schemas.openxmlformats.org/officeDocument/2006/relationships/hyperlink" Target="http://www.africa-eu-partnership.org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13203-69D2-4979-9C9B-A057934B7AB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133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ff00"/>
                </a:solidFill>
                <a:latin typeface="Tahoma"/>
              </a:rPr>
              <a:t>EMPLOYMENT, SOCIAL PROTECTION AND DECENT WORK </a:t>
            </a:r>
            <a:br>
              <a:rPr sz="1800"/>
            </a:br>
            <a:r>
              <a:rPr b="0" i="1" lang="en-IE" sz="1800" spc="-1" strike="noStrike">
                <a:solidFill>
                  <a:srgbClr val="ffff00"/>
                </a:solidFill>
                <a:latin typeface="Tahoma"/>
              </a:rPr>
              <a:t>Outcomes from Workshop in Dakar</a:t>
            </a:r>
            <a:r>
              <a:rPr b="0" lang="en-IE" sz="1800" spc="-1" strike="noStrike">
                <a:solidFill>
                  <a:srgbClr val="ffff00"/>
                </a:solidFill>
                <a:latin typeface="Tahoma"/>
              </a:rPr>
              <a:t> </a:t>
            </a:r>
            <a:br>
              <a:rPr sz="1800"/>
            </a:br>
            <a:r>
              <a:rPr b="0" lang="en-IE" sz="1800" spc="-1" strike="noStrike">
                <a:solidFill>
                  <a:srgbClr val="ffff00"/>
                </a:solidFill>
                <a:latin typeface="Tahoma"/>
              </a:rPr>
              <a:t>30 June-2 July 2011</a:t>
            </a:r>
            <a:br>
              <a:rPr sz="1800"/>
            </a:br>
            <a:br>
              <a:rPr sz="2400"/>
            </a:br>
            <a:r>
              <a:rPr b="0" lang="en-IE" sz="2400" spc="-1" strike="noStrike">
                <a:solidFill>
                  <a:srgbClr val="b2b2b2"/>
                </a:solidFill>
                <a:latin typeface="Tahoma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962160" y="3124080"/>
            <a:ext cx="48006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Hjördis D’Agostino Ogendo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ffff00"/>
                </a:solidFill>
                <a:latin typeface="Tahoma"/>
              </a:rPr>
              <a:t>European Commission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ffff00"/>
                </a:solidFill>
                <a:latin typeface="Tahoma"/>
              </a:rPr>
              <a:t>DG EuropeAid</a:t>
            </a:r>
            <a:r>
              <a:rPr b="0" i="1" lang="en-GB" sz="28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00"/>
                </a:solidFill>
                <a:latin typeface="Tahoma"/>
              </a:rPr>
              <a:t>Brussels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7391520" cy="304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These recommendations/conclusions  were used as important inputs for the 3 activities identified in 2nd action plan of the joint Africa-EU Strategy - adopted in 3rd Africa-EU Summit in November 2010.</a:t>
            </a: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 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AADAD-DFBC-4F41-8825-F9819D25C38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1AA59-7102-46B7-BE48-E177194C3DD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More information</a:t>
            </a: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 on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7760" y="2209320"/>
            <a:ext cx="57150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00"/>
                </a:solidFill>
                <a:latin typeface="Tahoma"/>
              </a:rPr>
              <a:t>Joint </a:t>
            </a: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Africa-EU Stra</a:t>
            </a:r>
            <a:r>
              <a:rPr b="0" lang="sv-SE" sz="3200" spc="-1" strike="noStrike">
                <a:solidFill>
                  <a:srgbClr val="ffff00"/>
                </a:solidFill>
                <a:latin typeface="Tahoma"/>
              </a:rPr>
              <a:t>t</a:t>
            </a: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egy</a:t>
            </a:r>
            <a:r>
              <a:rPr b="0" lang="sv-SE" sz="3200" spc="-1" strike="noStrike">
                <a:solidFill>
                  <a:srgbClr val="ffff00"/>
                </a:solidFill>
                <a:latin typeface="Tahoma"/>
              </a:rPr>
              <a:t> in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 u="sng">
                <a:solidFill>
                  <a:srgbClr val="ccccff"/>
                </a:solidFill>
                <a:uFillTx/>
                <a:latin typeface="Tahoma"/>
                <a:hlinkClick r:id="rId1"/>
              </a:rPr>
              <a:t>http://</a:t>
            </a:r>
            <a:r>
              <a:rPr b="0" lang="hu-HU" sz="2400" spc="-1" strike="noStrike" u="sng">
                <a:solidFill>
                  <a:srgbClr val="ccccff"/>
                </a:solidFill>
                <a:uFillTx/>
                <a:latin typeface="Tahoma"/>
                <a:hlinkClick r:id="rId2"/>
              </a:rPr>
              <a:t>www.africa-eu-partnership.org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36C32-AB64-47AA-996E-373FA9FC487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Purpose of the Dakar workshop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7760" y="2209320"/>
            <a:ext cx="571500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Tahoma"/>
              </a:rPr>
              <a:t>Sharing experience and knowledge in the field of employment, social protection and decent work in African and European countries</a:t>
            </a: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ffff00"/>
                </a:solidFill>
                <a:latin typeface="Tahoma"/>
              </a:rPr>
              <a:t>Stimulate debate and discussion </a:t>
            </a: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ffff00"/>
                </a:solidFill>
                <a:latin typeface="Tahoma"/>
              </a:rPr>
              <a:t>and creation of networks/working groups in areas of common interest between interested EU and African countries and stakeholders </a:t>
            </a: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0452E-F17E-4398-B03F-A4390EB1E0C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Overall conclusions:</a:t>
            </a: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047760" y="1980720"/>
            <a:ext cx="57150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The fundamental role of employment, social protection and social dialogue in achieving sustainable and balanced economic growth;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Importance and potential of the informal economy in the development of African countries;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Necessary involvement of governments, non-state actors and, in particular, of social partners, as well as of international organisations;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4FF0F-BFDA-4E4F-A9B1-2BB9DB953C5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800" spc="-1" strike="noStrike">
                <a:solidFill>
                  <a:srgbClr val="ffff00"/>
                </a:solidFill>
                <a:latin typeface="Tahoma"/>
              </a:rPr>
              <a:t>Overall conclusions </a:t>
            </a:r>
            <a:r>
              <a:rPr b="0" i="1" lang="sv-SE" sz="2000" spc="-1" strike="noStrike">
                <a:solidFill>
                  <a:srgbClr val="ffff00"/>
                </a:solidFill>
                <a:latin typeface="Tahoma"/>
              </a:rPr>
              <a:t>continue</a:t>
            </a: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:</a:t>
            </a: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7760" y="2209320"/>
            <a:ext cx="57150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Noted the existence of a satisfactory framework both political as well as sectoral policies which will serve as the framework for action (EU-Africa Strategy, AU SPF etc...)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Need to improve the strategic framework for  mobilizing  resources for sustainable reforms at  local, public and private level, as well as predictable and long-term external resources.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0F92B-9E3D-4997-B5D8-EB1ACD04975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Specific conclusions from working group on social protection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7760" y="2209680"/>
            <a:ext cx="5715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We took note of the AU Social Policy Framework and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We supported its </a:t>
            </a:r>
            <a:r>
              <a:rPr b="0" i="1" lang="en-GB" sz="2000" spc="-1" strike="noStrike">
                <a:solidFill>
                  <a:srgbClr val="ffff00"/>
                </a:solidFill>
                <a:latin typeface="Tahoma"/>
              </a:rPr>
              <a:t>“comprehensive social policy vision”</a:t>
            </a: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 and the need of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Implementing it at regional, sub-regional and national levels.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ffff00"/>
                </a:solidFill>
                <a:latin typeface="Tahoma"/>
              </a:rPr>
              <a:t>The working group (on SP) will support the development of national Social Protection </a:t>
            </a:r>
            <a:r>
              <a:rPr b="0" lang="fi-FI" sz="2000" spc="-1" strike="noStrike" u="sng">
                <a:solidFill>
                  <a:srgbClr val="ffff00"/>
                </a:solidFill>
                <a:uFillTx/>
                <a:latin typeface="Tahoma"/>
              </a:rPr>
              <a:t>systems</a:t>
            </a:r>
            <a:r>
              <a:rPr b="0" lang="fi-FI" sz="2000" spc="-1" strike="noStrike">
                <a:solidFill>
                  <a:srgbClr val="ffff00"/>
                </a:solidFill>
                <a:latin typeface="Tahoma"/>
              </a:rPr>
              <a:t> as one of the important elements of AU-SPF.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BD680-48ED-430A-9C84-E8CF90810C9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Recommendations I</a:t>
            </a:r>
            <a:br>
              <a:rPr sz="3600"/>
            </a:b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from Dakar Workshop 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000" spc="-1" strike="noStrike">
                <a:solidFill>
                  <a:srgbClr val="ffff00"/>
                </a:solidFill>
                <a:latin typeface="Tahoma"/>
              </a:rPr>
              <a:t>We agreed that: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2000" spc="-1" strike="noStrike">
                <a:solidFill>
                  <a:srgbClr val="ffff00"/>
                </a:solidFill>
                <a:latin typeface="Tahoma"/>
              </a:rPr>
              <a:t>The strengthening of national social protection systems should start by analyzing and improving existing social protection arrangements, and complementing them with new ones to reach those not covered.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FE522-9F8E-4822-A942-F5911927547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Recommendations II</a:t>
            </a:r>
            <a:br>
              <a:rPr sz="3600"/>
            </a:b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from Dakar Workshop 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000" spc="-1" strike="noStrike">
                <a:solidFill>
                  <a:srgbClr val="ffff00"/>
                </a:solidFill>
                <a:latin typeface="Tahoma"/>
              </a:rPr>
              <a:t>We agreed that: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Knowledge management and analytic capacity within the government on SP are key in building national SP-systems, and should therefore be supported;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3D5E2-8D4D-4EEA-9B84-2C06C4CC12B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Recommendations III</a:t>
            </a:r>
            <a:br>
              <a:rPr sz="3600"/>
            </a:b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from Dakar Workshop 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7760" y="1676520"/>
            <a:ext cx="57150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The  need to support capacity building of relevant ministries, authorities such as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Ministries of Finance, National Planning Commissions, Social Affairs, Labour, and other ministries and local authorities involved in the implementation of social protection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and other relevant stakeholders, including social partners and civil society.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CD901-B50E-4BB9-A20B-3DA44A1CB5F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Recommendations IV </a:t>
            </a:r>
            <a:br>
              <a:rPr sz="3600"/>
            </a:b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from Dakar Workshop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7760" y="1980720"/>
            <a:ext cx="57150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000" spc="-1" strike="noStrike">
                <a:solidFill>
                  <a:srgbClr val="ffff00"/>
                </a:solidFill>
                <a:latin typeface="Tahoma"/>
              </a:rPr>
              <a:t>We agreed that: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000" spc="-1" strike="noStrike">
                <a:solidFill>
                  <a:srgbClr val="ffff00"/>
                </a:solidFill>
                <a:latin typeface="Tahoma"/>
              </a:rPr>
              <a:t>the (informal) working group on social protection should continue as part of the Informal Joint Expert Group within MME;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2000" spc="-1" strike="noStrike">
                <a:solidFill>
                  <a:srgbClr val="ffff00"/>
                </a:solidFill>
                <a:latin typeface="Tahoma"/>
              </a:rPr>
              <a:t>social protection should be prioritized within the Africa-EU cooperation, in particular within the framework of the Joint Africa-EU Strategy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1T02:57:42Z</dcterms:created>
  <dc:creator>Christoph Raudonat</dc:creator>
  <dc:description/>
  <dc:language>en-US</dc:language>
  <cp:lastModifiedBy>aidco-sd-tech2</cp:lastModifiedBy>
  <dcterms:modified xsi:type="dcterms:W3CDTF">2011-03-31T07:59:50Z</dcterms:modified>
  <cp:revision>46</cp:revision>
  <dc:subject/>
  <dc:title>PowerPoint Presentation</dc:title>
</cp:coreProperties>
</file>