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3120" y="738360"/>
            <a:ext cx="4930920" cy="369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5813-61EA-47AD-9B1A-DA53A957CD2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F901-A1E2-4D6C-BF6D-71EDEB4B7AA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EC1F-928F-41E8-BCB3-9ED3D6BD0CD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Despite the lack of a coherent policy framework there are widespread actions: support to home grown reforms of SP systems, through Food Security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284E-FE01-46B9-A132-57C4AA22FA4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AD77-9CC8-41A9-A17F-927AB1A2532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P: main interest around 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Empl+SP only from 2010 and in 2nd 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akar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D8E1-EE18-486D-8D37-A5C50647921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45F7-6FE7-4D13-8ACA-2E0E9696DCE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9033-1604-4B73-AE53-638DAF4AB61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7489-FA8B-4A19-880A-CDBB3CB141D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U has a long history of SP within Europe – there is a European Social Model even if there are major differences among national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EV POL: EU Consensus – empl+social cohesion as one of 9 priority areas of EU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09 OECD policy statement on the role of employment and social protection in making economic growth more pro-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6382-62C9-456B-8E12-365391AA91B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Food Facility (2008 – social transf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MDG initiative (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C929-7ABF-4FD3-A40C-E60E9E700DF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MDG Action Plan: support to wide-range coverage SP systems which are key element of social cohesion and st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9E07-24EC-4210-BC3F-AF089690E0F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8DBA-A989-4597-BA67-B703D420A5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B455-F041-4B54-87BF-365183F626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A069-03D8-4462-9661-01F67C894E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CA6D-6AD8-4FB0-B37A-CDA59CE7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B470-AA23-4F6C-8CC4-55C1AB02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921B-B31D-492B-BC0B-01EEB7C8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BB2E-ECCA-4AAB-BA57-5FD78E849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8310-9FE0-41D3-9C94-6045DCA1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7056-0486-455E-A3FF-4D4C2E9F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DB32-90CE-4FC5-BEA2-2680316D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906C-0B98-4FB8-BEFA-5CB06AD1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D2FD-418B-42C1-923E-30B01C1A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CB44-781B-4819-96B1-50F2A90E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A6A3-B838-48EC-9C1C-EE49CF29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72DB-E8E1-4621-A1F5-03E4C564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3CD2-28EC-46EB-AC68-C48EF555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A246-92C6-4D28-AF3C-3BFBC959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FD07-7938-4CDB-BC0A-A034939A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E318-5E42-4A60-AD48-30B43B7B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3B4B-07A4-4B2A-82B8-21390F55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82C8-437D-4EA3-87E0-1CDB7019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F095-0B0E-4A3C-9A94-52D7E89F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DBCD-FCC3-4C7F-BB4F-6108A854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F034-D0C3-44D7-B37B-4E1A9C5D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DBDB-9CCA-4C05-909A-D5F0D3E4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DA75-8A73-4E06-B5CE-B7D9C200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1CB4-C757-4C98-9723-518DD41E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A8D2-7E7F-4EDB-BA01-C26ECD94AB70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B7B1-C9F4-4E81-BFAB-BC0D9901E2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B4FB-9A06-4FB1-AB8F-D47D351F4141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5E27-834B-4249-BB73-FD6429B75B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hat/social-protection/index_en.htm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hyperlink" Target="http://www.africa-eu-partnership.org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CCF2-25E0-49BA-A980-98E1D0365DD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EU-AU Workshop on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- in the 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informal economy</a:t>
            </a:r>
            <a:br>
              <a:rPr sz="3200"/>
            </a:br>
            <a:br>
              <a:rPr sz="3200"/>
            </a:b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Nairobi 10-11 March 2011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22D7-22CE-4E5C-BAE4-E57BF47518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EC is present in all regions – levels and means of cooperation / a demand driven and differentiated approach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Latin America: 40% of cooperation to social sector/social protec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F1CE-84FC-4E92-97E4-61B264DDA3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sia: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increasingly political dialogue but important bilateral cooperation support to social protection reform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Sector budget support to Kyrgyzstan, Tajikistan.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ghanistan, China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5479-DEDC-40C4-9603-C33DFE8E51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in Africa (country programmes)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Ethiopia: Productive Safety Net Programme (WB Trust Fund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Rwanda: comprehensive social protection programme through sector budget suppor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Lesotho, Zimbabwe: support to OVC (cash transfers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348F-3F76-4284-93B0-3FCF867DFA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frica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Joint Africa-EU Strategy  -  8 partnership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Peace &amp; Securit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Democratic Governance &amp; Human Right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Regional Economic Integration, Trade &amp; Infrastructur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DG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Climate Change &amp; Environ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Ener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igration, Mobility &amp; Employ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Science, Information Society &amp; Spac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801F-7D63-4228-B34C-B318D1B1E6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Partnership on </a:t>
            </a:r>
            <a:br>
              <a:rPr sz="3200"/>
            </a:b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Migration, Mobility and Employme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7760" y="17521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12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5 migrat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employment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related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1 social protection initiative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(part of decent work initiative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higher education / student mobility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06F0-EE00-415A-8805-0A512B52DD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38280" y="1752480"/>
            <a:ext cx="6477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Decent work initiative –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AUC and EC will launch a project on extending SP in the informal economy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ing AU programme on upgrading the informal economy  and the Productiviy Agenda for Afric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C0CB-6C6D-4B83-A622-1E678308FCF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7.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Labour market governance and capacity buildin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Strengthening institutional capacity of labour market institutions i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Target public employment services and labour adminstration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F047-7B1B-4BE4-BF81-CD9FB91431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971800" y="1752480"/>
            <a:ext cx="5943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8. Regional ans sub-regional fora on employment, labour, social protection and labour migr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 harmonisation processes of labour market and social protection frameworks at regional levels, in cooperation with the REC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53CF-3169-4EA8-90FF-111B104EB7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Social Protection in EU coopera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ec.europa.eu/europeaid/what/social-protection/index_en.ht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g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hu-HU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www.africa-eu-partnership.or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D802-E54D-40EB-9F49-51EC029F32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600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151D-868F-41A8-92BE-A57BA526E44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 in EU development cooperation and in EU-A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U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relation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D814-E960-4907-9BD2-CC6250A320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1. EU Political Context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2. Social protection from an EC perspectiv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343400" y="39625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3. EC support to social protection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4. EU- Africa Strategy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0EE0-3C90-4E2A-AFCC-DACBD6253B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U political contex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European Consensus for Development (2005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mmunication and Council Conclusions on ‘Promoting Decent Work for all (2006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Staff working paper on “Promoting Employment through EU Development Cooperation” (2007) and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uncil conclusions including on social protection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21D8-A6A6-4B38-940A-8CB4D1A74B3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2009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ommunication on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Supporting developing countries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in coping with the crisi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EU committed to support developing countries in their efforts in setting up or strengthening social protection systems and program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2009 and 2010 Ad hoc Vulnerable Flex mechanis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m</a:t>
            </a: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 / safeguard social spending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2010 Communication 12 point EU Action plan in support of the MD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DB37-159B-4C0D-818D-2F04110E5C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</a:t>
            </a: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U initiativ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971440" y="19810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European Report on Development 2010 focuses on poverty, inequality, social protection in (primarily) sub-Sahara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EC Reference Document on Social Transfers in the fight against hunger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Social protection is a social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…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581280" y="243792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Promote social cohesion and stability – redistribution system as reducing inequaliti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Endorse a human rights approach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473F-61B4-4FB1-B086-D1A4AC27AD6C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581280" y="2286000"/>
            <a:ext cx="5562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b3b3b3"/>
                </a:solidFill>
                <a:latin typeface="Tahoma"/>
              </a:rPr>
              <a:t>chock absorber of crisis;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reduces poverty and supports pro-poor economic growth (impact on human development, access to education and health etc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social protection as a productive factor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DC06-4298-4225-98A1-5831183B7C06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ahoma"/>
              </a:rPr>
              <a:t>and an economic necessity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Tahoma"/>
              </a:rPr>
              <a:t>Challenges for social protec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809520" y="2361960"/>
            <a:ext cx="5334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Raise awareness/evidence on the positive impacts of social protection</a:t>
            </a: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fordability – how to find fiscal space for social protection/home-grown, long term financially sustainably;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How to extend social protection for people in the informal economy/rural area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79D3-19AF-461E-95AA-1464359CF583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14:56:36Z</dcterms:modified>
  <cp:revision>53</cp:revision>
  <dc:subject/>
  <dc:title>PowerPoint Presentation</dc:title>
</cp:coreProperties>
</file>