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3120" y="738360"/>
            <a:ext cx="4930920" cy="369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E043-D699-4BB8-87BA-7A30CEB4D0E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2F98-F120-4890-B84A-036462EDC0A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722A-6A0F-4C1D-A0CC-12475F76413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Despite the lack of a coherent policy framework there are widespread actions: support to home grown reforms of SP systems, through Food Security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EAB1-BED9-4C46-A05E-E8B67E26473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CA20-D370-4B7C-A566-6D41511A8C9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P: main interest around 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Empl+SP only from 2010 and in 2nd 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akar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5BA4-62B4-44DB-AC22-78DD2EAA483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4067-5C4D-4380-8D49-1BEB53F62AA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73AD-177E-48B3-8B83-3D103082930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E9BF-5CAA-4705-845A-B9AAD7D5BEF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U has a long history of SP within Europe – there is a European Social Model even if there are major differences among national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EV POL: EU Consensus – empl+social cohesion as one of 9 priority areas of EU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09 OECD policy statement on the role of employment and social protection in making economic growth more pro-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A113-87E7-4C2E-A55B-4DDED1404BA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Food Facility (2008 – social transf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MDG initiative (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C7A3-E6D0-4DF6-83CD-D7137E50331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MDG Action Plan: support to wide-range coverage SP systems which are key element of social cohesion and st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43CF-CC9D-484C-9D50-5DE60FF1463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B766-9EF6-4C43-9372-9C076F56E0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4B02-634F-4AE2-8650-C417994F55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685C-F787-45A3-8B82-285279BA53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B188-EE9F-4C72-AC4A-ADD9C2F67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095C-14A6-49F6-B1D6-7D5A1DF1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833C-E720-417D-AD74-C25CA2C6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32B9-7170-4E36-8359-8B65E2DF6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A300-74AE-46D0-8473-31B763E4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1DB3-F14F-4238-AF59-51A3BA31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DB16-006B-41B3-8A80-C89B4465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1C37-6685-45FB-8D7D-AA763B90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9E63-E245-48ED-B03E-30D89A3D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8BB2-A6E9-41A6-97B2-705EB8F8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0C30-1728-4D35-85EA-72E7F484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D0FA-EF14-41CD-A773-4EF160AE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5AE7-2B08-4DFB-B9E7-1BCCA36E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455C-241D-45EC-8DAB-F39EF0D8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596E-C99C-495D-9E2A-BACF9039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304B-E2A7-4082-8C67-B2AFFDE6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A1B6-F48F-4B12-A363-708FA1A7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C5AA-1184-4428-B47A-0AD79EEF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91F2-F4BF-4B65-A24D-529D070E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B26C-4EAC-43B4-A027-0CC48D68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11C9-3085-45C6-BDF3-5EAF5436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5EA9-6E98-4DD3-B46E-7051795E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FAE7-CF53-4548-91CE-23F87D00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BB9C-A9D4-44AA-9F44-8D036BFB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F044-8CAA-45F3-B075-89E36906E48E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3762-ABA9-40D7-9680-65250F4565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ACF4-5043-45B4-8AF8-3C4463133ECF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75D4-AD41-472B-9D43-7199CCFF9C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hat/social-protection/index_en.htm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hyperlink" Target="http://www.africa-eu-partnership.org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086F-5BC3-4513-981F-2B863BA8F10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EU-AU Workshop on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- in the 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informal economy</a:t>
            </a:r>
            <a:br>
              <a:rPr sz="3200"/>
            </a:br>
            <a:br>
              <a:rPr sz="3200"/>
            </a:b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Nairobi 10-11 March 2011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48F4-05C3-448D-B745-0BE7770986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EC is present in all regions – levels and means of cooperation / a demand driven and differentiated approach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Latin America: 40% of cooperation to social sector/social protec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5E62-C909-4F0D-A267-B29712E789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sia: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increasingly political dialogue but important bilateral cooperation support to social protection reform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Sector budget support to Kyrgyzstan, Tajikistan.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ghanistan, China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D3B1-3ACF-4289-97BA-32216C19FA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in Africa (country programmes)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Ethiopia: Productive Safety Net Programme (WB Trust Fund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Rwanda: comprehensive social protection programme through sector budget suppor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Lesotho, Zimbabwe: support to OVC (cash transfers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1197-D93D-4574-B3E8-4DB39C1C76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frica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Joint Africa-EU Strategy  -  8 partnership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Peace &amp; Securit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Democratic Governance &amp; Human Right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Regional Economic Integration, Trade &amp; Infrastructur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DG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Climate Change &amp; Environ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Ener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igration, Mobility &amp; Employ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Science, Information Society &amp; Spac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4968-44E6-4D0B-8922-158DF3502F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Partnership on </a:t>
            </a:r>
            <a:br>
              <a:rPr sz="3200"/>
            </a:b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Migration, Mobility and Employme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7760" y="17521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12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5 migrat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employment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related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1 social protection initiative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(part of decent work initiative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higher education / student mobility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EA6A-2C27-40E8-A048-5195F9DE3E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38280" y="1752480"/>
            <a:ext cx="6477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Decent work initiative –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AUC and EC will launch a project on extending SP in the informal economy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ing AU programme on upgrading the informal economy  and the Productiviy Agenda for Afric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3943-5A8A-46DB-97AE-36D710CAAC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7.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Labour market governance and capacity buildin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Strengthening institutional capacity of labour market institutions i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Target public employment services and labour adminstration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F161-7594-4EC2-BF99-927BF1C51B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971800" y="1752480"/>
            <a:ext cx="5943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8. Regional ans sub-regional fora on employment, labour, social protection and labour migr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 harmonisation processes of labour market and social protection frameworks at regional levels, in cooperation with the REC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4CE3-F23A-4E3E-8C1C-70DABB37CE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Social Protection in EU coopera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ec.europa.eu/europeaid/what/social-protection/index_en.ht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g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hu-H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www.africa-eu-partnership.or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6C0B-EDB0-4379-B668-CF4BB1E87D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600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7ED8-A4DF-4BF4-AD92-7AE22BA1140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 in EU development cooperation and in EU-A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U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relation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8C12-F304-4094-81FF-1E3F22BFF5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1. EU Political Context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2. Social protection from an EC perspectiv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343400" y="39625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3. EC support to social protection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4. EU- Africa Strategy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B261-9BD9-434F-98FA-524C64EFE7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U political contex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European Consensus for Development (2005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mmunication and Council Conclusions on ‘Promoting Decent Work for all (2006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Staff working paper on “Promoting Employment through EU Development Cooperation” (2007) and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uncil conclusions including on social protection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1D9C-3875-4F8B-80C5-AF9AC0C058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2009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ommunication on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Supporting developing countries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in coping with the crisi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EU committed to support developing countries in their efforts in setting up or strengthening social protection systems and program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2009 and 2010 Ad hoc Vulnerable Flex mechanis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 / safeguard social spending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2010 Communication 12 point EU Action plan in support of the MD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A914-729A-481F-80D0-0FAFDEA3B7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</a:t>
            </a: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U initiativ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971440" y="19810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European Report on Development 2010 focuses on poverty, inequality, social protection in (primarily) sub-Sahara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EC Reference Document on Social Transfers in the fight against hunger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Social protection is a social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…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581280" y="24379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Promote social cohesion and stability – redistribution system as reducing inequaliti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Endorse a human rights approach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D744-704C-4B3D-BB27-2230E808671A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581280" y="228600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b3b3b3"/>
                </a:solidFill>
                <a:latin typeface="Tahoma"/>
              </a:rPr>
              <a:t>chock absorber of crisis;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reduces poverty and supports pro-poor economic growth (impact on human development, access to education and health etc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social protection as a productive factor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A15A-42C1-4278-8DC7-D1AA3D6C2CE3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ahoma"/>
              </a:rPr>
              <a:t>and an economic necessity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Tahoma"/>
              </a:rPr>
              <a:t>Challenges for social protec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809520" y="2361960"/>
            <a:ext cx="5334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Raise awareness/evidence on the positive impacts of social protection</a:t>
            </a: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fordability – how to find fiscal space for social protection/home-grown, long term financially sustainably;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How to extend social protection for people in the informal economy/rural area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7D24-5D70-489F-AA73-2E189754C2D0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14:56:36Z</dcterms:modified>
  <cp:revision>53</cp:revision>
  <dc:subject/>
  <dc:title>PowerPoint Presentation</dc:title>
</cp:coreProperties>
</file>