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F6D6-9CBD-4F6A-BB4D-8B6F5A557C2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30B2-6DFB-41EF-AE9F-2703CC59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002F-C238-46B2-9DE6-D6754868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6822-75CE-4E9A-A9CE-01712A1E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866D-208D-4D22-B52D-49EFF5D6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F5DE-20A1-49E5-8866-3FF539AE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1B02-3F56-446E-B9DE-12C6FE6D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AEE6-B704-45CC-87E8-6FFD1669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42F0-69A6-4155-B1D4-5D834B02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A2AB-17B8-4EE1-9FA6-5AB3A1D4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D86C-1334-4078-8EC8-F344AEB9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933-1D73-4A8F-A6A3-0C0FA674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D9FC-B355-41D1-8EED-2C1DD176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CB58-9AF5-40C9-B045-DBDB2EA78A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Delegation of the European Union to Al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Economic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ing Sector Budget Support on Sanitation in Alge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ey challe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PI REGIONAL WATER SEMINAR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MMAN 21-24 M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7821720" y="0"/>
            <a:ext cx="1328760" cy="93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891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Temporary resul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Better ownership and involvment through the national syst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stablishing a common platform for a policy dialogue between the line minis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better understanding of the financing modality (SB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trategic discussion from operational to policy level (Cabine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Understanding the rationale behind a logical framewo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sitive side effects on PFM wi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Succesful PEFA with participative approach and acceptation by th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F of the weakn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A new EC programme (€ 5 mln) on a strategic reform of budget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ystem (minister level), crucial because public expenditure is the main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rce of growth in Al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..those results before disbursing the first tranch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1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BS plays the role of cat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imulates policy dialogue: EC/Algerian partner and between line minis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pens new opportunities on PFM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etter ownership and effectiveness using national system (State budg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ot to be dogmatic but sector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ney is not the issue… but the strategic vision, level of dialogue and quality of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24000" y="40464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Context in Alg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95280" y="1258920"/>
            <a:ext cx="8209080" cy="62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 macroeconomic stability, huge reserve funds, repayment of external de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conomy based on hydrocarb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dependant of external sh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losed economy (large state sector, including financial sector), limited impact of the financial crisis, move towards protectionist policies (Complementary financial law 2009-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has massive investment plan: USD 286 bn for the next 5 year Pl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ublic expenditures as the main source of growth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with marginal role for the private secto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, no incentive for re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Unusual context to promote budgetar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Problems with EU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not part of EC Neighbourhood Policy, but using Neighbourhood 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Key policy context is the Association Agreement (signed in 2005), very controversial, institutional set-up exists (sub-committe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evelopment cooperation with EU covering all sectors, smaller amount than with Morocco and Tunisia (about 54 mio per year), instruments limited to technical assistance (twinning started in 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imited absorption capacity leading to recoveries of old programmes, important cuts decided in the 2008 and 2009 programming (about 50 mio eur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litical stability: no real revolution expected until d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Challenges to implement the first S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budget support in a wealthy coun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limited financial leverage on Algeria (20 mio for 286 b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critcism of some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mission is the only donor pushing for budget support, others not present or without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plexity of involving different ministries (Foreign Affairs, Finance,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Foreign Affairs is favorable but for the wrong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ack of understanding by Water ministry of the full contents and implications of sector budget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Not an easy start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in Algeri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mited absorption capacity for TA and important de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blem of coordination: need for a common platform between line ministries (MRE, National Office on Sanitation, MoF, MAE, et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hy Algeria is the lone partner not benefitting from this financial modality (Marocco, Tunisia, Egypt, etc.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mprove ownership and deliver aid through national system (Aid effective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pgrade policy dialogue at a higher decis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ligible criteria are met in this particular sect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ut is not systematic/dogmatic (Cf Transport II: sector not mature for S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Money is not the problem …but the strategic vision and quality of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Challenges in the WS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links between the ministries (Water and Fin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economic (cost/benefit analysis) approach in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fficulties to evaluate and perform state programme on costly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stainability of budget resources to cover the sanitation office (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management of Human Resources and level of training for the executive and middle management on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imited management and planning tools to organize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participation of users, or consu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on water and sani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key priority in the 5 years stat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tinuity in the EC programming (EAU I = 20 mln Eur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ly good institutional capacity in the Ministry and in the National Sanitation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olid legal framework (Water law 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strategy exists although scattered, incomplete and not well formalised (Plan National de l’Eau, Schema Directeur de l’Ea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few donors in th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 but not on services an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water resources pilot for sector MT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Priorities of the SBS EAU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renghten a strategic integrated approach on sanitation in the water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cus on management and services (regulatory function) instead of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 management skills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lement mid term budget planning based on performance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rove quality of water and impact on public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Hybrid SBS with TA (€30 ml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Budget sector support: €2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Validation of the national strategy and budget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With indicators focused on qualitative changes in the sanitation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Improved sanitation investments, including mainte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Key public finance management issues in the water sector (cost recovery for the Sanitation Office, performance audit, MTEF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Technical assistance: €1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Preparation of a strategic Sanitation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Technical training center for sanitation (national training cen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Specialised equipment for laboratories (Quality of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8:48:46Z</dcterms:created>
  <dc:creator>elstane</dc:creator>
  <dc:description/>
  <dc:language>en-US</dc:language>
  <cp:lastModifiedBy>philippe</cp:lastModifiedBy>
  <dcterms:modified xsi:type="dcterms:W3CDTF">2011-03-21T12:01:02Z</dcterms:modified>
  <cp:revision>268</cp:revision>
  <dc:subject/>
  <dc:title>Diapositive 1</dc:title>
</cp:coreProperties>
</file>