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69C5-C222-4ADB-927B-5A7D50BB2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27D9-69BC-478C-8E5C-F4BA03B4B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456B-BA05-4BB7-BCED-757E26D02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147C-DE4D-435E-AF13-581FE41D0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D90D-DA4F-4A01-BFE6-E9B3E6B5D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2E5F-F738-45AF-B40A-4AC5C98F1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5C8D-BA02-4803-A50D-E436AB6F5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02B5-F7F2-48C4-A153-70EEC0C8F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05E8-8D3F-496E-BCDC-A93292FED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24B9-4251-4092-A656-A8D89894A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0DF0-ED37-4F7F-84DD-6630EB6AF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Water for All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Project area should include lower-income settlements where the non-served re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fford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Demand-driven services, Targeted subsi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ustain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Institutional, financial, operational environmental &amp;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cale-up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Build on local successful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Ownership/Particip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: Dialogue with all stakeholders including local PS &amp; previously excluded vulnerabl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FE6A8-A736-40CC-BFB8-F13140D7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7676C-B601-40E5-8BB3-CF063313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C4756-0C4A-4850-9548-8F9DE5B0D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184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7928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184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4F818-882B-4B5A-B3BF-DB55B2EF2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CE837-CC9E-400D-A0DC-29691C9E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FB20D-3271-4510-A828-2090B2E3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D3BC1-D788-4206-B976-738D25B9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23A59-FFDE-4D4C-B994-349FEE81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404640"/>
            <a:ext cx="720108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1B381-0E67-43FC-B3A4-9C5B4E52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84D02-FE78-4E3B-88DD-8DAEE99C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CCBC5-8E8E-4F68-9F22-8B7A2F8C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89078-16C2-40A0-8532-F968BC10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E7BC-A7E7-493F-892B-BFCA4E412027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77240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405F-F4F9-4B4A-97F5-DAAA3C62283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403280" y="6524640"/>
            <a:ext cx="63374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10.jpe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491920"/>
            <a:ext cx="856908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3200" spc="-1" strike="noStrike">
                <a:solidFill>
                  <a:srgbClr val="015cab"/>
                </a:solidFill>
                <a:latin typeface="Arial"/>
              </a:rPr>
              <a:t>Water and Sanitation EC-EIB Seminar</a:t>
            </a:r>
            <a:br>
              <a:rPr sz="1800"/>
            </a:br>
            <a:br>
              <a:rPr sz="1800"/>
            </a:br>
            <a:r>
              <a:rPr b="1" i="1" lang="en-GB" sz="2400" spc="-1" strike="noStrike">
                <a:solidFill>
                  <a:srgbClr val="015cab"/>
                </a:solidFill>
                <a:latin typeface="Arial"/>
              </a:rPr>
              <a:t>Session 3: Sanitation “supply”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a12f0b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Malawi Peri-Urban Water and Sanitation Project -</a:t>
            </a:r>
            <a:br>
              <a:rPr sz="2800"/>
            </a:b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Working with NGO’s to increase W&amp;S coverage </a:t>
            </a:r>
            <a:br>
              <a:rPr sz="2800"/>
            </a:br>
            <a:br>
              <a:rPr sz="2800"/>
            </a:br>
            <a:r>
              <a:rPr b="0" i="1" lang="en-GB" sz="2400" spc="-1" strike="noStrike">
                <a:solidFill>
                  <a:srgbClr val="015cab"/>
                </a:solidFill>
                <a:latin typeface="Arial"/>
              </a:rPr>
              <a:t>Brussels, 6 July 2010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E8DFF-F070-4138-AEFF-CA0B678018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3DB03-39E9-4C72-B4F9-7A933E2788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-6480" y="847800"/>
            <a:ext cx="9156960" cy="5162400"/>
            <a:chOff x="-6480" y="847800"/>
            <a:chExt cx="9156960" cy="5162400"/>
          </a:xfrm>
        </p:grpSpPr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-6480" y="847800"/>
              <a:ext cx="9156960" cy="51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611280" y="2768760"/>
              <a:ext cx="2633400" cy="148428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14612-D56C-4A8E-980E-850EC1980B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8C331-EFA4-436E-AC22-21A14F76D5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57880" cy="5516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14840" cy="5516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02B30-59E9-4A35-B692-36CB2AE85E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541840" y="4248000"/>
            <a:ext cx="14781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L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5360" y="1722600"/>
            <a:ext cx="1476360" cy="6984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E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63840" y="2852640"/>
            <a:ext cx="2217960" cy="698760"/>
          </a:xfrm>
          <a:prstGeom prst="flowChartProcess">
            <a:avLst/>
          </a:prstGeom>
          <a:solidFill>
            <a:srgbClr val="ff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16080" y="4186080"/>
            <a:ext cx="14763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B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5360" y="620640"/>
            <a:ext cx="1476360" cy="69840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EU ACP W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2"/>
            <a:endCxn id="84" idx="0"/>
          </p:cNvCxnSpPr>
          <p:nvPr/>
        </p:nvCxnSpPr>
        <p:spPr>
          <a:xfrm>
            <a:off x="4473360" y="1318680"/>
            <a:ext cx="1080" cy="4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85" idx="2"/>
            <a:endCxn id="83" idx="0"/>
          </p:cNvCxnSpPr>
          <p:nvPr/>
        </p:nvCxnSpPr>
        <p:spPr>
          <a:xfrm flipH="1" rot="16200000">
            <a:off x="5029200" y="2995200"/>
            <a:ext cx="697320" cy="1808640"/>
          </a:xfrm>
          <a:prstGeom prst="bentConnector3">
            <a:avLst>
              <a:gd name="adj1" fmla="val 696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5" idx="2"/>
            <a:endCxn id="86" idx="0"/>
          </p:cNvCxnSpPr>
          <p:nvPr/>
        </p:nvCxnSpPr>
        <p:spPr>
          <a:xfrm rot="5400000">
            <a:off x="3346200" y="3058920"/>
            <a:ext cx="635400" cy="1620000"/>
          </a:xfrm>
          <a:prstGeom prst="bentConnector3">
            <a:avLst>
              <a:gd name="adj1" fmla="val 76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4464000" y="13413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ontribu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97840" y="5467320"/>
            <a:ext cx="147780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A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85" idx="0"/>
            <a:endCxn id="84" idx="2"/>
          </p:cNvCxnSpPr>
          <p:nvPr/>
        </p:nvCxnSpPr>
        <p:spPr>
          <a:xfrm flipV="1">
            <a:off x="4473360" y="242028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562640" y="2421000"/>
            <a:ext cx="26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Loan/ grant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357336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On-lending agre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4000680"/>
            <a:ext cx="17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artnership 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2" idx="0"/>
            <a:endCxn id="83" idx="3"/>
          </p:cNvCxnSpPr>
          <p:nvPr/>
        </p:nvCxnSpPr>
        <p:spPr>
          <a:xfrm flipV="1" rot="16200000">
            <a:off x="7043400" y="4573080"/>
            <a:ext cx="870480" cy="91836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66560" y="5467320"/>
            <a:ext cx="147816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 For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86" idx="1"/>
            <a:endCxn id="98" idx="0"/>
          </p:cNvCxnSpPr>
          <p:nvPr/>
        </p:nvCxnSpPr>
        <p:spPr>
          <a:xfrm flipV="1" rot="10800000">
            <a:off x="1205640" y="4535280"/>
            <a:ext cx="910440" cy="93240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2989440" y="5467320"/>
            <a:ext cx="3159000" cy="698400"/>
          </a:xfrm>
          <a:prstGeom prst="flowChartProcess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Private Service Contr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6" idx="2"/>
            <a:endCxn id="100" idx="0"/>
          </p:cNvCxnSpPr>
          <p:nvPr/>
        </p:nvCxnSpPr>
        <p:spPr>
          <a:xfrm flipH="1" rot="16200000">
            <a:off x="3420360" y="4318560"/>
            <a:ext cx="583200" cy="1715040"/>
          </a:xfrm>
          <a:prstGeom prst="bentConnector3">
            <a:avLst>
              <a:gd name="adj1" fmla="val 55281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3" idx="2"/>
            <a:endCxn id="100" idx="0"/>
          </p:cNvCxnSpPr>
          <p:nvPr/>
        </p:nvCxnSpPr>
        <p:spPr>
          <a:xfrm rot="5400000">
            <a:off x="5164200" y="4350600"/>
            <a:ext cx="521280" cy="1713600"/>
          </a:xfrm>
          <a:prstGeom prst="bentConnector3">
            <a:avLst>
              <a:gd name="adj1" fmla="val 49965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3056040" y="487368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erformance Contr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360" y="393372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Implementa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526F5-F033-49B2-B777-33157D711A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caling up NGO’s service enabler role through projec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3422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identify kiosk sites in GIS system for PSP to construct 700 kios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et up associated WUA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l out 70,000 latr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awareness building and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lab bui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ting up private pit latrine emptying serv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ulper; Nibb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d we have the NGO’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ongwe: WaterAid –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ntyre: -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6588000" y="2276640"/>
            <a:ext cx="2016360" cy="35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A4EB8-887A-4A4A-BFE5-14B0956157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201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Procuring an NGO for Blantyre 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ly identified 3 potential NGO’s at outse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GO’s need local grass-root pre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ope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ugh CBO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they bid competitively (WaterAid no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 to consult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playing fiel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4500720" y="2276640"/>
            <a:ext cx="3570120" cy="201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C1D81-F999-4E26-9EB0-96D335AD92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stricted tender carried ou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pen tender for Expression of Interest (EO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 expressions of interest from int’l &amp; lo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V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pre-qualified bi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bid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winner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4P, on p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ignature in Augus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Big help: </a:t>
            </a:r>
            <a:r>
              <a:rPr b="0" lang="fr-CH" sz="2400" spc="-1" strike="noStrike">
                <a:solidFill>
                  <a:srgbClr val="cc3300"/>
                </a:solidFill>
                <a:latin typeface="Arial"/>
              </a:rPr>
              <a:t>Transaction Advisory Services (Fichtner Consulting) to prepare tender documents, raise market awareness, manage proce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2396E-9FC4-4FE9-BDB6-BA8D6C9580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ome early conclusions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 can play a very important role in reaching the MDG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specially crucial on the sanitation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ncluding NGO’s in the project structure simply adds mode parties and thus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f sanitation is out of Water Supplier’s remit, even more parties (city council et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e walked a thin line to procure competitively, but market is thin: Would other bidders have done as w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inning bidder confirmed sanitation marketing approa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o complaints received from bidders other than tight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61D2A-E166-4A6D-8443-7A56AC160E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6FFD8-DFBF-41CA-98EA-3B41590661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828720" y="-531720"/>
            <a:ext cx="10693440" cy="7561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43280" y="3141720"/>
            <a:ext cx="2016000" cy="649080"/>
          </a:xfrm>
          <a:prstGeom prst="wedgeRectCallout">
            <a:avLst>
              <a:gd name="adj1" fmla="val 57638"/>
              <a:gd name="adj2" fmla="val 85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70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2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4797360"/>
            <a:ext cx="2016000" cy="649440"/>
          </a:xfrm>
          <a:prstGeom prst="wedgeRectCallout">
            <a:avLst>
              <a:gd name="adj1" fmla="val 79449"/>
              <a:gd name="adj2" fmla="val 556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15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0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3D578-F505-4C1A-A179-55E7AFA9DC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ain Project Objectives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341000"/>
            <a:ext cx="8928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low income areas of the cities of Blantyre and Lilongwe by September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4-hour water supply for 408,000 people in Blantyre who currently receive it intermitt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 competent and sustainable Water 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Private Sector Service Contractor with Performance Based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7B26E-DB30-45E8-9C91-6F6171CF82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takeholders and project budget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280" y="1258560"/>
            <a:ext cx="359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Stakeholders befor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longw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ntyr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vatisation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WDP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PIU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s, CB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Income Area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istry of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7800" y="1258560"/>
            <a:ext cx="3741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Budget in EUR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EU grant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14.9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 loa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5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ater Boards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 1.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1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igible EUWF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0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which for LIA’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7.3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27F2C-2FE8-4D92-A826-5ADD1B73D3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76356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ost challenging task is the water and sanitation delivery in the LIA’s: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35 Kio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0,000 VIP lat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LIA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plan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mited land ten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ford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or payment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nd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rine investment hur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28574-778E-4C95-9A91-9664588A9A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6CA3B-3B41-490D-80F8-DC31459BF7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F5B96-6CBF-4A15-B312-144B5EBD6D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633760" y="-9360"/>
            <a:ext cx="3643200" cy="64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EC7C8-3796-447C-9D0E-B9748FE8E4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plicating successful models: WaterAid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 (in partnership with LWB) demonstrated a succesful local kiosk management mod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Water User Association” built on a strong social/community 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UA’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age up to 100 kio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customer interface for Water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UA’s: charge slightly increased fee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y kiosk operators &amp; WUA administ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ver prior deb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osk design with “superstructure” against vandals/th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cess has sensitised WaterBoards who now have special LIA unit to deal with WUA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marketing vs slab subsi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mall entrepren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lab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t latrine empt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5292720" y="4554360"/>
            <a:ext cx="3384720" cy="19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AB31C-B180-4084-A2FF-877483B4DE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09:30:31Z</dcterms:created>
  <dc:creator>CLIFFOR</dc:creator>
  <dc:description/>
  <dc:language>en-US</dc:language>
  <cp:lastModifiedBy>VANGILST</cp:lastModifiedBy>
  <dcterms:modified xsi:type="dcterms:W3CDTF">2010-07-05T19:49:59Z</dcterms:modified>
  <cp:revision>290</cp:revision>
  <dc:subject/>
  <dc:title>PowerPoint Presentation</dc:title>
</cp:coreProperties>
</file>