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6C83A-D236-4AC5-BB4A-48F257D4A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C6D40-8D1F-466E-845B-D10F3E5BE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B0B09-C6BC-41DA-9DB4-1448C4413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7C7C9-727C-468E-87AC-4DF443DEC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31D254-B9AF-46D7-BF21-4CF42E2557A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2CAADB-48F3-484C-9148-82D50BBC15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F7AC60-E0B5-4BEF-9C4E-73B56B203A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07F0B9-09BF-4593-897B-B3397A299C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D528AB-59E6-4327-B3C6-B4DB6BCFD5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E1E321-B4B6-4CFF-8B4F-52BC9F870A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BCF8FC-9A8C-4FEB-B4D6-4F820C5640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67E91-0F2E-4C3E-9271-D867E05A4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BB301-6A7A-45EB-AC4B-33DE3F3D57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9941A-D53D-44C0-AEB5-DCAFA8B7F5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7EC98-0096-4192-A29D-B4F827E7AA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861180-8009-4902-B2B3-8C6FD1569AA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A88F71-AB23-4589-A1C9-0FC1786B6D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F42CF-D161-4264-88FE-1ED3F1D82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E9508-05ED-4123-B6C3-6AB5AD166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29F13-98C6-4269-B3FA-C67404E44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E81F4-571D-4116-9793-50FC5795D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E702-8172-4A06-A442-53EF2F84F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20A67-E938-4D50-8A5A-CB67432D0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3651F-7B40-45F9-8FD8-50DCA459D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0C1F91C4-60DB-4E68-A2DA-F5C3D9AC338E}" type="datetime11">
              <a:rPr b="0" lang="en-US" sz="1400" spc="-1" strike="noStrike">
                <a:solidFill>
                  <a:srgbClr val="ffffff"/>
                </a:solidFill>
                <a:latin typeface="Times New Roman"/>
              </a:rPr>
              <a:t>18:00:4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C491-FE46-4B46-9483-E45E28A4F5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3791-75AA-4CD0-83E6-BC226ECECA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0EC5CC23-A7DF-4137-9228-80F7B2AE7591}" type="datetime11">
              <a:rPr b="0" lang="en-US" sz="1400" spc="-1" strike="noStrike">
                <a:solidFill>
                  <a:srgbClr val="ffffff"/>
                </a:solidFill>
                <a:latin typeface="Times New Roman"/>
              </a:rPr>
              <a:t>18:00:49</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0F693AD-9CD3-48E8-AA90-86C260D515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114711B-5E01-4E6E-A9AE-94F32A9063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BC46B00-15A2-4197-BD89-3FB6F4F0C7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9BAB705-F497-4E71-B5FC-BA86F479E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E78C09DE-CD8A-4555-8531-8E14C7D633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847AB01-9CEE-4CAC-960B-055B4288CA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0039632-4DBC-4E2B-84D3-DE7A305FE9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79C44F9-C1AF-440C-908F-420C74B945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95774281-30A8-48E6-8F7C-10445A2AC6F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D1FFF9E-E03D-4FC1-AA8F-78E55EC76FD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F7032AF-6DF3-468F-9012-53EF71B513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0F8D910-88BE-4A1D-A3A1-D4813D0FF1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7E89C7A-FB99-493B-950D-FE083281A1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FAE0855-71C8-4C46-B102-DA4DC464CA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36B3A2D-C4B3-434D-8934-BE0F48E47E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D7B6743-3AA7-49E5-A233-97F5D831F9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B8B8FE1-2F97-4619-AA41-C20B122408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