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C8145-7CA6-4C40-81D1-B3CB189B1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C8A2-7764-4877-8723-AC3E9FF2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29CF6-D233-43D3-8231-5DEC2A8BB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39C85-8ADE-421E-9100-EE1660A73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44F208-4D60-437E-B7F3-67C779C329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4EB64-431B-48F8-A305-23F491FE1B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78A21-EE17-47C0-BAC1-FC1542F218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681D1-D1BD-4315-BA37-797529F825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C98DB-4E22-4570-B8C4-C53EABD089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2774A-15C4-45AD-BFD2-5D4F9F9B76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F813A-208D-405E-A7B4-53B0398DB9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2E59-0615-4860-BC89-E3AF83CD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602F7-0028-4C65-92F0-CA9B1C901E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4A962-5B82-4578-A453-F25EFDE62E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63C2F-2221-4FCD-AE3D-1881340398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8FD87-ECA8-4CAD-9BE7-F4A0C06726B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DBDC5D-966B-4DB9-9C39-42FE2324FB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B6D3-5DA1-4A8E-9458-34A1779DD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D6DA-A095-4DFA-8312-696F13E3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63FA-6722-435E-AB01-716BE57F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670D-DBD5-4FC5-9FE2-E12F2F835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4DF2-2166-4C9A-80CB-19D473DC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C090-3AD6-4E2B-85B4-25C2C1A7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5BF6-4B4A-4B41-8F1B-00FA5E9C3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E95BC545-663C-457E-9160-0F912F6652DB}" type="datetime11">
              <a:rPr b="0" lang="en-US" sz="1400" spc="-1" strike="noStrike">
                <a:solidFill>
                  <a:srgbClr val="ffffff"/>
                </a:solidFill>
                <a:latin typeface="Times New Roman"/>
              </a:rPr>
              <a:t>18:00:4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D2FC-6F48-46D7-983F-1B08CE1D0C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11D7-F24C-4FEF-94C9-B25277AFB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7EAE05C-6E5E-40EA-B0FC-C4651B03020F}" type="datetime11">
              <a:rPr b="0" lang="en-US" sz="1400" spc="-1" strike="noStrike">
                <a:solidFill>
                  <a:srgbClr val="ffffff"/>
                </a:solidFill>
                <a:latin typeface="Times New Roman"/>
              </a:rPr>
              <a:t>18:00:4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707E891-AEA1-47FF-910B-CDD653075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F1AFE8A-7508-4E03-8201-B814D383A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4041B8C-75D6-4162-8150-84333F0EC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DA7170C-D601-41E0-8903-E5BFD2BC53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B97B18DB-362E-4002-9769-33D73F019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E689FF2-B137-43BD-BDBF-86AD46B4B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3821090-EE26-43E6-BA86-F6F8E783D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C8CAABB-695F-4C57-8F97-5AC43CB47D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5F947A1D-B6B6-41C3-93E0-3454CA56E6D1}"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CC7907-4FBE-4E54-8F22-87742FCB45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BF1D65-F42D-479C-A122-436C7767E0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0A5ED5-69DB-44ED-B2C7-8DC53B3CA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383660F-8088-4E3F-AC09-E7D2A1BFF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D896B5E-7613-4FBF-9A1F-6F878A0C5F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B98838C-FD6C-49A0-915A-9B26CB9BBB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3918FAC-5CB8-4500-A156-02DCB41B3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5588B1-8FC5-4D58-916F-4E266C3D88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