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2D25-3D4B-4467-A163-79BED789B7A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9D4C-EA7A-47B2-8C37-7743DD4BCE2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A17C-F3FF-402F-8F21-D69A83BF9580}" type="datetime">
              <a:rPr b="0" lang="en-US" sz="1200" spc="-1" strike="noStrike">
                <a:solidFill>
                  <a:srgbClr val="ffffff"/>
                </a:solidFill>
                <a:latin typeface="Verdana"/>
              </a:rPr>
              <a:t>07/30/26</a:t>
            </a:fld>
            <a:r>
              <a:rPr b="0" lang="en-US" sz="1200" spc="-1" strike="noStrike">
                <a:solidFill>
                  <a:srgbClr val="ffffff"/>
                </a:solidFill>
                <a:latin typeface="Verdana"/>
              </a:rPr>
              <a:t> </a:t>
            </a:r>
            <a:fld id="{CE89515A-5DFC-49E6-A02B-5A445F5FC375}"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C5E6-1E0C-4049-BBB7-79528DCA7C5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42DB-0D5E-439C-BF8A-4E84FCA9DDBE}" type="datetime">
              <a:rPr b="0" lang="en-US" sz="1200" spc="-1" strike="noStrike">
                <a:solidFill>
                  <a:srgbClr val="ffffff"/>
                </a:solidFill>
                <a:latin typeface="Verdana"/>
              </a:rPr>
              <a:t>07/30/26</a:t>
            </a:fld>
            <a:r>
              <a:rPr b="0" lang="en-US" sz="1200" spc="-1" strike="noStrike">
                <a:solidFill>
                  <a:srgbClr val="ffffff"/>
                </a:solidFill>
                <a:latin typeface="Verdana"/>
              </a:rPr>
              <a:t> </a:t>
            </a:r>
            <a:fld id="{BF0445AA-5BF1-4B08-A111-BD52A7B84561}"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99D0-DE40-4C4C-A556-B9761893DE0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7B27-29BC-4A3F-B91E-C5EA3E6FDAC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6365-3B7E-4875-821F-9A75BC2F14BE}" type="datetime">
              <a:rPr b="0" lang="en-US" sz="1200" spc="-1" strike="noStrike">
                <a:solidFill>
                  <a:srgbClr val="ffffff"/>
                </a:solidFill>
                <a:latin typeface="Verdana"/>
              </a:rPr>
              <a:t>07/30/26</a:t>
            </a:fld>
            <a:r>
              <a:rPr b="0" lang="en-US" sz="1200" spc="-1" strike="noStrike">
                <a:solidFill>
                  <a:srgbClr val="ffffff"/>
                </a:solidFill>
                <a:latin typeface="Verdana"/>
              </a:rPr>
              <a:t> </a:t>
            </a:r>
            <a:fld id="{CEA2042A-72E4-4C9A-8CAA-61260AC4BDF6}"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294F-574C-474B-9238-B0F9ED370A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7393-E465-4D50-AEB9-BA55625C64EA}" type="datetime">
              <a:rPr b="0" lang="en-US" sz="1200" spc="-1" strike="noStrike">
                <a:solidFill>
                  <a:srgbClr val="ffffff"/>
                </a:solidFill>
                <a:latin typeface="Verdana"/>
              </a:rPr>
              <a:t>07/30/26</a:t>
            </a:fld>
            <a:r>
              <a:rPr b="0" lang="en-US" sz="1200" spc="-1" strike="noStrike">
                <a:solidFill>
                  <a:srgbClr val="ffffff"/>
                </a:solidFill>
                <a:latin typeface="Verdana"/>
              </a:rPr>
              <a:t> </a:t>
            </a:r>
            <a:fld id="{41916383-CF7A-411F-A350-928F6BBEC4F1}"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64F3-727F-4AA7-AF81-EC2097F2B19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E2A1-C583-4194-9351-727E4BDFB45A}" type="datetime">
              <a:rPr b="0" lang="en-US" sz="1200" spc="-1" strike="noStrike">
                <a:solidFill>
                  <a:srgbClr val="ffffff"/>
                </a:solidFill>
                <a:latin typeface="Verdana"/>
              </a:rPr>
              <a:t>07/30/26</a:t>
            </a:fld>
            <a:r>
              <a:rPr b="0" lang="en-US" sz="1200" spc="-1" strike="noStrike">
                <a:solidFill>
                  <a:srgbClr val="ffffff"/>
                </a:solidFill>
                <a:latin typeface="Verdana"/>
              </a:rPr>
              <a:t> </a:t>
            </a:r>
            <a:fld id="{0E1D264E-0E99-4D2B-B2B7-A7A60296E5ED}"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5E88-83FF-45D7-A7B0-B9E5DF97FA2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6BE6-ED43-41FA-934C-30EF6A803873}" type="datetime">
              <a:rPr b="0" lang="en-US" sz="1200" spc="-1" strike="noStrike">
                <a:solidFill>
                  <a:srgbClr val="ffffff"/>
                </a:solidFill>
                <a:latin typeface="Verdana"/>
              </a:rPr>
              <a:t>07/30/26</a:t>
            </a:fld>
            <a:r>
              <a:rPr b="0" lang="en-US" sz="1200" spc="-1" strike="noStrike">
                <a:solidFill>
                  <a:srgbClr val="ffffff"/>
                </a:solidFill>
                <a:latin typeface="Verdana"/>
              </a:rPr>
              <a:t> </a:t>
            </a:r>
            <a:fld id="{65327A20-134C-4FAD-9569-F7C5EB544108}"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9C83-2EBA-44BF-B30F-D84BE5A33B6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6EAD-1D26-470C-8DD8-86289DA5E861}" type="datetime">
              <a:rPr b="0" lang="en-US" sz="1200" spc="-1" strike="noStrike">
                <a:solidFill>
                  <a:srgbClr val="ffffff"/>
                </a:solidFill>
                <a:latin typeface="Verdana"/>
              </a:rPr>
              <a:t>07/30/26</a:t>
            </a:fld>
            <a:r>
              <a:rPr b="0" lang="en-US" sz="1200" spc="-1" strike="noStrike">
                <a:solidFill>
                  <a:srgbClr val="ffffff"/>
                </a:solidFill>
                <a:latin typeface="Verdana"/>
              </a:rPr>
              <a:t> </a:t>
            </a:r>
            <a:fld id="{394FB6CB-838D-49BF-A048-440B07EFEA88}"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021E-200E-4384-976F-ACEE10C73C4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229A-D4E6-41A1-A399-F46C0217A578}" type="datetime">
              <a:rPr b="0" lang="en-US" sz="1200" spc="-1" strike="noStrike">
                <a:solidFill>
                  <a:srgbClr val="ffffff"/>
                </a:solidFill>
                <a:latin typeface="Verdana"/>
              </a:rPr>
              <a:t>07/30/26</a:t>
            </a:fld>
            <a:r>
              <a:rPr b="0" lang="en-US" sz="1200" spc="-1" strike="noStrike">
                <a:solidFill>
                  <a:srgbClr val="ffffff"/>
                </a:solidFill>
                <a:latin typeface="Verdana"/>
              </a:rPr>
              <a:t> </a:t>
            </a:r>
            <a:fld id="{527F3837-BA25-4A0A-ACE1-16853997C89E}"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83A4-B64B-457E-8C09-5067D22CBD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6719-2ACD-46E5-994A-A934295C1FE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395D-8DA3-4394-838A-B50C5427E2E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8BE6-B7E8-42C2-9934-6CCDFE8E6B4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2B0A-0544-40B9-8725-D5B41D7714E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B086-B573-46A7-A1C5-76D010D8F4F5}" type="datetime">
              <a:rPr b="0" lang="en-US" sz="1200" spc="-1" strike="noStrike">
                <a:solidFill>
                  <a:srgbClr val="ffffff"/>
                </a:solidFill>
                <a:latin typeface="Verdana"/>
              </a:rPr>
              <a:t>07/30/26</a:t>
            </a:fld>
            <a:r>
              <a:rPr b="0" lang="en-US" sz="1200" spc="-1" strike="noStrike">
                <a:solidFill>
                  <a:srgbClr val="ffffff"/>
                </a:solidFill>
                <a:latin typeface="Verdana"/>
              </a:rPr>
              <a:t> </a:t>
            </a:r>
            <a:fld id="{1AC068C8-E59A-436F-B86E-BD54BE531BC0}"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0E42-9A39-4E0D-8111-2D2DEB4E12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E845-256C-4692-BF60-9FFB48DA0DB3}" type="datetime">
              <a:rPr b="0" lang="en-US" sz="1200" spc="-1" strike="noStrike">
                <a:solidFill>
                  <a:srgbClr val="ffffff"/>
                </a:solidFill>
                <a:latin typeface="Verdana"/>
              </a:rPr>
              <a:t>07/30/26</a:t>
            </a:fld>
            <a:r>
              <a:rPr b="0" lang="en-US" sz="1200" spc="-1" strike="noStrike">
                <a:solidFill>
                  <a:srgbClr val="ffffff"/>
                </a:solidFill>
                <a:latin typeface="Verdana"/>
              </a:rPr>
              <a:t> </a:t>
            </a:r>
            <a:fld id="{5E8914E1-30A5-4812-A0C5-B785C0C4DF62}"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DD9E-DE40-4E70-ADFB-6561BFF06E3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68BA-0D96-42AC-A2E6-A8CBE85B52E9}" type="datetime">
              <a:rPr b="0" lang="en-US" sz="1200" spc="-1" strike="noStrike">
                <a:solidFill>
                  <a:srgbClr val="ffffff"/>
                </a:solidFill>
                <a:latin typeface="Verdana"/>
              </a:rPr>
              <a:t>07/30/26</a:t>
            </a:fld>
            <a:r>
              <a:rPr b="0" lang="en-US" sz="1200" spc="-1" strike="noStrike">
                <a:solidFill>
                  <a:srgbClr val="ffffff"/>
                </a:solidFill>
                <a:latin typeface="Verdana"/>
              </a:rPr>
              <a:t> </a:t>
            </a:r>
            <a:fld id="{7780AB87-51FA-406F-80F6-44BABC912D0A}" type="datetime10">
              <a:rPr b="0" lang="en-US" sz="1200" spc="-1" strike="noStrike">
                <a:solidFill>
                  <a:srgbClr val="ffffff"/>
                </a:solidFill>
                <a:latin typeface="Verdana"/>
              </a:rPr>
              <a:t>17:50</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645E-FA53-4FAE-BB08-8F3CCA971B0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1B491-8333-480A-8AFD-C817C42D7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4B086-D657-4912-82B2-251B2DCA5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F1F90-9463-43E0-A16E-8FABC60B5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07623-2D0E-4DD2-BDCA-802E3F422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11F2E-15C4-41E2-8025-3909D8E0A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5D51C-D7CD-48D0-A2B3-CC671B221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D9CF7-9914-482D-B206-A6DF5064D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92AA0-871C-45CB-9BC8-37CB7E999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529DB-FEDF-4850-9C68-9EB6D11E7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5DFD6-289D-4723-8DDC-B42AA63A3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B763C-6A1C-4169-BFEC-670AFEE71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8D0BC-A670-43F7-ADCD-AE59764FE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3A0B9-8655-4C67-97C6-C7F8A961D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0CD37-D05F-4F03-AD1D-ACD5D8B8B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94CAF-64A2-43C6-8928-8891962D2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59EE9-366B-440B-8F9E-528EA03A8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BBDE3-E437-4D15-835C-D535C589B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313B0-DFE7-41B8-AC99-2F6EB9A7C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C1A40-52DE-48EF-A73F-FA629F54E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DF7F7-E0F5-41CA-9D84-769EDEF2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EBDF6-994B-42DB-97B6-F78378D3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8C18-779E-4100-900D-A044CD9EE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88B86-7DA0-4F0B-9310-996DFF693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4EAF-CADE-41E5-BFF3-BDA9D6E3C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F445-39F2-4C70-81AC-9EA66E3D4FA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0C70-CE97-4536-BCF1-2EB973F57FC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860B-34C9-4327-B826-CA6D6F6C5152}"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