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FEB4-F079-4312-B7AE-B32918E5C86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BAD29-75C7-44C5-860B-95CEB36BAEA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944A-3FDD-4E20-8AED-789E0829D18C}" type="datetime">
              <a:rPr b="0" lang="en-US" sz="1200" spc="-1" strike="noStrike">
                <a:solidFill>
                  <a:srgbClr val="ffffff"/>
                </a:solidFill>
                <a:latin typeface="Verdana"/>
              </a:rPr>
              <a:t>07/29/26</a:t>
            </a:fld>
            <a:r>
              <a:rPr b="0" lang="en-US" sz="1200" spc="-1" strike="noStrike">
                <a:solidFill>
                  <a:srgbClr val="ffffff"/>
                </a:solidFill>
                <a:latin typeface="Verdana"/>
              </a:rPr>
              <a:t> </a:t>
            </a:r>
            <a:fld id="{93A850E7-E4BA-4735-A6DE-4A0C3A726306}"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070D-5869-440B-835C-3FCCE5BD6AF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1358-E4D7-462B-860E-1258154C5BE0}" type="datetime">
              <a:rPr b="0" lang="en-US" sz="1200" spc="-1" strike="noStrike">
                <a:solidFill>
                  <a:srgbClr val="ffffff"/>
                </a:solidFill>
                <a:latin typeface="Verdana"/>
              </a:rPr>
              <a:t>07/29/26</a:t>
            </a:fld>
            <a:r>
              <a:rPr b="0" lang="en-US" sz="1200" spc="-1" strike="noStrike">
                <a:solidFill>
                  <a:srgbClr val="ffffff"/>
                </a:solidFill>
                <a:latin typeface="Verdana"/>
              </a:rPr>
              <a:t> </a:t>
            </a:r>
            <a:fld id="{700A80D0-C4A8-401F-AA4A-E9D875621FA7}"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90AC-6DCC-4488-8A27-B0BF9012018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D99DD-7939-4D90-A7BB-B17EE1A8FF4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1E17C-E1EC-42F4-BCD3-024E15A0625C}" type="datetime">
              <a:rPr b="0" lang="en-US" sz="1200" spc="-1" strike="noStrike">
                <a:solidFill>
                  <a:srgbClr val="ffffff"/>
                </a:solidFill>
                <a:latin typeface="Verdana"/>
              </a:rPr>
              <a:t>07/29/26</a:t>
            </a:fld>
            <a:r>
              <a:rPr b="0" lang="en-US" sz="1200" spc="-1" strike="noStrike">
                <a:solidFill>
                  <a:srgbClr val="ffffff"/>
                </a:solidFill>
                <a:latin typeface="Verdana"/>
              </a:rPr>
              <a:t> </a:t>
            </a:r>
            <a:fld id="{D82F72A0-8D50-42FE-A3D7-D2610ADFA44F}"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0DCB-3744-474C-9F90-96E18807259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AD188-5595-41FE-95D6-501518B7FE45}" type="datetime">
              <a:rPr b="0" lang="en-US" sz="1200" spc="-1" strike="noStrike">
                <a:solidFill>
                  <a:srgbClr val="ffffff"/>
                </a:solidFill>
                <a:latin typeface="Verdana"/>
              </a:rPr>
              <a:t>07/29/26</a:t>
            </a:fld>
            <a:r>
              <a:rPr b="0" lang="en-US" sz="1200" spc="-1" strike="noStrike">
                <a:solidFill>
                  <a:srgbClr val="ffffff"/>
                </a:solidFill>
                <a:latin typeface="Verdana"/>
              </a:rPr>
              <a:t> </a:t>
            </a:r>
            <a:fld id="{650059C8-5745-40F6-8364-8493F5619B49}"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EE51-D23F-4BA7-B9D0-E55F7605AE6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23BB4-7F44-4E12-B8A5-8BBA39759BEC}" type="datetime">
              <a:rPr b="0" lang="en-US" sz="1200" spc="-1" strike="noStrike">
                <a:solidFill>
                  <a:srgbClr val="ffffff"/>
                </a:solidFill>
                <a:latin typeface="Verdana"/>
              </a:rPr>
              <a:t>07/29/26</a:t>
            </a:fld>
            <a:r>
              <a:rPr b="0" lang="en-US" sz="1200" spc="-1" strike="noStrike">
                <a:solidFill>
                  <a:srgbClr val="ffffff"/>
                </a:solidFill>
                <a:latin typeface="Verdana"/>
              </a:rPr>
              <a:t> </a:t>
            </a:r>
            <a:fld id="{E511F5BA-BE2B-48E5-B42B-D4B53DC1843A}"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F70B-0422-4996-8749-8FC5D4A0538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10145-DBC1-4E0F-9F7A-097B8F15AC83}" type="datetime">
              <a:rPr b="0" lang="en-US" sz="1200" spc="-1" strike="noStrike">
                <a:solidFill>
                  <a:srgbClr val="ffffff"/>
                </a:solidFill>
                <a:latin typeface="Verdana"/>
              </a:rPr>
              <a:t>07/29/26</a:t>
            </a:fld>
            <a:r>
              <a:rPr b="0" lang="en-US" sz="1200" spc="-1" strike="noStrike">
                <a:solidFill>
                  <a:srgbClr val="ffffff"/>
                </a:solidFill>
                <a:latin typeface="Verdana"/>
              </a:rPr>
              <a:t> </a:t>
            </a:r>
            <a:fld id="{3648C2E3-4763-4280-B1E3-FD67CBD55390}"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F4CD1-CFF8-47FE-A5F2-29413D0F81E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F464-63A1-439D-AF5C-02DBCD79FEA3}" type="datetime">
              <a:rPr b="0" lang="en-US" sz="1200" spc="-1" strike="noStrike">
                <a:solidFill>
                  <a:srgbClr val="ffffff"/>
                </a:solidFill>
                <a:latin typeface="Verdana"/>
              </a:rPr>
              <a:t>07/29/26</a:t>
            </a:fld>
            <a:r>
              <a:rPr b="0" lang="en-US" sz="1200" spc="-1" strike="noStrike">
                <a:solidFill>
                  <a:srgbClr val="ffffff"/>
                </a:solidFill>
                <a:latin typeface="Verdana"/>
              </a:rPr>
              <a:t> </a:t>
            </a:r>
            <a:fld id="{CF52E4E3-26EE-4C9A-9254-9C941D3DB9BA}"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92B4A-039D-44A1-BEEC-83245F1B0F0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E37E-7163-4579-8FBB-9D6831F1DB46}" type="datetime">
              <a:rPr b="0" lang="en-US" sz="1200" spc="-1" strike="noStrike">
                <a:solidFill>
                  <a:srgbClr val="ffffff"/>
                </a:solidFill>
                <a:latin typeface="Verdana"/>
              </a:rPr>
              <a:t>07/29/26</a:t>
            </a:fld>
            <a:r>
              <a:rPr b="0" lang="en-US" sz="1200" spc="-1" strike="noStrike">
                <a:solidFill>
                  <a:srgbClr val="ffffff"/>
                </a:solidFill>
                <a:latin typeface="Verdana"/>
              </a:rPr>
              <a:t> </a:t>
            </a:r>
            <a:fld id="{EC02E84D-0783-445E-9E1C-A323CFE60CE2}"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99E0-1C3F-436C-969C-A861F70DE6F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5AB8-6321-47B7-A923-79FF4DD272A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0A7AA-DA63-4D3E-AE35-6D4F75BE1FD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EE8C1-4DD7-4376-8A32-5062F610C94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C845-8D10-4888-9DB5-70E9A16D3FD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07A5-6715-40D7-8D9C-8EE0DDB52B5D}" type="datetime">
              <a:rPr b="0" lang="en-US" sz="1200" spc="-1" strike="noStrike">
                <a:solidFill>
                  <a:srgbClr val="ffffff"/>
                </a:solidFill>
                <a:latin typeface="Verdana"/>
              </a:rPr>
              <a:t>07/29/26</a:t>
            </a:fld>
            <a:r>
              <a:rPr b="0" lang="en-US" sz="1200" spc="-1" strike="noStrike">
                <a:solidFill>
                  <a:srgbClr val="ffffff"/>
                </a:solidFill>
                <a:latin typeface="Verdana"/>
              </a:rPr>
              <a:t> </a:t>
            </a:r>
            <a:fld id="{887242DD-86D0-4867-A21D-14D74972703A}"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B20A-A0A3-4ADD-B119-9532E3A8086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32C5E-25E6-4704-93C8-37700790361E}" type="datetime">
              <a:rPr b="0" lang="en-US" sz="1200" spc="-1" strike="noStrike">
                <a:solidFill>
                  <a:srgbClr val="ffffff"/>
                </a:solidFill>
                <a:latin typeface="Verdana"/>
              </a:rPr>
              <a:t>07/29/26</a:t>
            </a:fld>
            <a:r>
              <a:rPr b="0" lang="en-US" sz="1200" spc="-1" strike="noStrike">
                <a:solidFill>
                  <a:srgbClr val="ffffff"/>
                </a:solidFill>
                <a:latin typeface="Verdana"/>
              </a:rPr>
              <a:t> </a:t>
            </a:r>
            <a:fld id="{DCB84E1B-FC49-4EC5-8048-7A1E30DCC311}"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3D05-1345-4B33-81F6-30F9451E012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E83A7-66B4-41A7-954F-C033528AC65F}" type="datetime">
              <a:rPr b="0" lang="en-US" sz="1200" spc="-1" strike="noStrike">
                <a:solidFill>
                  <a:srgbClr val="ffffff"/>
                </a:solidFill>
                <a:latin typeface="Verdana"/>
              </a:rPr>
              <a:t>07/29/26</a:t>
            </a:fld>
            <a:r>
              <a:rPr b="0" lang="en-US" sz="1200" spc="-1" strike="noStrike">
                <a:solidFill>
                  <a:srgbClr val="ffffff"/>
                </a:solidFill>
                <a:latin typeface="Verdana"/>
              </a:rPr>
              <a:t> </a:t>
            </a:r>
            <a:fld id="{EEB75FF6-8945-403F-9EE7-1D3EAC3D923B}" type="datetime10">
              <a:rPr b="0" lang="en-US" sz="1200" spc="-1" strike="noStrike">
                <a:solidFill>
                  <a:srgbClr val="ffffff"/>
                </a:solidFill>
                <a:latin typeface="Verdana"/>
              </a:rPr>
              <a:t>17:53</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830E-BA3A-41B7-B6FE-B1EBEF5E410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C036D-1888-4F11-B2F1-704D36E99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014E5-CB3A-4C3E-A11E-513250548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7B869-2613-486F-ADB9-A2459551F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56F95-55F5-4A16-9DAC-89C6B73C5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4CD0B-D454-4C93-A492-0AC01B979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50CCF-442A-4BE0-B3D5-387DC4DAF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BFA6E-7670-449C-B9BE-73FA6ED47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78DF2-1D8D-40B3-B19E-C7CA4FCA3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3DB15-B7DB-462B-9A0B-D1D949FBD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16987-D61E-4390-A4C6-760480363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10840-C4B3-470E-8D3C-3407F34D3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89DD0-C70C-4653-ACE5-2F82DA3D7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29386-D82F-4F9D-A948-4532B78E1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C0011-615E-47D8-B4C2-B9A339992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D29FC-01F1-474F-A967-672468AFF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8326C0-5A98-44EA-9CFF-BD6E98E20A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D7B59-27A5-4C45-B8D1-43DBB8FE27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36E1B-E12B-4475-B5CF-9A4F9BC8F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134D3-317F-4012-AD5C-97EF51549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4A4ED-DEE0-4CCE-9E78-BD9E39887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2E02C-61CF-4620-B4A4-E4368751B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F359D-B605-4F37-96CC-74DE6F21B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A5D60-482E-4080-835E-A0E15258D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B4079-241B-4F84-9191-077582365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DE16-4F43-4A8A-BED7-AAC823C4995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93D99-5A82-4C75-88E3-1675444C4B5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EFC2-3484-4767-B7BB-C08211F394D4}"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