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6B8B-5528-4DCD-A552-5ECABBF2A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A075-F518-4B2D-A132-A1CB6BF42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2F03-880E-4CEE-BE5C-1BAB442DB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27B1-7B2A-40DA-A3C8-B37E1F62A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A95D2-8322-42B2-BA3E-18C953273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033BC-50AD-4851-902C-B25539BC3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8EDCC-FE62-496D-9AB0-CC5765837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DBFA1-A271-4A90-8FDA-CD16754C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AA49C-8D2D-4744-AB06-024EC74F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C33F9-193E-4DE7-86F8-21DD67A5F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F50A7-F899-4068-B60E-72C484F2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C344-3B45-4908-9E57-79BE15B73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374F6-9CE2-44CD-9E39-0E0B3169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3198E-4B39-4153-BFA3-4A12F958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BC3FA-43A2-4E2A-B249-27F776619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5CB97-F49A-4794-8F06-9036DE062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FD4CD-D6D4-4173-A4C6-C86792C26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807A-86B2-423F-8C85-22F4C4A05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B064-971B-42DA-BB6C-5BAB3BAF1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CFF8-C1BD-4E60-ABB0-7547A903A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0116-8BA6-42CB-BA0B-A057FBC20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0F94-BC06-46EA-B0A5-C29E53F0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0976-1952-4DAE-B893-87EA82C2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84F2-0BF0-42DB-BFD9-99787A23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36C9A-3380-47DA-9825-05D1FA3567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B433B-3970-4438-B165-3BBF2461D2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Nairobi Water and Sanitation, Workshop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280" y="228564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Sector Budget Support: Lesotho Experie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Fairview Hotel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Nairobi, 18 - 21 October, 20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by: E. M. Leso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ERVENTION BY SBS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pected results and activiti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2255400"/>
            <a:ext cx="822960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rdination capacity addressing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nitoring fun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rification of institutional responsibil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pacit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livery of water supply and sanitation services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urban and rural areas improv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or dialogue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hanc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ector Communicatio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or  improved services delive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2666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serve among others importanc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or Coordination Meeting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otho Youth Water and Action Tea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otho Water Partnershi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s le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bsi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876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INFORMATION FLOW CHA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Content Placeholder 3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86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s learned when introducing change and implementing refo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2280" y="1752120"/>
            <a:ext cx="87631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refully map-up direction you want to tak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all stakeholders involved in influencing decisions support reform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inful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ce started reforms for good course go straigh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lly everybody around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unicate effectively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agement the chang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open-up good opportunities for all stakeholder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 Black"/>
              </a:rPr>
              <a:t>Thank</a:t>
            </a: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 You: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Question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tor background until 19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52280" y="99036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During 1986-1995 the followings were don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Department of Water Affairs was established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ompleted Lesotho Highlands Water Project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Established DRWS and SWAP for rural setting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ombined Ministry of Lesotho Water Project with Ministry of Water, Energy, and Mining and formed Ministry of Natural Resource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ector situation analysis for 1996-1998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ter sector fragmentation became obstacle for project appraisa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enced Lesotho Highlands Water Phase-I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ed After-Care-Strateg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road for water sector improv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28600" y="16002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ter Resources Management Policy – 1999 was endorsed by Cabin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ustry Wastewater Management Policy endor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ter Sector Improvement Program develop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wlands Water Supply Unit was established in 200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licy, Planning, and Strategy Unit was established to advise formulation and developm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2003 Commissioner of Water recruited and tasked to driver the reform proce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binet endorsed Water and  Sanitation Polic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or coordination, various missions were receiv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gressively develope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ater sector program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t was based 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or Policy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or strategy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or budget and medium-term expendi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der balanced Steering Committee (SC) establish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ater and Sanitation Policy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28600" y="198108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ater Sector endorsed feedback from stakeholder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C developed IWSS aiming a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lementing Water and Sanitation Policy (WSP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uring funding for Water Sector development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tor also developing Financing Strategy for further implementation of IWS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mplete IWSS by end of March 2010, and Cabinet endors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mplement IWSS for financial years: 2010 to 2012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velop, complete, and endorse a Five year sector strategy by end of 2011 for period: 2012 to 2017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rocess (roadmap) for development of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Interim Water and Sanitation Sector Strategy (IWSS)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BASELINE AND TARGETS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SSUES OF WATER SERVICE DELIVERY TO MEET MDGs</a:t>
            </a:r>
            <a:br>
              <a:rPr sz="32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bjective of SBS is to address Policy statements: 2 and 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52280" y="2995560"/>
            <a:ext cx="8763120" cy="3786120"/>
          </a:xfrm>
          <a:prstGeom prst="rect">
            <a:avLst/>
          </a:prstGeom>
          <a:ln w="0">
            <a:noFill/>
          </a:ln>
        </p:spPr>
      </p:pic>
      <p:sp>
        <p:nvSpPr>
          <p:cNvPr id="9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66986-46FD-443D-8E22-88C52809E1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nancing Agreement 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21644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tor Policy Support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52280" y="16002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or Budget Support and Technical Assistance – centralized manage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bursement (in Fixed tranche and Variable tranche) is foreseen for first quarter of Financial Year following joint revie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al Conditions for disbursement of each tranch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cific Conditions for tranche release of variable tranch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evaluation arrangements for variable tranches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≥100%, ≥50%, &lt;50%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erformance Indica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04920" y="685800"/>
            <a:ext cx="86104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llowing indicators will be used to measure urban performa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2d700"/>
                </a:solidFill>
                <a:latin typeface="Arial"/>
              </a:rPr>
              <a:t>Improving access to water supp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ear rules for tariffs and connection fees allowing for free basic water to vulnerable households developed, tested and approved by the Regulat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50 new public standpipes serving about 15,000 persons established for providing access to water in areas with low connection rates;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,000 new domestic connections installed serving about 30,000 pers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2d700"/>
                </a:solidFill>
                <a:latin typeface="Arial"/>
              </a:rPr>
              <a:t>Improving operating efficienc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ear policy and strategy for meter calibration and replacement developed and being implemente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fW reduced to an average of 27% overall by March 2012;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ergy consumption reduced by 20% from M9.3m/annum in 2008/09 to M7.44m/annum in the 2011/12 financial y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2d700"/>
                </a:solidFill>
                <a:latin typeface="Arial"/>
              </a:rPr>
              <a:t>Improving production capac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ASA’s production capacity increased by 29.52ML/day by March 20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nalization of Institutional Arrangem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28600" y="190476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SA is now a registered Water and Sewage Company (WASC) and shall be regulated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 has become multi-sector regulator.  Lesotho Electricity and Water  Authority (LEWA)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sset management agency will be created during 2010/11 Financial Year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Bulk Water Authority will also be created during this Financial Year 2010/1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7:37:15Z</dcterms:created>
  <dc:creator>Windows User</dc:creator>
  <dc:description/>
  <dc:language>en-US</dc:language>
  <cp:lastModifiedBy>Windows User</cp:lastModifiedBy>
  <dcterms:modified xsi:type="dcterms:W3CDTF">2010-10-20T05:52:49Z</dcterms:modified>
  <cp:revision>378</cp:revision>
  <dc:subject/>
  <dc:title>Slide 1</dc:title>
</cp:coreProperties>
</file>