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7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13.jpeg" ContentType="image/jpeg"/>
  <Override PartName="/ppt/media/image12.wmf" ContentType="image/x-wmf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41E5C-D893-414C-A276-405A88FDCF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78F2A-5A43-4758-91AD-85F358C111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AC740-961F-4CF1-8F8C-E68705FC4F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8628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7640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652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8628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7640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98E0C-9F07-42DD-BEC2-6F9AE41EAA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96520" y="736200"/>
            <a:ext cx="73645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D6BC3-5132-4A0E-88DA-FA3E77FB06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8628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57640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652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8628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57640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20FDF-4A86-429E-B1D6-6524EFE8B1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4261C-9148-4A5D-9CD4-0AC419549C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56B03-1318-4D16-856F-B44D747657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96520" y="736200"/>
            <a:ext cx="73645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3733F-7FDB-427F-A277-F06D4025AC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506C1-BD21-484A-97A2-3FCADC16C4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AEE17-ACE0-40CF-87F3-92AD0EC5C4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AEA58-34F8-4970-8995-B43B23661A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888320" y="5478480"/>
            <a:ext cx="698400" cy="954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876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Click to edit the title text format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3" marL="160668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4" marL="205740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5" marL="205740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6" marL="205740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Pl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Pl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Pl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F0BCE-49FD-455B-8CB8-C93CB12A94DB}" type="slidenum">
              <a:rPr b="0" lang="en-GB" sz="1400" spc="-1" strike="noStrike">
                <a:solidFill>
                  <a:srgbClr val="000000"/>
                </a:solidFill>
                <a:latin typeface="Pl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297480"/>
            <a:ext cx="101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3366cc"/>
                </a:solidFill>
                <a:latin typeface="Plan"/>
              </a:rPr>
              <a:t>©</a:t>
            </a:r>
            <a:r>
              <a:rPr b="0" lang="en-GB" sz="800" spc="-1" strike="noStrike">
                <a:solidFill>
                  <a:srgbClr val="3366cc"/>
                </a:solidFill>
                <a:latin typeface="AdobeSanMM"/>
              </a:rPr>
              <a:t> </a:t>
            </a:r>
            <a:r>
              <a:rPr b="0" lang="en-GB" sz="1000" spc="-1" strike="noStrike">
                <a:solidFill>
                  <a:srgbClr val="3366cc"/>
                </a:solidFill>
                <a:latin typeface="Plan"/>
              </a:rPr>
              <a:t>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47480"/>
            <a:ext cx="77724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Plan"/>
              </a:rPr>
              <a:t>Click to edit the title text format</a:t>
            </a:r>
            <a:endParaRPr b="1" lang="en-US" sz="56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600200"/>
            <a:ext cx="901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Plan"/>
              </a:rPr>
              <a:t>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6297480"/>
            <a:ext cx="101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Plan"/>
              </a:rPr>
              <a:t>©</a:t>
            </a:r>
            <a:r>
              <a:rPr b="0" lang="en-GB" sz="800" spc="-1" strike="noStrike">
                <a:solidFill>
                  <a:srgbClr val="ffffff"/>
                </a:solidFill>
                <a:latin typeface="AdobeSanMM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Plan"/>
              </a:rPr>
              <a:t>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Plan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Plan"/>
            </a:endParaRPr>
          </a:p>
          <a:p>
            <a:pPr lvl="1" marL="192240" indent="0"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2" marL="914400" indent="44280" algn="ctr">
              <a:spcBef>
                <a:spcPts val="601"/>
              </a:spcBef>
              <a:buClr>
                <a:srgbClr val="000000"/>
              </a:buClr>
              <a:buFont typeface="Pl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lvl="3" marL="1371600" indent="6480" algn="ctr">
              <a:spcBef>
                <a:spcPts val="499"/>
              </a:spcBef>
              <a:buClr>
                <a:srgbClr val="000000"/>
              </a:buClr>
              <a:buFont typeface="Pl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l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mailto:Samuel.Musyoki@Plan-International.org" TargetMode="External"/><Relationship Id="rId3" Type="http://schemas.openxmlformats.org/officeDocument/2006/relationships/hyperlink" Target="http://www.communityledtotalsanitation.org/" TargetMode="External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81000"/>
            <a:ext cx="8686800" cy="21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Plan"/>
              </a:rPr>
              <a:t>Community-Led Total Sanitation (CLTS)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Plan"/>
              </a:rPr>
              <a:t>&amp; Challenges</a:t>
            </a:r>
            <a:endParaRPr b="1" lang="en-US" sz="40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04920" y="2362320"/>
            <a:ext cx="8686800" cy="30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n Kenya Experiences, Achievements, Challenges </a:t>
            </a:r>
            <a:endParaRPr b="0" lang="en-US" sz="28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gional Water &amp; Sanitation Workshop</a:t>
            </a:r>
            <a:endParaRPr b="0" lang="en-US" sz="32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airview Hotel – Nairobi</a:t>
            </a:r>
            <a:endParaRPr b="0" lang="en-US" sz="3200" spc="-1" strike="noStrike">
              <a:solidFill>
                <a:srgbClr val="ffffff"/>
              </a:solidFill>
              <a:latin typeface="Pl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lan"/>
              </a:rPr>
              <a:t>(18</a:t>
            </a:r>
            <a:r>
              <a:rPr b="0" lang="en-US" sz="2000" spc="-1" strike="noStrike" baseline="30000">
                <a:solidFill>
                  <a:srgbClr val="ffffff"/>
                </a:solidFill>
                <a:latin typeface="Plan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Plan"/>
              </a:rPr>
              <a:t> – 21st Oct. 2010)</a:t>
            </a: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9966"/>
                </a:solidFill>
                <a:uFillTx/>
                <a:latin typeface="Plan"/>
                <a:hlinkClick r:id="rId2"/>
              </a:rPr>
              <a:t>Samuel.Musyoki@Plan-International.org</a:t>
            </a: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9966"/>
                </a:solidFill>
                <a:uFillTx/>
                <a:latin typeface="Plan"/>
                <a:hlinkClick r:id="rId3"/>
              </a:rPr>
              <a:t>www.communityledtotalsanitation.org</a:t>
            </a: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96520" y="304560"/>
            <a:ext cx="73645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CLTS: Sequence of Key Step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Pre-triggering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buy-in, selection of sites, training, introduction and building rapport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Triggering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Sanitation profile –mapping-calculation of quantities-transect walk- flow-channels-effects-costs-ignition moment-action planning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Post-triggering: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implementation of Action plans, follow-up, monitoring and documentation.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Scaling up:</a:t>
            </a:r>
            <a:r>
              <a:rPr b="1" lang="en-US" sz="3200" spc="-1" strike="noStrike">
                <a:solidFill>
                  <a:srgbClr val="ff33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Going beyond CLTS…what next?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Some Photos 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96880" y="2244600"/>
            <a:ext cx="3605400" cy="2703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836960" y="1539720"/>
            <a:ext cx="2935440" cy="2194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191120" y="3962520"/>
            <a:ext cx="3809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Triggering Response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3886200"/>
            <a:ext cx="2438280" cy="1600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tchbox in a 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4952880"/>
            <a:ext cx="1752480" cy="1371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omi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l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81480" y="4572000"/>
            <a:ext cx="22860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Scattered spa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2666880"/>
            <a:ext cx="198108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amp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14600" y="1676520"/>
            <a:ext cx="3200400" cy="20574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676520"/>
            <a:ext cx="1904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iggering produces different respo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286000" y="3124080"/>
            <a:ext cx="8380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962160" y="3276720"/>
            <a:ext cx="15228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00600" y="3200400"/>
            <a:ext cx="121932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8195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151920"/>
            <a:ext cx="7313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Background to CLTS in Kenya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With previous pace and approaches, it would take &gt;100 years and &gt;$30 billion (@$100/HH) to achieve total sanitation in RESA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Plan RESA ins searched of  cost effective,  fast  and sustainable approaches for accelerating sanitation work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Came across CLTS-Origins in Bangladesh  and tried with documented positive  results in South East Asia seemed promising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Plan decided to adopt CLTS as the major approach for sanitation promotion.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96520" y="228240"/>
            <a:ext cx="73645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Plan"/>
              </a:rPr>
              <a:t>CLTS Timeline in Kenya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Feb 2007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RESA training for 38 participants in Tz-3 participants from Kenya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y 2007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Plan Kenya Management decides to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pilot CLTS in Nyanza, Coast and Eastern region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July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CLTS training and triggering in (Arujo village Homa Bay and Jaribuni village Kilifi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Sept/Oct.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Training and triggering Tharaka Machakos and Kisumu PU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Oct.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First village (Jaribuni) attains ODF statu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Dec.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Training and triggering of CLTS in Bondo and Siaya PU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Plan"/>
              </a:rPr>
              <a:t>CLTS Timeline cont’d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Feb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UKNO/DFID CLTS grant (50,000US$ for Kenya)start-up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r.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Plan/IDS AfricaSan CLTS pre-conference workshop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Apr.08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Sharing UNICEF regional workshop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y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MOH/PH CLTS training and triggering in Kilifi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June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Program conference parallel start-up workshop and the plenary session with Robert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July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RESA CLTS training in Kilifi; 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96520" y="304920"/>
            <a:ext cx="7364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66cc"/>
                </a:solidFill>
                <a:latin typeface="Plan"/>
              </a:rPr>
              <a:t>CLTS Timeline continued</a:t>
            </a:r>
            <a:endParaRPr b="1" lang="en-US" sz="40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1539360"/>
            <a:ext cx="84582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Aug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ODF verification exercise of 20 villages of  Siaya district (near Kogelo);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Oct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UNICEF/MoPH&amp;S Training in Kisumu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Nov. 08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World Toilet Week events including the training in Kwale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Dec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AfricaSan Durban IDS/Plan pre- conference CLTS session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r. 09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CLTS Africa sharing event in Kilifi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7364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Achievement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1536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Trained over 600 practitioners (MoPH&amp;S, UNICEF, NGOs, CBOs, local leaders and youth)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Kilifi became the  learning centre early ODF statu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Over 860 villages in various parts of the country have been triggered &amp; are at different stages towards ODF 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To date 146 villages have been declared ODF, in Coast (Kilifi) and Nyanza (Homabay)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Adoption of CLTS for Rural sanitation by MoPHS- annual targets/CLTS coordination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Increased Interest and demand for CLTS-training and support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2819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Achievement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Change in mindsets &amp; leading to collective action =Increased coverage &amp; use: Kilifi from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30% to 48%</a:t>
            </a: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 between May 2008-June 2010, Homa Bay-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66 triggered 29</a:t>
            </a: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 ODF and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Busia- 380</a:t>
            </a: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triggered 56 ODF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World Toilet Day celebrated to mark ODF for the past 3 years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Media buy-in and coverage e.g. partnership with KBC series of “Vitimbi”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Networks and partnerships on CLTS have emerged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Children and youth participation in CLTS-School-Led Total Sanitation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Funding for CLTS, scaling-up, capacity building, advocacy  research &amp; documentation (e.g. DGIS/Plan Netherlands 8.5 million Euro in 8 African Countries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CLTS moving from Rural to Urban  and to Schools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Establishment of a CLTS unit within Plan Kenya- responding demands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Systematic documentation of CLTS experiences – PLA CLTS Issue,  “Tales of Shit in Africa”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17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80880" y="914400"/>
          <a:ext cx="8229600" cy="5405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14400"/>
                    <a:ext cx="8229600" cy="54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943600" y="3429000"/>
            <a:ext cx="2610000" cy="27432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629400" y="3048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Plan  International: Who we are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86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Plan is an international humanitarian, child centered, development organization, without religious, political or governmental affiliation;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Plan’s vision is of a world in which all children realize their full potential in societies that respect people’s rights and dignity;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75 Years of Existence; 48 Program Countries (13 in ESA Region) 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In since Kenya 1982 (28yrs)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Plan"/>
                <a:ea typeface="Times New Roman"/>
              </a:rPr>
              <a:t>Challenge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  <a:ea typeface="Times New Roman"/>
              </a:rPr>
              <a:t>Uptake slow/not the same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in the different regions Plan Kenya works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Plan"/>
                <a:ea typeface="Times New Roman"/>
              </a:rPr>
              <a:t>Conflicting approaches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by different agencies  in the sanitation sector.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Plan"/>
                <a:ea typeface="Times New Roman"/>
              </a:rPr>
              <a:t>The allowance culture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Some are in it for the out of pocket-not passionate or committed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  <a:ea typeface="Times New Roman"/>
              </a:rPr>
              <a:t>Doubt and scepticism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among sanitation professional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Plan"/>
                <a:ea typeface="Times New Roman"/>
              </a:rPr>
              <a:t>Lack of willingness to let go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our professionalism-wanting the communities to start at the top of the ladder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Plan"/>
                <a:ea typeface="Times New Roman"/>
              </a:rPr>
              <a:t>Weak M&amp;E and reporting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 within the mandated institutions;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Challenges – cont’d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Dependency syndrome 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in some areas emanating from previous approache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Finding good facilitators: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Not all trained find it easy and/or develop the passion to take up the CLTS challenge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Triggering without adequate mechanisms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for follow-up and support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Inadequate support and mentoring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of natural leader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Private sector inability to come-up with affordable technological </a:t>
            </a: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innovations-dependency!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CLTS health outcomes/Impact research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of CLTS intervention on diarrhea control and reduction in child mortality? 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Future 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Citizen Led Total Sanitation –Urban CLTS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Politics and governance of urban sanitation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Land tenure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City planning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Tenancy standards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Harnessing ICT4D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l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n"/>
              </a:rPr>
              <a:t>Mobile/GIS mapping</a:t>
            </a:r>
            <a:endParaRPr b="0" lang="en-US" sz="14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l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n"/>
              </a:rPr>
              <a:t>Partnership with Map Kibera</a:t>
            </a:r>
            <a:endParaRPr b="0" lang="en-US" sz="14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l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n"/>
              </a:rPr>
              <a:t>Next Map Mathare</a:t>
            </a:r>
            <a:endParaRPr b="0" lang="en-US" sz="1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anitation Marketing/Sanitation Financing-what options for urban informal settlements and small towns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Many Design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3646440" cy="24447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 rot="21246600">
            <a:off x="4749480" y="987120"/>
            <a:ext cx="3809880" cy="25160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 rot="959400">
            <a:off x="298440" y="339552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4572000" y="3429000"/>
            <a:ext cx="4038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cc"/>
                </a:solidFill>
                <a:latin typeface="Plan"/>
              </a:rPr>
              <a:t>Achievements-Triggered plus spill over in Kilifi District (May -2008-June 2010</a:t>
            </a:r>
            <a:endParaRPr b="1" lang="en-US" sz="1700" spc="-1" strike="noStrike">
              <a:solidFill>
                <a:srgbClr val="3366cc"/>
              </a:solidFill>
              <a:latin typeface="Pl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04920" y="1371600"/>
          <a:ext cx="8686800" cy="5405400"/>
        </p:xfrm>
        <a:graphic>
          <a:graphicData uri="http://schemas.openxmlformats.org/drawingml/2006/table">
            <a:tbl>
              <a:tblPr/>
              <a:tblGrid>
                <a:gridCol w="1981080"/>
                <a:gridCol w="1066680"/>
                <a:gridCol w="1219320"/>
                <a:gridCol w="1066680"/>
                <a:gridCol w="1067040"/>
                <a:gridCol w="1066680"/>
                <a:gridCol w="1219320"/>
              </a:tblGrid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vis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Villag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ges triggere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DF villag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ges below 5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ges above 5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trine coverag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ikambal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ony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.9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har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.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ribun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.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nz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.7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tengen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mb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tric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.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685800" y="1219320"/>
          <a:ext cx="7966080" cy="4860720"/>
        </p:xfrm>
        <a:graphic>
          <a:graphicData uri="http://schemas.openxmlformats.org/drawingml/2006/table">
            <a:tbl>
              <a:tblPr/>
              <a:tblGrid>
                <a:gridCol w="1036800"/>
                <a:gridCol w="941400"/>
                <a:gridCol w="753840"/>
                <a:gridCol w="1319400"/>
                <a:gridCol w="1137960"/>
                <a:gridCol w="927360"/>
                <a:gridCol w="925560"/>
                <a:gridCol w="923760"/>
              </a:tblGrid>
              <a:tr h="222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vis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p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 with latrines as at 1</a:t>
                      </a:r>
                      <a:r>
                        <a:rPr b="1" lang="en-US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July 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trine coverage (1 st July 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 with new latri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 with  latrines at 31</a:t>
                      </a:r>
                      <a:r>
                        <a:rPr b="1" lang="en-US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…20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Cov. ForAug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ony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2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87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2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ha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74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6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61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63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ikambal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73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207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3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3.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nz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3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8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60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mb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7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37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3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tenge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9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3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0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7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ribu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1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24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0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1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tri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16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36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7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8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cc"/>
                </a:solidFill>
                <a:latin typeface="Plan"/>
              </a:rPr>
              <a:t>Kilifi District Latrine Coverage By Division</a:t>
            </a:r>
            <a:endParaRPr b="1" lang="en-US" sz="1700" spc="-1" strike="noStrike">
              <a:solidFill>
                <a:srgbClr val="3366cc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364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Plan Kenya: Where we Work 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88" name="Kenya_400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68580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263160"/>
            <a:ext cx="7364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Country Goal &amp; Programs</a:t>
            </a:r>
            <a:endParaRPr b="1" lang="en-US" sz="32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3055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lvl="1" marL="319680" indent="0" algn="ctr">
              <a:lnSpc>
                <a:spcPts val="2398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Plan"/>
              </a:rPr>
              <a:t>Country Goal:</a:t>
            </a:r>
            <a:r>
              <a:rPr b="1" lang="en-GB" sz="2400" spc="-1" strike="noStrike">
                <a:solidFill>
                  <a:srgbClr val="000000"/>
                </a:solidFill>
                <a:latin typeface="Plan"/>
              </a:rPr>
              <a:t> Transformed Institutions &amp; Societies That Respect and Fulfil Rights of All Children in Kenya.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Plan"/>
              </a:rPr>
              <a:t>Country Programs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: Right to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99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Plan"/>
              </a:rPr>
              <a:t>Health [includes Water &amp; Sanitation]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Quality Basic Education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Inclusion &amp; Protection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Sustainable and Dignified Livelihood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Just and Democratic Governance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3620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Plan Kenya &amp; Others: Long History of Latrine Subsidie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4371840" cy="4114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43280" y="2133720"/>
            <a:ext cx="4156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Let’s Talk About?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69339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What is CLTS? Community-Led Total Sanitation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A </a:t>
            </a: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“Participatory and Learning Action”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approach based on stimulating a collective sense of </a:t>
            </a: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disgust, shame and fear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among community members as they confront the crude reality about mass open defecation </a:t>
            </a:r>
            <a:r>
              <a:rPr b="0" i="1" lang="en-US" sz="3200" spc="-1" strike="noStrike">
                <a:solidFill>
                  <a:srgbClr val="000000"/>
                </a:solidFill>
                <a:latin typeface="Plan"/>
              </a:rPr>
              <a:t>[environmental contamination] and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its negative effects on the entire community.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Plan"/>
              </a:rPr>
              <a:t>Underlying Assumptions of CLT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605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171360" indent="-17136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lan"/>
              </a:rPr>
              <a:t>No one  can stay unmoved once they discover they are ingesting other people’s or their own faeces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71360" indent="-17136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lan"/>
              </a:rPr>
              <a:t>High sense of shame and disgust hold the power to ignite people to take action and use their resources (not subsidy) to stop open defecation and be totally sanitised; 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713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l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191120" y="1295280"/>
            <a:ext cx="47242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CLTS i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Community-led: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They lead and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everyone in the community is involved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Total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Plan"/>
              </a:rPr>
              <a:t>100%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 elimination of open defecation &amp; practice of good hygiene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Sanitation: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Beyond construction of toilet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Collective action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Often locally decided and not dependent on external subsidies and prescriptions of solutions.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2T05:02:51Z</dcterms:created>
  <dc:creator>cmcc</dc:creator>
  <dc:description/>
  <dc:language>en-US</dc:language>
  <cp:lastModifiedBy>smusyoki</cp:lastModifiedBy>
  <dcterms:modified xsi:type="dcterms:W3CDTF">2010-10-19T07:31:49Z</dcterms:modified>
  <cp:revision>151</cp:revision>
  <dc:subject/>
  <dc:title>Ethics in Human Development; Do the poor really Matter?</dc:title>
</cp:coreProperties>
</file>