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1A55-8AEC-4C98-92F9-F10410238B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9FBC-828D-4A40-9AEB-7EE9980A4B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15A5-7227-4D46-A7C4-D8C396A2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8DBE-FAA1-452D-84BB-8E78E9F8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88BB-1B18-4D8A-8227-BC27687B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EA18-124B-42D2-9346-DF6EDAE8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14FF-5583-4A63-A43D-7E4AC7DA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F08E-A1BB-4A35-826A-25DAD662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335B-7D15-48BB-846B-D7F736CC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B1CC-2304-4B60-B851-A46D9423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8EF8-5F98-41E3-830F-3C0132EE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CDD4-0A6C-4840-971C-DE7438A2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339F-B250-4B27-9BFC-202695AF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1B06-60E2-47CC-8ACD-54B9D006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01CD-403C-4BB1-B939-5015024E8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Regional Water and sanitation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68360" y="1503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xchange of experience between colleagues dealing with water and sanitation programmes / projects on how to face the challenges of the s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1 - Sector dialogue  + field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2 –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3 – Institutional context and Sector budge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4 – Finance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 cutting topics will also be dealt with in group work and 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o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re they working? How can this instrument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pacity building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- Keeping small systems simple for affordable O&amp;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insufficient resources on capacity building- roles changing – under staffing – contract managment &amp; regulation skills mi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numbers &amp; skills insufficient – governance challenges affec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O&amp;M skills with tools – limited resources for high tech back up – community empowerment is key to capacity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training in O&amp;M – how to support when not a focal 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ordination affects capacity, water good, sanitation not – poor pay, poor staff – information management import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-  capacity plan completed – loss of skills to nearby countries – project managemen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rivatisation (PPP) and decentralisation – water resources is diffic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Strong leadership – participation of other ministries weak – tertiary education in water sector is weak –  insufficient numbers – cost recovery enhances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centralisation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he focus is on the towns – how to sustain the sector in low income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regional offices are not involved in planning and budgetting – lack of staff loc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ransition to new structures takes a long time – changes in the overall decentralisation landsca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significant increases of capacity at local level due to decentralisation – turn over is high – link between water and health needs strengthe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artial deconcentration through regional water boards – rural water supply handled centrally – political inter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ecentralisation well supported and popular – budget problems forese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handover to community councils underway – empowering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istricts are clearly seen as the main actors – management capacity is a challenge – will PPP wor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mmunity based management – 13 regional offices to coordinate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ndicators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052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o n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ational system started but no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system in place but baseline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MDGs ar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ational system under development – meantime using Malawi growth and development strateg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o national system – only project defined indicators – health sector has well defined indicators, we could 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Continous multi purpose survery – harmonised with MTEF – cost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vision 20/20 has sector indicators – but infrastructure and resource concepts are not fu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 two systems (financial and planning) – national system of 28 indicators for rural water supply – uniform system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1 Sector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9640" y="1916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reforms have been take in the sector in Kenya and how did sector dialogue con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is experience of and lessons learnt from sector dialogue and coordination in Gh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How can the EU delegations contribute when water is not a focal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2 San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1700280"/>
            <a:ext cx="8207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Demand – lessons at scale from the CLTS experience – Pl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upply – harnessing market forces - Eco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nabling environment – the role of the public sector, examples from Namibia and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ccess to services for informal settlements -  the water services trust fund -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y 3 Institutional context and Sector budget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2413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Governance and decentralisation – case study from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Challenges of introducing sector budget support – Namibia and Lesot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Use of indicators -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ay 4 Finance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2413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xperience of the EIB in financing water and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U procedures – how to apply innovativ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nternal support session  on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95280" y="1197000"/>
            <a:ext cx="8209080" cy="540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3321000" y="3528720"/>
            <a:ext cx="2405160" cy="32144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14440"/>
              <a:gd name="textAreaBottom" fmla="*/ 321480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NABL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licies,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gulation,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centiv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60480" y="2097000"/>
            <a:ext cx="2752560" cy="23497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1" y="0"/>
                </a:lnTo>
                <a:lnTo>
                  <a:pt x="21600" y="10800"/>
                </a:lnTo>
                <a:lnTo>
                  <a:pt x="169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UPPLY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echnology &amp;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ss to sanitat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anitation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10800000">
            <a:off x="5466960" y="2008080"/>
            <a:ext cx="2871720" cy="2478240"/>
          </a:xfrm>
          <a:custGeom>
            <a:avLst/>
            <a:gdLst>
              <a:gd name="textAreaLeft" fmla="*/ 0 w 2871720"/>
              <a:gd name="textAreaRight" fmla="*/ 2872080 w 287172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176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Generation of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ygiene &amp; sanitation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ehavior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132000" y="1312920"/>
            <a:ext cx="2810160" cy="3263760"/>
          </a:xfrm>
          <a:custGeom>
            <a:avLst/>
            <a:gdLst>
              <a:gd name="textAreaLeft" fmla="*/ 641520 w 2810160"/>
              <a:gd name="textAreaRight" fmla="*/ 2168640 w 2810160"/>
              <a:gd name="textAreaTop" fmla="*/ 744840 h 3263760"/>
              <a:gd name="textAreaBottom" fmla="*/ 2518920 h 326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e5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lerated sanitation and hy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95280" y="274680"/>
            <a:ext cx="8229600" cy="85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Day 2 demand – supply -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45:43Z</dcterms:created>
  <dc:creator>PC</dc:creator>
  <dc:description/>
  <dc:language>en-US</dc:language>
  <cp:lastModifiedBy>PC</cp:lastModifiedBy>
  <dcterms:modified xsi:type="dcterms:W3CDTF">2010-10-05T17:04:01Z</dcterms:modified>
  <cp:revision>15</cp:revision>
  <dc:subject/>
  <dc:title>Water and sanitation EC-EIB seminar</dc:title>
</cp:coreProperties>
</file>