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8F5B-F0DD-4DB7-BBEE-81D489BF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563B-49BA-4F34-A4B9-D70B6726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6099-4FAC-43C0-9FCC-3D2B9447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B632-F7EA-47CB-9440-733669A9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17AA-3666-4599-80F8-9CDC0A5A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760A-DB3D-475E-BA0A-DF9BCD7B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A0C0-4664-435D-BE35-43ECD584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C458-CE10-4CAF-941D-01EBD043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773F-74DD-49EF-B270-CF2F7061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939C-84FD-42B2-9DBE-5EC6284F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A2D3-7454-430E-950A-F1E1D5F2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1611-7DB7-4A62-83C5-8365DA2E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AE88-2DA2-4E4B-B69E-53B04C6C4837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Європейському Союз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704360" cy="576612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1792800" y="333360"/>
            <a:ext cx="606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496280" cy="5301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1657440" y="549360"/>
            <a:ext cx="60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ростий 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652040" y="549360"/>
            <a:ext cx="53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аміський цикл згідно з Правилами ЄЕК ООН №83-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71640" y="1106640"/>
            <a:ext cx="762300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684360" y="1773360"/>
            <a:ext cx="755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і їздові цикли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Сполучених штатах Амер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50280" cy="482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214080" y="40464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215880" y="40464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заміськ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489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971640" y="184464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Умовний їздовий цикл для визначення паливної економічності автомобіля в </a:t>
            </a: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Японі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0" t="57850" r="0" b="0"/>
          <a:stretch/>
        </p:blipFill>
        <p:spPr>
          <a:xfrm>
            <a:off x="684360" y="1557360"/>
            <a:ext cx="7851600" cy="3672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3354840" y="3333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вний їздовий цик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11:01:02Z</dcterms:created>
  <dc:creator>Користувач</dc:creator>
  <dc:description/>
  <dc:language>en-US</dc:language>
  <cp:lastModifiedBy>Користувач</cp:lastModifiedBy>
  <dcterms:modified xsi:type="dcterms:W3CDTF">2012-07-11T12:36:13Z</dcterms:modified>
  <cp:revision>10</cp:revision>
  <dc:subject/>
  <dc:title>Слайд 1</dc:title>
</cp:coreProperties>
</file>