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3D4-C217-4D4C-8B9D-2D715AF6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15A-21D3-4496-AB04-3524FA52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4A0-DB3C-46CC-B77C-FBCE1DB7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6E4-F6CF-428B-8A7B-B4DFFC87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AD4-ED7B-4A82-B6E4-44ECE420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7A8-AEEE-43D9-AA62-9A3A7F96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EC6-1D04-4C67-8DEC-8B0FD8DC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BFD-0C2A-47ED-ABFD-762AF720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227F-61D3-40BA-AAA5-F36A2723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CD6-6C94-46FA-BD68-E6FDD248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29D1-D51E-4C79-AE80-B8B633DC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4943-E497-4987-8935-471EA250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B60E-5DCC-4D3E-9E5C-694B8E8A4BFC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Європейському Союз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04360" cy="576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792800" y="33336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6280" cy="530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7440" y="549360"/>
            <a:ext cx="60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стий 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652040" y="54936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71640" y="1106640"/>
            <a:ext cx="7623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84360" y="1773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і їздові цикли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Сполучених штатах Аме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50280" cy="482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214080" y="40464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15880" y="404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за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89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Япон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57850" r="0" b="0"/>
          <a:stretch/>
        </p:blipFill>
        <p:spPr>
          <a:xfrm>
            <a:off x="684360" y="1557360"/>
            <a:ext cx="7851600" cy="36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35484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1:01:02Z</dcterms:created>
  <dc:creator>Користувач</dc:creator>
  <dc:description/>
  <dc:language>en-US</dc:language>
  <cp:lastModifiedBy>Користувач</cp:lastModifiedBy>
  <dcterms:modified xsi:type="dcterms:W3CDTF">2012-07-11T12:36:13Z</dcterms:modified>
  <cp:revision>10</cp:revision>
  <dc:subject/>
  <dc:title>Слайд 1</dc:title>
</cp:coreProperties>
</file>