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4107-4BB3-4A3C-BC49-BE79C6DB471E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9F89-6072-4363-B5AA-089C6F73F6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FC41-B912-40A6-9300-97B2729D94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3F3A-860B-4E3B-9F32-5E7D44576C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6C7D-76DE-4A81-BEEB-D028D1A82D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0034-8678-4A6D-B2C5-DC08735829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AA54-1AAC-483A-9045-1E79C8FB75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3E08-2072-40A3-9A13-8325FFCCF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CD17-F84E-447C-BC6E-CCFC0946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FE62-F381-4E8D-A056-4A3C678D2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548A-7E94-4854-BCB6-968049E25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7565F-B2AC-4C81-A259-A19E4D27D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DD65-9D54-4CFC-A294-A75421FA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0B65-641A-498D-A689-06523F45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7F45-BE49-4B46-8ED5-D5710BC2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CE63-AC0A-4DE1-BD9A-A40C5034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CEF3-B562-4381-ADAE-C577E5C3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5F8E-DC5E-4267-A45E-5CD5242A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8D35-5F2A-4DCC-8F3C-61C073E7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91DE5-5C08-4C20-8CBF-FF5AF249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D8A5-9C2A-434A-840C-6C554F80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3BBD-957B-4979-AD1C-2A10019A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551B-34A1-4178-A3E7-C94B7DAB3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C654-CE53-44FB-B8C0-01E6C1356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C21F-3FDC-41F3-9624-9B5F9268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B040-F7A3-4585-96A9-ADB311F9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2788-1C38-4C11-830C-345E8357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0E95-AD18-41BD-990C-8EE531FD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8C20-8D0A-4693-8838-D33D0FD9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8AB8-EB3E-4F1B-A439-7236967E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218E-7BDD-4E39-AF66-C46E422D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A023-B2B5-4830-878F-E0C3E89C5DC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Line 19"/>
          <p:cNvSpPr/>
          <p:nvPr/>
        </p:nvSpPr>
        <p:spPr>
          <a:xfrm>
            <a:off x="4253040" y="123660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22" descr="Picture2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3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1128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6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7" name="Line 22"/>
          <p:cNvSpPr/>
          <p:nvPr/>
        </p:nvSpPr>
        <p:spPr>
          <a:xfrm>
            <a:off x="4253040" y="123336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8" name="Picture 26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48000" cy="26856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3DAE-935F-49E6-9E83-A601246D0DB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280" y="1628280"/>
            <a:ext cx="748836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Round Table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Donors Experience with PEFA Assessments in Latin America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83680" y="4005000"/>
            <a:ext cx="8533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Workshop PEFA in Latin America: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Seven Years of Implement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Brussels, 4th December 2012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Chairperson: Jose Correia Nunes - EUROPEAID - UNIT A2: Budget Support, Public Finance and Macroeconomic Analysis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CA86-92EB-430E-9657-C9619427B3A2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Panelis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51"/>
              </a:spcBef>
              <a:buClr>
                <a:srgbClr val="0f54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rs Falkner-Olmedo – Inter-American Development Bank – Chief of the Operations Financial Management and Procurement Services Offic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0f54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r Balakrishnan – World Bank – Latin America and Caribbean Manager at Financial Management Sector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0f54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r Pessoa - IMF – Deputy Division Chief at the PFM Division of the Fiscal Affairs Department.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0f54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r Salinas – EuropeAid – Coordinator Budget Support Operations at Latin America and Caribbean Directorat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DB01-D629-4BDF-B43F-5DB85CE97E6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2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Discussions of this round table will cover two topics</a:t>
            </a:r>
            <a:br>
              <a:rPr sz="3200"/>
            </a:b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Development partners' experience from PEFA assessments to PFM reforms.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How the experience on PEFA repeat assessments has been used to measure progress and support PFM reforms?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432E-485C-45EE-A115-823F727DDC9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12 countries in LAC region have seen changes in CPIA ratings for PFM for the period 2001-2011.</a:t>
            </a: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2184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        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Source: World Bank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EA33-AF7D-419A-A7B7-9980E102718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012680" y="2421000"/>
            <a:ext cx="694404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920" y="105264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3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5494"/>
                </a:solidFill>
                <a:latin typeface="Verdana"/>
              </a:rPr>
              <a:t>Out of 75 PEFA assessments in the region since 2006 the EU has been involved in 40 assessments</a:t>
            </a: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327C-CBEA-43EF-9794-F8CEAAA2066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06280" y="2060640"/>
          <a:ext cx="8686800" cy="3922560"/>
        </p:xfrm>
        <a:graphic>
          <a:graphicData uri="http://schemas.openxmlformats.org/drawingml/2006/table">
            <a:tbl>
              <a:tblPr/>
              <a:tblGrid>
                <a:gridCol w="1868760"/>
                <a:gridCol w="1063440"/>
                <a:gridCol w="892080"/>
                <a:gridCol w="841320"/>
                <a:gridCol w="1571760"/>
                <a:gridCol w="717480"/>
                <a:gridCol w="890640"/>
                <a:gridCol w="841320"/>
              </a:tblGrid>
              <a:tr h="7030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ng agencie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 on the cover of report/Planned for completion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ng agencie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 on the cover of report/Planned for completion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311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uilla (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08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maic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, WB, DFID, IMF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ed/Ongoing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uba (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h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8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maic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, DFID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-07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6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bado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serrat (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FID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08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bado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gua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, 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-11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ize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, 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u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1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-07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u – Chiclayo Municipalit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, 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312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u – Gobierno Regional Amazona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, 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n Re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Kitts &amp; Nevi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-07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6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n Re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-07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Kitts &amp; Nevi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n Re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Luci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4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uador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Luci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Salvador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Vincent and Grenadine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nad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nidad and Tobago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nad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nidad and Tobago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-08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4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iti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ks and Caicos Islands (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ndura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ugua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, 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-11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EU heavily involved in supporting PFM reforms in the reg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826920" y="1773360"/>
          <a:ext cx="7490160" cy="4938480"/>
        </p:xfrm>
        <a:graphic>
          <a:graphicData uri="http://schemas.openxmlformats.org/drawingml/2006/table">
            <a:tbl>
              <a:tblPr/>
              <a:tblGrid>
                <a:gridCol w="3745080"/>
                <a:gridCol w="374508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ocus of suppor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Bolivia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Expenditure Manag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Colombia (pipeline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Fight against corrupt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Costa Rica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Civil society oversight of the budge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Dominican Republic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Public procur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Ecuador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nformation Management System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El Salvador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Fiscal Manag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Guatemala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Budget Manag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Hondura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Budget Manag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Nicaragua (pipeline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Tax reform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Paraguay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Tax reform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Peru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Support to </a:t>
                      </a: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reform</a:t>
                      </a:r>
                      <a:r>
                        <a:rPr b="0" lang="fr-BE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 programme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1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75D7-D101-4748-9997-E71ECCFD3A8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bcasado</cp:lastModifiedBy>
  <cp:lastPrinted>2012-12-03T18:16:55Z</cp:lastPrinted>
  <dcterms:modified xsi:type="dcterms:W3CDTF">2012-12-04T17:24:39Z</dcterms:modified>
  <cp:revision>333</cp:revision>
  <dc:subject/>
  <dc:title>Slide 1</dc:title>
</cp:coreProperties>
</file>