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FF5D-C1D3-4655-AA42-D75A4BB44B7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E6DD-1431-4B1B-A342-6DDBA1C7B3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B2EE-739E-4EE0-885E-9976B014A1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D3A9-F0EA-48D8-B49D-15ED5D68C3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F1D0-B43F-473F-A404-552EAF4AE9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1AE5-BA4B-455B-A1B3-3D9978D635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98CC-3B1A-42E9-ABEE-41633B4CEF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5E7-377D-44D0-947F-887C48E8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4FB-C558-4F7D-9A89-8E96995E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826-107A-46CF-B10D-7A2F4402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2FB-72EA-4BB9-BFDC-9694D792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40CE-042D-4A22-99EA-922EED1B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1474-36FF-47E6-A6C5-AD948D80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6EC0-897C-4C1A-85B8-5C968AAA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5575-E9CF-46F7-828A-2824D4F7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A2E6-143B-41E5-A161-E8F15E3F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481C-70CA-4606-87C8-BE1AFAF1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C895-5AFF-48BA-AD00-781CC7BC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D9F-C2A3-4A16-9F4B-00E6303D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7471-E7DD-4787-A0A9-611AEB7A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0DCB-1579-49DD-9527-F9905054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0A7E-4CCD-443F-A93A-CD89BC3D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AE60-1C15-4D4B-9F81-8743CE72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8CF8-FB91-442F-A71D-740C1425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676-508E-485E-9E32-E504B99E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443-6C8F-49AD-9444-B25DA4A0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987-0F42-4C4F-BA6F-F367DEE6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F2D-3C7C-470F-BD2B-44814DD4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319-5330-4839-B5F6-59D83385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BC3-1EF3-49B8-A378-B5DC7209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F54-87C8-4C4B-A72A-240DA09B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A397-9759-4F10-A69F-CE2ECE2AF0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FBFB-AC15-4C70-B63D-E8CC732588B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4883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ound Table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onors Experience with PEFA Assessments in Latin America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3680" y="4005000"/>
            <a:ext cx="853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Workshop PEFA in Latin America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Seven Years of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Brussels, 4th December 2012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hairperson: Jose Correia Nunes - EUROPEAID - UNIT A2: Budget Support, Public Finance and Macroeconomic Analysi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C199-5825-4B67-9AE0-1768148A8FC5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anelis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s Falkner-Olmedo – Inter-American Development Bank – Chief of the Operations Financial Management and Procurement Services Offic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Balakrishnan – World Bank – Latin America and Caribbean Manager at Financial Manage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Pessoa - IMF – Deputy Division Chief at the PFM Division of the Fiscal Affairs Department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Salinas – EuropeAid – Coordinator Budget Support Operations at Latin America and Caribbean Directorat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692D-D3A8-4FBC-91B7-46BBEF5120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Discussions of this round table will cover two topics</a:t>
            </a:r>
            <a:br>
              <a:rPr sz="3200"/>
            </a:b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elopment partners' experience from PEFA assessments to PFM reform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the experience on PEFA repeat assessments has been used to measure progress and support PFM reform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ABCC-3001-4F93-AC34-9F59B4DFD5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2 countries in LAC region have seen changes in CPIA ratings for PFM for the period 2001-2011.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      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Source: World Bank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3676-4098-4E63-B093-9D73AC7ABA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12680" y="2421000"/>
            <a:ext cx="6944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1052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Out of 75 PEFA assessments in the region since 2006 the EU has been involved in 40 assessment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50F8-5310-4B04-A8B3-D783FC265A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6280" y="2060640"/>
          <a:ext cx="8686800" cy="3922560"/>
        </p:xfrm>
        <a:graphic>
          <a:graphicData uri="http://schemas.openxmlformats.org/drawingml/2006/table">
            <a:tbl>
              <a:tblPr/>
              <a:tblGrid>
                <a:gridCol w="1868760"/>
                <a:gridCol w="1063440"/>
                <a:gridCol w="892080"/>
                <a:gridCol w="841320"/>
                <a:gridCol w="1571760"/>
                <a:gridCol w="717480"/>
                <a:gridCol w="890640"/>
                <a:gridCol w="841320"/>
              </a:tblGrid>
              <a:tr h="703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1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ill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, DFID, IMF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/Ongoing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b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errat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ze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Chiclayo Municipalit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2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Gobierno Regional Amazon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Vincent and Grenadin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s and Caicos Islands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U heavily involved in supporting PFM reforms in the reg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1773360"/>
          <a:ext cx="7490160" cy="493848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cus of suppor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xpenditure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mbi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ght against corrup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ivil society oversight of the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Dominican Republic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ublic procur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cu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formation Management Syste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l Salv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scal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Hondur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icaragu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aragua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Support to </a:t>
                      </a: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reform</a:t>
                      </a: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programm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1675-7728-4FFA-9C11-B820B9DA0C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casado</cp:lastModifiedBy>
  <cp:lastPrinted>2012-12-03T18:16:55Z</cp:lastPrinted>
  <dcterms:modified xsi:type="dcterms:W3CDTF">2012-12-04T17:24:39Z</dcterms:modified>
  <cp:revision>333</cp:revision>
  <dc:subject/>
  <dc:title>Slide 1</dc:title>
</cp:coreProperties>
</file>