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0EA-339E-441D-B3E4-556AB6FD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B66-40DD-459D-A3E5-EAAC8E14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26D-46DA-43BB-A977-62DEACC3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CEC-9A72-4B38-8DF7-0F9BD20C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824-1FF4-4B95-A752-10760D53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B2AB-4A56-4DA9-9F92-FE76A2F3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C8CC-CE00-48E3-9D8C-39E2B677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717-2D38-4C48-8C78-6226971A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4DA-6C50-439B-B40F-A0B1C16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FEC3-A20E-41C2-8BD0-15D577A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8588-4430-4F17-A558-996F388C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A55-3DE0-40FF-80E3-78753E8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F870-2893-4703-939F-2D91A0F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9CAC-2660-4485-BB55-EBB0023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4A0B-7EEB-42A0-91C7-577BFA3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1CA9-5D37-48CA-8E09-DE2EF518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0412-074A-4C2E-92BE-DD1F1B71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9C0-1708-492E-A909-19A693C5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309-AE33-47D6-9BCC-58EA3AB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DE5-DE1F-48B5-AD26-EF5A1ED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F4F-D91A-4820-A3C8-3A3919A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500-69E3-466E-8C92-1964A6D9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B9A-A7F9-40D7-B4C9-11106AA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C48-20DF-4171-89F1-21546B3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7D3-7652-44F6-B9C2-9A9A5E99D93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02B3-4FB4-4542-A6DE-D84219CECDB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EC SUPPORT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TO ANTI-CORRUPTION</a:t>
            </a: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IN PARTNER DEVELOPING COUNTRIES – Introduction to the Concept Paper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Heather Marquett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University of Birmingh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Rachel Flanar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theIDL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O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main concep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verview of various defini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s and typologie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uses and consequence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ortance of country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nded to provide EU policy-makers with an introductory tool to assist in the appreciation of current understandings of corrup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s an introduction to both ‘classic’ work and cutting-edge research in a way that is easily accessible and policy releva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Tw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ituates corruption within a global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rnational driver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ti-corruption conventions and instru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tion to range of international organisations working on anti-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se study of natural resource management to illustrate dynamic interaction between global drivers, the domestic political economy and international organis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ssists in increasing EU policy-makers’ awareness of the interplay between drivers of corruption and the measures currently being taken to address them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Thre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frameworks and tools available to analyse and assess levels and perception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aws distinction between measuring levels of corruption and assessing anti-corrup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esents challenges posed by these proces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a number of political economy analysis frameworks being employed by donors (including the EC) that facilitate situational awar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s a targeted introduction to the range of analytical frameworks and tools available to EC staff to assist in developing deeper understanding of the challenges corruption poses and opportunities for anti-corruption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6-30T17:22:24Z</dcterms:modified>
  <cp:revision>10</cp:revision>
  <dc:subject/>
  <dc:title>Slide 1</dc:title>
</cp:coreProperties>
</file>