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7F8C-D85B-4648-9A67-39B0523C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617B-40F3-4A18-8E66-17C6F771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5939-AFB0-49C4-80A2-D5116FC03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7706-48C7-4D93-A91B-C791D2C6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A630-F624-4457-91B2-19AEB6BE1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E6DA-D763-4DE1-A8E7-CD99A01A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449A-319C-4E42-BD74-C153F600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A395-80C2-44ED-B8DD-4756244F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D419-93ED-4788-ACE6-DB6EE087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A646-372C-490B-A739-6C8DD350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2649-C2AB-4E70-8E1F-C87B6198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BA8A-12BA-48B8-B78F-6B41C658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35C4-1456-40DD-9C63-E8BF2348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46A7-6846-43A6-A924-540569DE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7528-C7C9-406F-BB12-90F4A83F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B6E5-82AC-488F-B52A-7A241103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0723-E8B3-41EE-B9F6-7A15164E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ED1A-7132-4CDA-A781-44FA0BA2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F338-88FA-4FA0-ACA9-861E5A33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8DE6-795D-40B4-863E-B3BB8DFC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126D-10E1-45A3-BC41-6527A474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092A-4E5B-45F7-BA79-F7B492CB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322B-BE55-407B-824A-603979E3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AD13-2181-4C7E-960F-C7215FC3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B338-D0DA-4735-BC61-5B399624EF15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5C4C-F2CE-492A-A37B-67041A0D0ABC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EC SUPPORT</a:t>
            </a: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TO ANTI-CORRUPTION</a:t>
            </a:r>
            <a:br>
              <a:rPr sz="2400"/>
            </a:b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IN PARTNER DEVELOPING COUNTRIES – Introduction to the Concept Paper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4000" y="32842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Dr Heather Marquette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, </a:t>
            </a:r>
            <a:r>
              <a:rPr b="0" i="1" lang="en-GB" sz="2000" spc="-1" strike="noStrike">
                <a:solidFill>
                  <a:srgbClr val="103c72"/>
                </a:solidFill>
                <a:latin typeface="Verdana"/>
              </a:rPr>
              <a:t>University of Birmingha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Dr Rachel Flanary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, </a:t>
            </a:r>
            <a:r>
              <a:rPr b="0" i="1" lang="en-GB" sz="2000" spc="-1" strike="noStrike">
                <a:solidFill>
                  <a:srgbClr val="103c72"/>
                </a:solidFill>
                <a:latin typeface="Verdana"/>
              </a:rPr>
              <a:t>theIDLgroup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Mr Sumedh Rao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, </a:t>
            </a:r>
            <a:r>
              <a:rPr b="0" i="1" lang="en-GB" sz="2000" spc="-1" strike="noStrike">
                <a:solidFill>
                  <a:srgbClr val="103c72"/>
                </a:solidFill>
                <a:latin typeface="Verdana"/>
              </a:rPr>
              <a:t>Governance &amp; Social Development Resource Centre (GSDRC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Section On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8920" indent="-178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troduces main concep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35480" indent="-28296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Overview of various defini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35480" indent="-28296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Forms and typologies of corrup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35480" indent="-28296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uses and consequences of corrup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35480" indent="-28296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mportance of country contex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35480" indent="-28296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8920" indent="-178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tended to provide EU policy-makers with an introductory tool to assist in the appreciation of current understandings of corruption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8920" indent="-178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8920" indent="-178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rovides an introduction to both ‘classic’ work and cutting-edge research in a way that is easily accessible and policy relevan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Section Two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Situates corruption within a global contex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ternational drivers of corrup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Anti-corruption conventions and instrumen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troduction to range of international organisations working on anti-corrup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se study of natural resource management to illustrate dynamic interaction between global drivers, the domestic political economy and international organisa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Assists in increasing EU policy-makers’ awareness of the interplay between drivers of corruption and the measures currently being taken to address them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Section Thre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60920" indent="-160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troduces frameworks and tools available to analyse and assess levels and perceptions of corrup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60960" indent="-25416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raws distinction between measuring levels of corruption and assessing anti-corruption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60960" indent="-25416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resents challenges posed by these process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60960" indent="-25416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troduces a number of political economy analysis frameworks being employed by donors (including the EC) that facilitate situational awarenes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60960" indent="-25416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0920" indent="-160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rovides a targeted introduction to the range of analytical frameworks and tools available to EC staff to assist in developing deeper understanding of the challenges corruption poses and opportunities for anti-corruption work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Alisa Herrero Cangas</cp:lastModifiedBy>
  <dcterms:modified xsi:type="dcterms:W3CDTF">2011-06-30T17:22:24Z</dcterms:modified>
  <cp:revision>10</cp:revision>
  <dc:subject/>
  <dc:title>Slide 1</dc:title>
</cp:coreProperties>
</file>