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883-6FD2-4D34-9C5F-51E5646A7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685C-453C-4334-88D8-0CBFFB48C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793A-59B1-4A81-94F3-00147BA9B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217-FA4B-4947-AA95-9C0C87D96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0E9-DC84-4580-950C-53DAE8B39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A38-2672-4FE3-85DC-BEF8D25516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710-C75F-41E8-A7C5-AFD1CEA1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786-3501-463B-804C-605FA64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6C3-1E11-4FD4-89B4-CBC3E891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F06-4332-4620-B216-94A8B835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7EC-38A5-4621-93E1-687E99D6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4C6-28C8-45ED-AE74-FCB4AA3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E709-073A-44A7-B580-903CE75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D01F-8B7B-45B9-9FEC-29FC546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6F2B-1415-4412-9150-3CF9D99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F7C-DB12-4CBE-90D2-655C8C6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4D3-0F0D-4772-9182-3409C8D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95C-A6AF-4B6D-A9DA-8F7E84F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55A-654E-48BF-9AC2-3F890B2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76CD-80E2-4096-8313-777F6E0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7F3-B23A-44CA-92D4-2366170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97FA-569F-41C6-9F63-C18D9E0B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0EDF-9375-4C65-96BB-C077FA78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3CF-9C60-42BC-867F-619D1BC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6F7-FFD7-410D-B2C6-4B0DB69D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34-C433-4ADF-AD03-29983E83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0B1-5404-4E3D-A220-FAB83DD3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1C0-E2F1-4FC6-8776-D963E04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768-E7F5-4982-B6D1-4843B78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7E8-48B6-4CE9-907B-145425B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CD96-31B4-4A09-A9F7-716B2E1A522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998D-191B-4267-9CBE-39C93329F93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03c72"/>
                </a:solidFill>
                <a:latin typeface="Verdana"/>
              </a:rPr>
              <a:t>What is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Heather Marquett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University of Birmingh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94400" y="429408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03c72"/>
                </a:solidFill>
                <a:latin typeface="Verdana"/>
                <a:ea typeface="Arial"/>
              </a:rPr>
              <a:t>Forms of Corruption 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2c8"/>
                </a:solidFill>
                <a:latin typeface="Verdana"/>
                <a:ea typeface="Arial"/>
              </a:rPr>
              <a:t>(UNOD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-260" t="-959" r="0" b="-959"/>
          <a:stretch/>
        </p:blipFill>
        <p:spPr>
          <a:xfrm>
            <a:off x="1763640" y="1773360"/>
            <a:ext cx="561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auses of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Low levels of economic development and high levels of pover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U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intended consequences of economic liberalisa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Unintended consequences of Foreign Direct Invest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 institut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Lack of accountability an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ransparen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equal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mocracy (</a:t>
            </a:r>
            <a:r>
              <a:rPr b="0" i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r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a lack of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mocracy!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ffshore banking, tax haven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nd money laundering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organised cri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3196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onsequences of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Hampers economic growth and develop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Jeopardizes poverty reduc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creases cost of services, especiall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 the poo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ens democra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tributes to conflic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Reduces the effectiveness of ai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ens public support for ai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Reduces trust in government and acros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socie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4" marL="1954440" indent="0">
              <a:lnSpc>
                <a:spcPts val="2798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1948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35640" y="508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.Its not the war, it’s the corruption… (Sri Lanka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hallenges in fight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Universal assumptions have hampered anti-corruption effo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Corruption is a contextual phenomen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The ‘primacy’ of country context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makes a clear case for better/mor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political economy analysis (PEA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drivers of corruptio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re poorly understood or eve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cknowledged (language tends to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be very ‘national’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ssessing and monitoring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 is difficult, especially as the definitions used are often unclear or assum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ighting corruption is inherently destabilising and even dangerous!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finitions that bring in issues to do with power and politics make this more clea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97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Introdu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Defini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Forms and typologi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Causes and consequ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Challenges in fighting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What is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190960" cy="15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25718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Why worry 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about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  <a:ea typeface="Arial"/>
              </a:rPr>
              <a:t>Cost of Corruptio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Decreases GDP by 1%/yr (UN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Bribery alone = $1 trillion/y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(World Bank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3-5% world GDP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(World Bank and IMF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1c8"/>
                </a:solidFill>
                <a:latin typeface="Verdana"/>
                <a:ea typeface="Arial"/>
              </a:rPr>
              <a:t>Corrup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wastes development</a:t>
            </a: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major impediment to development (MDGs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in the ‘Age of Austerity’ less tolerated by donors and their publics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724360" y="692280"/>
            <a:ext cx="304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Definitions of 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Defining corruption is complex because of ‘absence of a fixed disciplinary allegiance’ (Williams, 1999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Definitions vary according to approaches, aims and needs of analysts/policymak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How </a:t>
            </a: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corruption</a:t>
            </a: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 is defined determines how it is viewed, the policy approaches adopted and the legitimacy of polic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Recognizing this complexity, the EC has acknowledged several approaches to defining corrup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Leg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Socio-economi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Anthropologic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Legal approaches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to defining 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 </a:t>
            </a:r>
            <a:r>
              <a:rPr b="0" i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very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basic terms, if it is illegal, it i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; if it is legal, it is no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conventions provide harmonised definitions of corruption-related offences facilitating judicial cooperation between partner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National legal definitions for corruption-related offences vary, due to different legal traditions and social norm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powerful set the law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gnores offenses that may be legal but which society defines as corrup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acilitates a ‘tick box’ approach to anti-corruption; e.g., is there a law against X? Tick! De jure may not mean de facto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oss-national comparisons difficul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2343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3c72"/>
                </a:solidFill>
                <a:latin typeface="Verdana"/>
                <a:ea typeface="Arial"/>
              </a:rPr>
              <a:t>Socio-economic approaches to defin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fines corruption as the result of individual rational decisions: e.g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‘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abuse of public office fo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private gains’ (World Bank)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‘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misuse of entruste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power for private gain’ (TI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Has been famously expressed as th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mula </a:t>
            </a:r>
            <a:r>
              <a:rPr b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 = M+D-A 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(Klitgaard 1988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ddresses the motivation fo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 acts (e.g. private gain) and th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ature of power (formal/informal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r public/private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cusing on individual’s motivation divorces him/her from their commun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ssumes a shared understanding of ‘public office’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ver-simplifies an inherently complex phenomen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May explain corruption but very poor at explaining integr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4272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578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3c72"/>
                </a:solidFill>
                <a:latin typeface="Verdana"/>
                <a:ea typeface="Arial"/>
              </a:rPr>
              <a:t>Anthropological approaches to defin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cerned with the motivations, organisation of power, as well as contexts where corrupt acts take plac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siders corruption as both individual and collective phenomena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anthropological approach takes into account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orms, rules, customs, and perception of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importance of morality and trust issu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ms and organisation of pow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oo ‘academic’; difficult to translate into poli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gnores international norms; too context-specifi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May be used to justify an ‘anything goes’ approach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82c8"/>
                </a:solidFill>
                <a:latin typeface="Verdana"/>
                <a:ea typeface="Arial"/>
              </a:rPr>
              <a:t>(Nb: Will be covered in more depth in the next session. Probably the least understood/known of all approaches, with a great deal of potential to help improve anti-corruption policy-making…despite critiques!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orruption: An EU Defini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 : ‘the abuse of power for private gain’ (EU, 2003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Broadest attempt to define the phenomenon, encompassing both the public and private secto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EU acknowledges corruption’s complexity and the inadequacy of a single definitio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5" name="Picture 3" descr="doonsebury.gif"/>
          <p:cNvPicPr/>
          <p:nvPr/>
        </p:nvPicPr>
        <p:blipFill>
          <a:blip r:embed="rId1"/>
          <a:stretch/>
        </p:blipFill>
        <p:spPr>
          <a:xfrm>
            <a:off x="611280" y="3933720"/>
            <a:ext cx="75610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Typologies of 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Bureaucratic versus Political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Petty v Gran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Need v Gree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Active v Passiv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Incidental v Systemi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Quiet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48020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6-30T17:22:47Z</dcterms:modified>
  <cp:revision>48</cp:revision>
  <dc:subject/>
  <dc:title>Slide 1</dc:title>
</cp:coreProperties>
</file>