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2AF7-5F28-4401-9AFD-74D42B6889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B65F-2C33-4EA3-A13A-DB130D8F2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6450-AC2C-4E5C-B2CB-61DBB0C9C3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55B0-87CF-44FB-AEAE-3FC763A33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6AA4-FF99-4B4B-8B71-0D67B05BC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15D0-1D78-4637-895C-EDA0A70A77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18C-C19A-4768-8CA4-660E081F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F2C-C82F-4C78-A619-4E113724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5A0-4AAA-4A1D-B17F-974FA891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BA4-9E47-491C-8654-9CB134E2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37ED-8213-44ED-BF9E-78D8FAD2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4CAC-B299-49AC-B064-6F716DF0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BB9E-AB1D-47E1-9B73-22F27FF4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2A4F-C8BE-430A-A7E5-2047CEFB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B092-BEC4-4363-AAA7-A3745F6A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145B-FF4C-4A2C-92F3-32A82B50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C503-180A-435C-88E0-6528C2E3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FB1-E6A1-4111-BDC5-7EAD0195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B9D4-2874-4A74-92FC-9D36B6AF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47F8-7DC0-4F40-BC3A-88A244C8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1A15-5163-406F-941E-7E9FD9C5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C684-0DD4-43AF-815B-2A259290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442F-30ED-4EE9-973D-6A724FE0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758-908E-4F01-BF2E-948500E8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94F-8A57-4871-BF3F-0699D9A2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E53-78C5-404A-924B-D8FFF25D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6D3-F8B6-4744-8019-675E8F93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A67-2D2F-4534-B959-AB5D33A1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403-7A4F-4BBC-800F-5ADEADB2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067-E6D2-43C8-8477-5BEA9BFA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D7BF-A3F7-4E94-BDB2-5D2397E3AA1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2BC9-E28A-4713-8B5D-4391A02069F4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103c72"/>
                </a:solidFill>
                <a:latin typeface="Verdana"/>
              </a:rPr>
              <a:t>What is Corruption?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r Heather Marquette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,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University of Birmingh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94400" y="4294080"/>
            <a:ext cx="66852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European Commission Training Seminar: EC Support to Governance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in Partner Countries (Africa focus) </a:t>
            </a:r>
            <a:br>
              <a:rPr sz="1600"/>
            </a:b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4-8 July 2011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03c72"/>
                </a:solidFill>
                <a:latin typeface="Verdana"/>
                <a:ea typeface="Arial"/>
              </a:rPr>
              <a:t>Forms of Corruption 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77868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2c8"/>
                </a:solidFill>
                <a:latin typeface="Verdana"/>
                <a:ea typeface="Arial"/>
              </a:rPr>
              <a:t>(UNODC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-260" t="-959" r="0" b="-959"/>
          <a:stretch/>
        </p:blipFill>
        <p:spPr>
          <a:xfrm>
            <a:off x="1763640" y="1773360"/>
            <a:ext cx="5616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3c72"/>
                </a:solidFill>
                <a:latin typeface="Verdana"/>
                <a:ea typeface="Arial"/>
              </a:rPr>
              <a:t>Causes of Corrup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Low levels of economic development and high levels of pover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U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nintended consequences of economic liberalisa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Unintended consequences of Foreign Direct Invest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Weak institution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Lack of accountability and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ransparenc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nequali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Democracy (</a:t>
            </a:r>
            <a:r>
              <a:rPr b="0" i="1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or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 a lack of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democracy!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Offshore banking, tax haven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nd money laundering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72960" indent="-372960">
              <a:lnSpc>
                <a:spcPts val="2798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nternational organised cri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431964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3c72"/>
                </a:solidFill>
                <a:latin typeface="Verdana"/>
                <a:ea typeface="Arial"/>
              </a:rPr>
              <a:t>Consequences of Corrup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Hampers economic growth and develop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Jeopardizes poverty reduc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ncreases cost of services, especially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or the poor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Weakens democrac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ntributes to conflic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Reduces the effectiveness of ai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Weakens public support for ai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Reduces trust in government and acros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socie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1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4" marL="1954440" indent="0">
              <a:lnSpc>
                <a:spcPts val="2798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219480" cy="2449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35640" y="5084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.Its not the war, it’s the corruption… (Sri Lanka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3c72"/>
                </a:solidFill>
                <a:latin typeface="Verdana"/>
                <a:ea typeface="Arial"/>
              </a:rPr>
              <a:t>Challenges in fighting corrup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9920" indent="-169920">
              <a:lnSpc>
                <a:spcPct val="100000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Universal assumptions have hampered anti-corruption effo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ct val="100000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Corruption is a contextual phenomen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ct val="100000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The ‘primacy’ of country context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makes a clear case for better/more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political economy analysis (PEA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nternational drivers of corruption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re poorly understood or even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cknowledged (language tends to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be very ‘national’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ssessing and monitoring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rruption is difficult, especially as the definitions used are often unclear or assume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69920" indent="-1699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ighting corruption is inherently destabilising and even dangerous!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Definitions that bring in issues to do with power and politics make this more clear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4427640" y="2421000"/>
            <a:ext cx="42973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c8"/>
                </a:solidFill>
                <a:latin typeface="Verdana"/>
                <a:ea typeface="Arial"/>
              </a:rPr>
              <a:t>Introduc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c8"/>
                </a:solidFill>
                <a:latin typeface="Verdana"/>
                <a:ea typeface="Arial"/>
              </a:rPr>
              <a:t>Defini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c8"/>
                </a:solidFill>
                <a:latin typeface="Verdana"/>
                <a:ea typeface="Arial"/>
              </a:rPr>
              <a:t>Forms and typologie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c8"/>
                </a:solidFill>
                <a:latin typeface="Verdana"/>
                <a:ea typeface="Arial"/>
              </a:rPr>
              <a:t>Causes and conseque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c8"/>
                </a:solidFill>
                <a:latin typeface="Verdana"/>
                <a:ea typeface="Arial"/>
              </a:rPr>
              <a:t>Challenges in fighting corrup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What is corruption?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4005360"/>
            <a:ext cx="2190960" cy="1542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25718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Why worry </a:t>
            </a:r>
            <a:br>
              <a:rPr sz="4000"/>
            </a:b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about corruption?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  <a:ea typeface="Arial"/>
              </a:rPr>
              <a:t>Cost of Corruption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Decreases GDP by 1%/yr (UN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Bribery alone = $1 trillion/yr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(World Bank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2c8"/>
              </a:buClr>
              <a:buSzPct val="60000"/>
              <a:buFont typeface="Verdana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3-5% world GDP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(World Bank and IMF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1c8"/>
                </a:solidFill>
                <a:latin typeface="Verdana"/>
                <a:ea typeface="Arial"/>
              </a:rPr>
              <a:t>Corrup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1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1c8"/>
                </a:solidFill>
                <a:latin typeface="Verdana"/>
                <a:ea typeface="Arial"/>
              </a:rPr>
              <a:t>wastes development</a:t>
            </a: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1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1c8"/>
                </a:solidFill>
                <a:latin typeface="Verdana"/>
                <a:ea typeface="Arial"/>
              </a:rPr>
              <a:t>major impediment to development (MDGs)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0081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1c8"/>
                </a:solidFill>
                <a:latin typeface="Verdana"/>
                <a:ea typeface="Arial"/>
              </a:rPr>
              <a:t>in the ‘Age of Austerity’ less tolerated by donors and their publics?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724360" y="692280"/>
            <a:ext cx="304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Definitions of corruption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Defining corruption is complex because of ‘absence of a fixed disciplinary allegiance’ (Williams, 1999)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Definitions vary according to approaches, aims and needs of analysts/policymak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How </a:t>
            </a:r>
            <a:r>
              <a:rPr b="0" lang="en-GB" sz="1800" spc="-1" strike="noStrike">
                <a:solidFill>
                  <a:srgbClr val="0082c8"/>
                </a:solidFill>
                <a:latin typeface="Verdana"/>
                <a:ea typeface="Arial"/>
              </a:rPr>
              <a:t>corruption</a:t>
            </a: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 is defined determines how it is viewed, the policy approaches adopted and the legitimacy of polic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2c8"/>
                </a:solidFill>
                <a:latin typeface="Verdana"/>
                <a:ea typeface="Arial"/>
              </a:rPr>
              <a:t>Recognizing this complexity, the EC has acknowledged several approaches to defining corrup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2c8"/>
                </a:solidFill>
                <a:latin typeface="Verdana"/>
                <a:ea typeface="Arial"/>
              </a:rPr>
              <a:t>Lega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2c8"/>
                </a:solidFill>
                <a:latin typeface="Verdana"/>
                <a:ea typeface="Arial"/>
              </a:rPr>
              <a:t>Socio-economic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2c8"/>
                </a:solidFill>
                <a:latin typeface="Verdana"/>
                <a:ea typeface="Arial"/>
              </a:rPr>
              <a:t>Anthropologica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Legal approaches</a:t>
            </a:r>
            <a:br>
              <a:rPr sz="4000"/>
            </a:b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to defining </a:t>
            </a:r>
            <a:br>
              <a:rPr sz="4000"/>
            </a:b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corruption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n </a:t>
            </a:r>
            <a:r>
              <a:rPr b="0" i="1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very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 basic terms, if it is illegal, it i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rruption; if it is legal, it is no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International conventions provide harmonised definitions of corruption-related offences facilitating judicial cooperation between partner countri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c8"/>
                </a:solidFill>
                <a:latin typeface="Verdana"/>
                <a:ea typeface="Arial"/>
              </a:rPr>
              <a:t>National legal definitions for corruption-related offences vary, due to different legal traditions and social norm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ritiques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087200" indent="-21708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powerful set the law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087200" indent="-21708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gnores offenses that may be legal but which society defines as corrup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087200" indent="-21708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acilitates a ‘tick box’ approach to anti-corruption; e.g., is there a law against X? Tick! De jure may not mean de facto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087200" indent="-217080">
              <a:lnSpc>
                <a:spcPct val="100000"/>
              </a:lnSpc>
              <a:buClr>
                <a:srgbClr val="0082c8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ross-national comparisons difficul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2343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3c72"/>
                </a:solidFill>
                <a:latin typeface="Verdana"/>
                <a:ea typeface="Arial"/>
              </a:rPr>
              <a:t>Socio-economic approaches to defining corrup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42720" indent="-3427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Defines corruption as the result of individual rational decisions: e.g.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‘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abuse of public office for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private gains’ (World Bank)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‘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misuse of entrusted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power for private gain’ (TI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-3427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Has been famously expressed as the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ormula </a:t>
            </a:r>
            <a:r>
              <a:rPr b="1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 = M+D-A 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(Klitgaard 1988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-3427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ddresses the motivation for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rrupt acts (e.g. private gain) and the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nature of power (formal/informal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	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or public/private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-34272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ritiques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ocusing on individual’s motivation divorces him/her from their communi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Assumes a shared understanding of ‘public office’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Over-simplifies an inherently complex phenomen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-34272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May explain corruption but very poor at explaining integrit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4272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4272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4852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5784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3c72"/>
                </a:solidFill>
                <a:latin typeface="Verdana"/>
                <a:ea typeface="Arial"/>
              </a:rPr>
              <a:t>Anthropological approaches to defining corrup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ncerned with the motivations, organisation of power, as well as contexts where corrupt acts take plac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-36936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nsiders corruption as both individual and collective phenomena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-36936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anthropological approach takes into account: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Norms, rules, customs, and perception of corrup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importance of morality and trust issu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 </a:t>
            </a: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Forms and organisation of power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369360" indent="-36936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ritiques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oo ‘academic’; difficult to translate into polic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Ignores international norms; too context-specific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369360">
              <a:lnSpc>
                <a:spcPct val="100000"/>
              </a:lnSpc>
              <a:buClr>
                <a:srgbClr val="0082c8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May be used to justify an ‘anything goes’ approach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82c8"/>
                </a:solidFill>
                <a:latin typeface="Verdana"/>
                <a:ea typeface="Arial"/>
              </a:rPr>
              <a:t>(Nb: Will be covered in more depth in the next session. Probably the least understood/known of all approaches, with a great deal of potential to help improve anti-corruption policy-making…despite critiques!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3c72"/>
                </a:solidFill>
                <a:latin typeface="Verdana"/>
                <a:ea typeface="Arial"/>
              </a:rPr>
              <a:t>Corruption: An EU Defini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Corruption : ‘the abuse of power for private gain’ (EU, 2003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Broadest attempt to define the phenomenon, encompassing both the public and private sector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82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c8"/>
                </a:solidFill>
                <a:latin typeface="Verdana"/>
                <a:ea typeface="Arial"/>
              </a:rPr>
              <a:t>The EU acknowledges corruption’s complexity and the inadequacy of a single definition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25" name="Picture 3" descr="doonsebury.gif"/>
          <p:cNvPicPr/>
          <p:nvPr/>
        </p:nvPicPr>
        <p:blipFill>
          <a:blip r:embed="rId1"/>
          <a:stretch/>
        </p:blipFill>
        <p:spPr>
          <a:xfrm>
            <a:off x="611280" y="3933720"/>
            <a:ext cx="75610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3c72"/>
                </a:solidFill>
                <a:latin typeface="Verdana"/>
                <a:ea typeface="Arial"/>
              </a:rPr>
              <a:t>Typologies of corruption</a:t>
            </a:r>
            <a:endParaRPr b="1" lang="en-US" sz="40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Bureaucratic versus Political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Petty v Gran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Need v Greed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Active v Passive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Incidental v Systemic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81c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1c8"/>
                </a:solidFill>
                <a:latin typeface="Verdana"/>
                <a:ea typeface="Arial"/>
              </a:rPr>
              <a:t>Quiet Corrup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780000" y="2060640"/>
            <a:ext cx="480204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Alisa Herrero Cangas</cp:lastModifiedBy>
  <dcterms:modified xsi:type="dcterms:W3CDTF">2011-06-30T17:22:47Z</dcterms:modified>
  <cp:revision>48</cp:revision>
  <dc:subject/>
  <dc:title>Slide 1</dc:title>
</cp:coreProperties>
</file>