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AA01-F640-485A-8715-A7A7CFDFA149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AF3A-E792-41CF-B44E-E8DD1227EB79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88D-3B7B-4B0A-9811-AF43EBBE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CB39-FD51-4A9B-A170-72ED137F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8450-928D-4E0F-8071-E3F34C70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EA7-A8B7-468B-9520-C1C67256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BEED-A63A-4B71-A7E0-3487D672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EB94-542A-4E4A-8F43-A8434EA6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0D90-80F6-4500-9C63-4A92C3BB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B77B-82B2-4C82-A718-1C669C61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E9BC-B024-43D8-8151-78B3D412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1D1E-7A7A-48AC-BE9E-7F3BAFC0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1934-E9C0-4842-AB04-B08709CD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F75-FBB5-426E-9CE7-F0E95304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4D59-BAF5-4925-993C-3CF8E860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6C98-5523-4E17-8490-B540B560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6007-0FBA-43C0-8E00-F231E28E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E912-3E2E-466E-9F32-4FBBC96D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7C84-D87E-4B16-8060-45784C09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925-3E6A-41A4-9A78-B2FC86A2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F7A3-CB98-418E-929B-1C6B67AD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3A2-5D4E-4CD9-B7A0-10413047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67E-69E0-4336-937C-30A89748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43A-4446-4DFA-A5AB-D4C8E781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442-127A-4846-87B8-B5D44BF2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F0D-07DA-4842-96A6-0BF45F70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14BF-F4AB-4BCF-B9A2-C688944CCA2A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F92D-847B-4318-B7BA-C37EC334D068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Training Seminar: EC support to governance in partner countries – with a focus on the African continen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olitical economy and governance in oper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July 6</a:t>
            </a:r>
            <a:r>
              <a:rPr b="1" lang="en-GB" sz="2000" spc="-1" strike="noStrike" baseline="30000">
                <a:solidFill>
                  <a:srgbClr val="103c72"/>
                </a:solidFill>
                <a:latin typeface="Verdana"/>
              </a:rPr>
              <a:t>th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, 2011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A common core from 2003, but refined and modified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500120" y="1700280"/>
            <a:ext cx="62866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Example 1: Drivers of Chan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0880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What does it cover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Basic country analysi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Medium-term dynam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External forces, including dono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Link between change and poverty outcom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Operational implic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How agencies work ---  internal incentiv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Example 2: SGACA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4000" y="2276280"/>
            <a:ext cx="708804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Power and change analysi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Structured metho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Framework of analysis and detailed ques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Workshops -- test, internalis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Rapi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SGACA – the frame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4000" y="1197000"/>
            <a:ext cx="70880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Foundational facto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erritorial integrity; state formation; revenue; social and economic structures; geo-strategic; geograph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Rules of the gam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al, informal; political competition;  institutionalisation; distribution of power; state-society relations; trend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Here and now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ntext; acto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Operational implic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ost important challenges; how they explain performance; incentives for change; opportunities and threats for dono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Applied at three level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4000" y="1197000"/>
            <a:ext cx="70880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EA has been applied at three level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untry/macro-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ectoral/thematic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ject-level or micr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Analysis at each of these can be more contextual or more problem-focu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•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blem-focussed: geared to understanding and resolving a particular problem at any level (project-specific, or in relation to a policy issue e.g. growth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or public financial management reform.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Level 1: Country/macro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4000" y="1773360"/>
            <a:ext cx="70880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To enhance general sensitivity to country context and understanding of the broad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olitical-economy enviro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useful to inform country planning processes and the overall strategic direction of country programm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Links outward to international and regional context....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103c72"/>
                </a:solidFill>
                <a:latin typeface="Verdana"/>
              </a:rPr>
              <a:t>International Drivers of Corrup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grpSp>
        <p:nvGrpSpPr>
          <p:cNvPr id="146" name="Group 1"/>
          <p:cNvGrpSpPr/>
          <p:nvPr/>
        </p:nvGrpSpPr>
        <p:grpSpPr>
          <a:xfrm>
            <a:off x="971640" y="2276640"/>
            <a:ext cx="6933960" cy="3097080"/>
            <a:chOff x="971640" y="2276640"/>
            <a:chExt cx="6933960" cy="3097080"/>
          </a:xfrm>
        </p:grpSpPr>
        <p:sp>
          <p:nvSpPr>
            <p:cNvPr id="147" name="AutoShape 20"/>
            <p:cNvSpPr/>
            <p:nvPr/>
          </p:nvSpPr>
          <p:spPr>
            <a:xfrm>
              <a:off x="971640" y="2276640"/>
              <a:ext cx="693396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48" name="Text Box 19"/>
            <p:cNvSpPr/>
            <p:nvPr/>
          </p:nvSpPr>
          <p:spPr>
            <a:xfrm>
              <a:off x="1694520" y="2276640"/>
              <a:ext cx="17488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imary effects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49" name="AutoShape 18"/>
            <p:cNvSpPr/>
            <p:nvPr/>
          </p:nvSpPr>
          <p:spPr>
            <a:xfrm>
              <a:off x="1188000" y="2277720"/>
              <a:ext cx="552960" cy="209160"/>
            </a:xfrm>
            <a:prstGeom prst="rightArrow">
              <a:avLst>
                <a:gd name="adj1" fmla="val 29407"/>
                <a:gd name="adj2" fmla="val 51920"/>
              </a:avLst>
            </a:prstGeom>
            <a:solidFill>
              <a:srgbClr val="9436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50" name="AutoShape 17"/>
            <p:cNvSpPr/>
            <p:nvPr/>
          </p:nvSpPr>
          <p:spPr>
            <a:xfrm>
              <a:off x="1188000" y="2556000"/>
              <a:ext cx="552960" cy="209160"/>
            </a:xfrm>
            <a:prstGeom prst="rightArrow">
              <a:avLst>
                <a:gd name="adj1" fmla="val 29407"/>
                <a:gd name="adj2" fmla="val 51920"/>
              </a:avLst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51" name="AutoShape 16"/>
            <p:cNvSpPr/>
            <p:nvPr/>
          </p:nvSpPr>
          <p:spPr>
            <a:xfrm>
              <a:off x="1188000" y="2836440"/>
              <a:ext cx="552960" cy="209160"/>
            </a:xfrm>
            <a:prstGeom prst="rightArrow">
              <a:avLst>
                <a:gd name="adj1" fmla="val 29407"/>
                <a:gd name="adj2" fmla="val 5192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52" name="Text Box 15"/>
            <p:cNvSpPr/>
            <p:nvPr/>
          </p:nvSpPr>
          <p:spPr>
            <a:xfrm>
              <a:off x="1694520" y="2554560"/>
              <a:ext cx="181188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ondary effects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1694520" y="2835000"/>
              <a:ext cx="106668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edbacks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54" name="AutoShape 13"/>
            <p:cNvSpPr/>
            <p:nvPr/>
          </p:nvSpPr>
          <p:spPr>
            <a:xfrm>
              <a:off x="5646600" y="3769920"/>
              <a:ext cx="526680" cy="767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6dde8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55" name="AutoShape 12"/>
            <p:cNvSpPr/>
            <p:nvPr/>
          </p:nvSpPr>
          <p:spPr>
            <a:xfrm>
              <a:off x="2559240" y="3769920"/>
              <a:ext cx="578160" cy="767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436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3137760" y="2765880"/>
              <a:ext cx="2473920" cy="2022480"/>
              <a:chOff x="3137760" y="2765880"/>
              <a:chExt cx="2473920" cy="2022480"/>
            </a:xfrm>
          </p:grpSpPr>
          <p:sp>
            <p:nvSpPr>
              <p:cNvPr id="157" name="AutoShape 11"/>
              <p:cNvSpPr/>
              <p:nvPr/>
            </p:nvSpPr>
            <p:spPr>
              <a:xfrm>
                <a:off x="3327840" y="2765880"/>
                <a:ext cx="1573920" cy="1046520"/>
              </a:xfrm>
              <a:prstGeom prst="flowChartDocument">
                <a:avLst/>
              </a:prstGeom>
              <a:solidFill>
                <a:srgbClr val="bbe0e3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960" rIns="75960" tIns="37800" bIns="37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Structures</a:t>
                </a:r>
                <a:endParaRPr b="0" lang="en-US" sz="1100" spc="-1" strike="noStrike">
                  <a:solidFill>
                    <a:srgbClr val="80808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8" name="AutoShape 10"/>
              <p:cNvSpPr/>
              <p:nvPr/>
            </p:nvSpPr>
            <p:spPr>
              <a:xfrm>
                <a:off x="3516480" y="3254400"/>
                <a:ext cx="1573920" cy="1046520"/>
              </a:xfrm>
              <a:prstGeom prst="flowChartDocument">
                <a:avLst/>
              </a:prstGeom>
              <a:solidFill>
                <a:srgbClr val="bbe0e3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960" rIns="75960" tIns="37800" bIns="37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Institutions</a:t>
                </a:r>
                <a:endParaRPr b="0" lang="en-US" sz="1100" spc="-1" strike="noStrike">
                  <a:solidFill>
                    <a:srgbClr val="80808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9" name="AutoShape 9"/>
              <p:cNvSpPr/>
              <p:nvPr/>
            </p:nvSpPr>
            <p:spPr>
              <a:xfrm rot="16200000">
                <a:off x="2964600" y="3767760"/>
                <a:ext cx="975960" cy="505080"/>
              </a:xfrm>
              <a:custGeom>
                <a:avLst/>
                <a:gdLst>
                  <a:gd name="textAreaLeft" fmla="*/ 197640 w 975960"/>
                  <a:gd name="textAreaRight" fmla="*/ 680760 w 975960"/>
                  <a:gd name="textAreaTop" fmla="*/ 67680 h 505080"/>
                  <a:gd name="textAreaBottom" fmla="*/ 437400 h 50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746" hR="21600" stAng="10800000" swAng="5400000"/>
                    <a:lnTo>
                      <a:pt x="10695" y="0"/>
                    </a:lnTo>
                    <a:arcTo wR="8746" hR="21600" stAng="-5400000" swAng="3245163"/>
                    <a:lnTo>
                      <a:pt x="21247" y="15522"/>
                    </a:lnTo>
                    <a:lnTo>
                      <a:pt x="18466" y="21600"/>
                    </a:lnTo>
                    <a:lnTo>
                      <a:pt x="14978" y="15522"/>
                    </a:lnTo>
                    <a:lnTo>
                      <a:pt x="17138" y="15522"/>
                    </a:lnTo>
                    <a:arcTo wR="8746" hR="21600" stAng="-2154837" swAng="-3089202"/>
                    <a:lnTo>
                      <a:pt x="9720" y="135"/>
                    </a:lnTo>
                    <a:arcTo wR="8746" hR="21600" stAng="-5555961" swAng="-5244039"/>
                    <a:close/>
                  </a:path>
                  <a:path fill="darkenLess" w="21600" h="21600">
                    <a:moveTo>
                      <a:pt x="0" y="21600"/>
                    </a:moveTo>
                    <a:arcTo wR="8746" hR="21600" stAng="10800000" swAng="5400000"/>
                    <a:lnTo>
                      <a:pt x="8746" y="0"/>
                    </a:lnTo>
                    <a:arcTo wR="8746" hR="21600" stAng="-5400000" swAng="155961"/>
                    <a:lnTo>
                      <a:pt x="9720" y="135"/>
                    </a:lnTo>
                    <a:arcTo wR="8746" hR="21600" stAng="-5555961" swAng="-5244039"/>
                    <a:close/>
                  </a:path>
                </a:pathLst>
              </a:custGeom>
              <a:solidFill>
                <a:srgbClr val="00b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0" name="AutoShape 8"/>
              <p:cNvSpPr/>
              <p:nvPr/>
            </p:nvSpPr>
            <p:spPr>
              <a:xfrm rot="16200000">
                <a:off x="2977560" y="3065760"/>
                <a:ext cx="699120" cy="378720"/>
              </a:xfrm>
              <a:custGeom>
                <a:avLst/>
                <a:gdLst>
                  <a:gd name="textAreaLeft" fmla="*/ 141480 w 699120"/>
                  <a:gd name="textAreaRight" fmla="*/ 487800 w 699120"/>
                  <a:gd name="textAreaTop" fmla="*/ 50760 h 378720"/>
                  <a:gd name="textAreaBottom" fmla="*/ 327960 h 37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746" hR="21600" stAng="10800000" swAng="5400000"/>
                    <a:lnTo>
                      <a:pt x="10695" y="0"/>
                    </a:lnTo>
                    <a:arcTo wR="8746" hR="21600" stAng="-5400000" swAng="3245163"/>
                    <a:lnTo>
                      <a:pt x="21247" y="15522"/>
                    </a:lnTo>
                    <a:lnTo>
                      <a:pt x="18466" y="21600"/>
                    </a:lnTo>
                    <a:lnTo>
                      <a:pt x="14978" y="15522"/>
                    </a:lnTo>
                    <a:lnTo>
                      <a:pt x="17138" y="15522"/>
                    </a:lnTo>
                    <a:arcTo wR="8746" hR="21600" stAng="-2154837" swAng="-3089202"/>
                    <a:lnTo>
                      <a:pt x="9720" y="135"/>
                    </a:lnTo>
                    <a:arcTo wR="8746" hR="21600" stAng="-5555961" swAng="-5244039"/>
                    <a:close/>
                  </a:path>
                  <a:path fill="darkenLess" w="21600" h="21600">
                    <a:moveTo>
                      <a:pt x="0" y="21600"/>
                    </a:moveTo>
                    <a:arcTo wR="8746" hR="21600" stAng="10800000" swAng="5400000"/>
                    <a:lnTo>
                      <a:pt x="8746" y="0"/>
                    </a:lnTo>
                    <a:arcTo wR="8746" hR="21600" stAng="-5400000" swAng="155961"/>
                    <a:lnTo>
                      <a:pt x="9720" y="135"/>
                    </a:lnTo>
                    <a:arcTo wR="8746" hR="21600" stAng="-5555961" swAng="-5244039"/>
                    <a:close/>
                  </a:path>
                </a:pathLst>
              </a:custGeom>
              <a:solidFill>
                <a:srgbClr val="00b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1" name="AutoShape 7"/>
              <p:cNvSpPr/>
              <p:nvPr/>
            </p:nvSpPr>
            <p:spPr>
              <a:xfrm rot="5400000">
                <a:off x="4741200" y="3063960"/>
                <a:ext cx="699480" cy="378720"/>
              </a:xfrm>
              <a:custGeom>
                <a:avLst/>
                <a:gdLst>
                  <a:gd name="textAreaLeft" fmla="*/ 141480 w 699480"/>
                  <a:gd name="textAreaRight" fmla="*/ 488160 w 699480"/>
                  <a:gd name="textAreaTop" fmla="*/ 50760 h 378720"/>
                  <a:gd name="textAreaBottom" fmla="*/ 327960 h 37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746" hR="21600" stAng="10800000" swAng="5400000"/>
                    <a:lnTo>
                      <a:pt x="10695" y="0"/>
                    </a:lnTo>
                    <a:arcTo wR="8746" hR="21600" stAng="-5400000" swAng="3245163"/>
                    <a:lnTo>
                      <a:pt x="21247" y="15522"/>
                    </a:lnTo>
                    <a:lnTo>
                      <a:pt x="18466" y="21600"/>
                    </a:lnTo>
                    <a:lnTo>
                      <a:pt x="14978" y="15522"/>
                    </a:lnTo>
                    <a:lnTo>
                      <a:pt x="17138" y="15522"/>
                    </a:lnTo>
                    <a:arcTo wR="8746" hR="21600" stAng="-2154837" swAng="-3089202"/>
                    <a:lnTo>
                      <a:pt x="9720" y="135"/>
                    </a:lnTo>
                    <a:arcTo wR="8746" hR="21600" stAng="-5555961" swAng="-5244039"/>
                    <a:close/>
                  </a:path>
                  <a:path fill="darkenLess" w="21600" h="21600">
                    <a:moveTo>
                      <a:pt x="0" y="21600"/>
                    </a:moveTo>
                    <a:arcTo wR="8746" hR="21600" stAng="10800000" swAng="5400000"/>
                    <a:lnTo>
                      <a:pt x="8746" y="0"/>
                    </a:lnTo>
                    <a:arcTo wR="8746" hR="21600" stAng="-5400000" swAng="155961"/>
                    <a:lnTo>
                      <a:pt x="9720" y="135"/>
                    </a:lnTo>
                    <a:arcTo wR="8746" hR="21600" stAng="-5555961" swAng="-5244039"/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2" name="AutoShape 6"/>
              <p:cNvSpPr/>
              <p:nvPr/>
            </p:nvSpPr>
            <p:spPr>
              <a:xfrm>
                <a:off x="3705480" y="3741840"/>
                <a:ext cx="1699920" cy="1046520"/>
              </a:xfrm>
              <a:prstGeom prst="flowChartDocument">
                <a:avLst/>
              </a:prstGeom>
              <a:solidFill>
                <a:srgbClr val="bbe0e3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960" rIns="75960" tIns="37800" bIns="37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olitical </a:t>
                </a:r>
                <a:endParaRPr b="0" lang="en-US" sz="1100" spc="-1" strike="noStrike">
                  <a:solidFill>
                    <a:srgbClr val="80808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cesses</a:t>
                </a:r>
                <a:endParaRPr b="0" lang="en-US" sz="1100" spc="-1" strike="noStrike">
                  <a:solidFill>
                    <a:srgbClr val="80808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3" name="AutoShape 5"/>
              <p:cNvSpPr/>
              <p:nvPr/>
            </p:nvSpPr>
            <p:spPr>
              <a:xfrm rot="5229000">
                <a:off x="4883760" y="3738600"/>
                <a:ext cx="911520" cy="499320"/>
              </a:xfrm>
              <a:custGeom>
                <a:avLst/>
                <a:gdLst>
                  <a:gd name="textAreaLeft" fmla="*/ 184320 w 911520"/>
                  <a:gd name="textAreaRight" fmla="*/ 635760 w 911520"/>
                  <a:gd name="textAreaTop" fmla="*/ 66600 h 499320"/>
                  <a:gd name="textAreaBottom" fmla="*/ 432720 h 49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746" hR="21600" stAng="10800000" swAng="5400000"/>
                    <a:lnTo>
                      <a:pt x="10695" y="0"/>
                    </a:lnTo>
                    <a:arcTo wR="8746" hR="21600" stAng="-5400000" swAng="3245163"/>
                    <a:lnTo>
                      <a:pt x="21247" y="15522"/>
                    </a:lnTo>
                    <a:lnTo>
                      <a:pt x="18466" y="21600"/>
                    </a:lnTo>
                    <a:lnTo>
                      <a:pt x="14978" y="15522"/>
                    </a:lnTo>
                    <a:lnTo>
                      <a:pt x="17138" y="15522"/>
                    </a:lnTo>
                    <a:arcTo wR="8746" hR="21600" stAng="-2154837" swAng="-3089202"/>
                    <a:lnTo>
                      <a:pt x="9720" y="135"/>
                    </a:lnTo>
                    <a:arcTo wR="8746" hR="21600" stAng="-5555961" swAng="-5244039"/>
                    <a:close/>
                  </a:path>
                  <a:path fill="darkenLess" w="21600" h="21600">
                    <a:moveTo>
                      <a:pt x="0" y="21600"/>
                    </a:moveTo>
                    <a:arcTo wR="8746" hR="21600" stAng="10800000" swAng="5400000"/>
                    <a:lnTo>
                      <a:pt x="8746" y="0"/>
                    </a:lnTo>
                    <a:arcTo wR="8746" hR="21600" stAng="-5400000" swAng="155961"/>
                    <a:lnTo>
                      <a:pt x="9720" y="135"/>
                    </a:lnTo>
                    <a:arcTo wR="8746" hR="21600" stAng="-5555961" swAng="-5244039"/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  <p:sp>
          <p:nvSpPr>
            <p:cNvPr id="164" name="Rectangle 3"/>
            <p:cNvSpPr/>
            <p:nvPr/>
          </p:nvSpPr>
          <p:spPr>
            <a:xfrm>
              <a:off x="971640" y="3560760"/>
              <a:ext cx="1371600" cy="1325520"/>
            </a:xfrm>
            <a:prstGeom prst="rect">
              <a:avLst/>
            </a:prstGeom>
            <a:solidFill>
              <a:srgbClr val="b6dde8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1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rivers</a:t>
              </a:r>
              <a:endParaRPr b="0" lang="en-US" sz="11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5" name="Oval 2"/>
            <p:cNvSpPr/>
            <p:nvPr/>
          </p:nvSpPr>
          <p:spPr>
            <a:xfrm>
              <a:off x="6244920" y="3471480"/>
              <a:ext cx="1610640" cy="1476720"/>
            </a:xfrm>
            <a:prstGeom prst="ellipse">
              <a:avLst/>
            </a:prstGeom>
            <a:solidFill>
              <a:srgbClr val="b6dde8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vernance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&amp; Corruption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utcomes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Level 2: Sectoral/thematic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4000" y="1700280"/>
            <a:ext cx="70880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ector-level analysis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o identify specific barriers and opportunities within particular sectors where DEVCO is working e.g. health, education, road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Thematic: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o examine issues arising in relation to one of the enduring non-sectoral challenges of development (e.g. promotion of well-distributed economic growth) or cross-cutting issues (e.g. gender, environment or accountability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Sectoral (continued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4000" y="1700280"/>
            <a:ext cx="70880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ODI/DFID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Start with country analysi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Define sector: players, rel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Political analysis of sector (roles, structures, leadership, finance, incentives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How players influence polic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Operational implic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Also: Jean Bossuyt pres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Level 3:Project/micro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4000" y="1699920"/>
            <a:ext cx="70880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To apply PEA to issues of project/programme design and implementation, or in a specific locality, so as to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dentify opportunities and barriers, and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maximise likelihood of political trac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Project/micro will often be more problem-focussed than contextua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Part 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What is PE, and why is it important to DEVCO operations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103c72"/>
                </a:solidFill>
                <a:latin typeface="Verdana"/>
              </a:rPr>
              <a:t>PART C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103c72"/>
                </a:solidFill>
                <a:latin typeface="Verdana"/>
              </a:rPr>
              <a:t>Two experiences of applying PEA to governance: Rwanda and Bangladesh</a:t>
            </a:r>
            <a:br>
              <a:rPr sz="2400"/>
            </a:b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4000" y="1844280"/>
            <a:ext cx="70880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Why </a:t>
            </a:r>
            <a:r>
              <a:rPr b="1" lang="en-US" sz="2400" spc="-1" strike="noStrike" u="sng">
                <a:solidFill>
                  <a:srgbClr val="103c72"/>
                </a:solidFill>
                <a:uFillTx/>
                <a:latin typeface="Verdana"/>
              </a:rPr>
              <a:t>governance</a:t>
            </a: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, when we are considering PE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4000" y="2060280"/>
            <a:ext cx="70880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This is PE applied to a routine part of the cycle of analysis and decisions of most DPs – it is not something separ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E adds value to the ‘What?’ of governance analysis by ask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Why?’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How promote change?’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What was done (1) Rwanda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08804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me from Kagame in DPs/GOR retreat late 2006.  Fed up with multiple and inconsistent analyses; DPs too not happy with multiplic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Joint and equal ownership (</a:t>
            </a: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Government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nd DPs): reflected in oversight – Steering group, technical group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Objectives: rigorous credible review of institutions laws, processes bearing on governance, and make recommendations; indicators; monitoring syste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mplementation 2008: competitive tender; TORs’ multiple aims; coverage (Ruling Justly, Govt effectiveness; investment environment); 3 phases – methodology; implementation; presentation of draft; finalisation.  Mid-term adjustment; Cabinet approva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2010 follow-up on monitoring indicators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iscussion on full JGA re-run in 2012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What was done (2): </a:t>
            </a:r>
            <a:r>
              <a:rPr b="1" lang="en-US" sz="2400" spc="-1" strike="noStrike">
                <a:solidFill>
                  <a:srgbClr val="103c72"/>
                </a:solidFill>
                <a:latin typeface="Verdana"/>
                <a:ea typeface="Calibri"/>
              </a:rPr>
              <a:t>Bangladesh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4000" y="765000"/>
            <a:ext cx="70880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144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Calibri"/>
              </a:rPr>
              <a:t>Harmonisation: all donors in governance group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144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Calibri"/>
              </a:rPr>
              <a:t>But stated aspiration is to do it with Gov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144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Objectives: common understanding  among DPs; shared vision, basis for action; basis for dialogue with Govt; NO recommendations for gov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144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Ownership is with consultancy team; but if DPs want to take it over, OK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144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mplementation 2010: Steering Group (technical not political); local organisation plus internationa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144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ree stages: methodology; implementation; workshop – presentation / implica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144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ntent: solid PE core; chapter on DP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144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hared analysis – little/no disagreement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144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much follow-up?  Don’t yet know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Lessons (1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94920" y="981000"/>
            <a:ext cx="8064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larity of purpose and scope essentia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ifferent in the two cas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ange of possible purposes: Inform ourselves; Share understanding  among DPs; Basis for dialogue with Govt; Determine financial flow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oth were country/macr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much appetite for PE?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: Not much on part of Gov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ngladesh – much more – but owned by consulta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Oversight arrange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s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eed to be manageable / effici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– Govt and DPs had to negotiate using oversight foru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nsultants need close contact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Lessons (2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799308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4. Role / composition of consultancy tea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n it be done in-house?  If so, goo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uild in DP staff if possible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: technical input / challenge / facili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ngladesh: owned product; more straightforwar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ocal / internationa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ithin team: structure questions; specialist country/sector knowled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716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5. Consultative proces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xterna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– big public forum, and district meeting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ngladesh: used literature more, so meetings were supplementary – some group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eetings, e.g. private busines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ternal with DPs in Bangladesh – important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 drawing out operational implic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716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Lessons (3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94920" y="765000"/>
            <a:ext cx="79218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6. How normativ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: local conditions as starting point + explicit </a:t>
            </a:r>
            <a:r>
              <a:rPr b="0" lang="en-GB" sz="2000" spc="-1" strike="noStrike">
                <a:solidFill>
                  <a:srgbClr val="2d2d8a"/>
                </a:solidFill>
                <a:latin typeface="Verdana"/>
              </a:rPr>
              <a:t>international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norm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ngladesh: starting point local conditions also; ‘prevailing’ expect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7. Indicato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: 45; quite tough; monitored 2010/11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ngladesh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o recommendations for Government, therefore no indicators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et out international experiences; critique of existing Bangladesh indicato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8. How public to be (trade-off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pends on aim, type of analysi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Use consultants’ name and deniabil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9. Build and use local organisations for sustainabil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2d2d8a"/>
                </a:solidFill>
                <a:latin typeface="Verdana"/>
              </a:rPr>
              <a:t>Part D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2d2d8a"/>
                </a:solidFill>
                <a:latin typeface="Verdana"/>
              </a:rPr>
              <a:t>What effects has applying PEA had? 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4920" y="1341000"/>
            <a:ext cx="7921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2d2d8a"/>
                </a:solidFill>
                <a:latin typeface="Verdana"/>
              </a:rPr>
              <a:t>What use has been made of PEA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21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Some effect, but uptake limited overall.  Several areas to go further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Think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Strateg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Dialogue / Oper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Development effectiveness, aid effectivenes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Verdana"/>
              </a:rPr>
              <a:t>Evidence of impact on development effectiveness and aid effectiveness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94920" y="1700280"/>
            <a:ext cx="79218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No review (yet) of overall impact of PEA; there’s a good case for one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Why political economy analysis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4000" y="1125000"/>
            <a:ext cx="70880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The argument for PEA: y</a:t>
            </a: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ears of mistakes and waste in aid programming </a:t>
            </a:r>
            <a:r>
              <a:rPr b="1" lang="en-US" sz="2000" spc="-1" strike="noStrike">
                <a:solidFill>
                  <a:srgbClr val="103c72"/>
                </a:solidFill>
                <a:latin typeface="Wingdings"/>
                <a:ea typeface="Wingdings"/>
              </a:rPr>
              <a:t></a:t>
            </a: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 misunderstandings of country systems – political incentives, informal rules, the reality behind the façad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58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58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58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Rationale for DEVCO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these realities strongly affect development outcome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Basing country and sector strategies, and programme design, implementation and monitoring on a clearer understanding should result in greater </a:t>
            </a:r>
            <a:r>
              <a:rPr b="1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development effectivenes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58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and </a:t>
            </a:r>
            <a:r>
              <a:rPr b="1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aid effectiveness 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(i.e. better results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Verdana"/>
              </a:rPr>
              <a:t>Challenges</a:t>
            </a: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 to adoption of PEA (1)</a:t>
            </a:r>
            <a:br>
              <a:rPr sz="2400"/>
            </a:b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94920" y="981000"/>
            <a:ext cx="7921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Supply side: get product right, get message acros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Clarify aim; beyond contextual analysi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Big-picture issues, but more problem-focu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Positive approach; avoid ‘dismal science of constraints’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Manage expect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‘</a:t>
            </a: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Sell’ approach bette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hallenges to adoption of PEA (2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7920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The PE of development agencie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hard to explain to governments and public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pressure to disburse fund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short time horiz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pressure from domestic lobb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the need to tell positive story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complex motiv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costs and risks for staff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hallenges to adoption of PEA (3) </a:t>
            </a:r>
            <a:br>
              <a:rPr sz="2400"/>
            </a:b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94920" y="1341000"/>
            <a:ext cx="7921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Organisational culture, values and belief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pressure to get things don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wishful think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preference for exper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inflated view of donors’ import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preference for formal institutions and lack of understanding of the informa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models putting capacity at the centr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rapid staff turnover; institutional memory weak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Legitimacy and sensitivity – sovereignty issu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What is political economy analysis? (a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4000" y="1125000"/>
            <a:ext cx="70880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PE analysis is concerned with the interaction of political and economic processes in a society: the distribution of power and wealth between different groups and individuals, and the processes that create, sustain and transform these relationships over tim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It highlight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Politics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--- contestation and bargaining over rights and resourc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Economic processes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at generate wealth and influence polit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Dynamic context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– processes of change ove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im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.../cont’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What is political economy analysis? (b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4000" y="1125000"/>
            <a:ext cx="70880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ighlights (cont’d)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athways of change (‘theories of change’):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determines these, and how (if at all) can aid influence them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nterests and incentives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nd how these generate policy outcom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ole of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 formal institutions and informal social, political and cultural norm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Useful when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inking about the 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feasibility/likelihood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(or ‘political traction’) of policy / institutional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nsidering 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risks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to a country strategy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nd programm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8880" y="285840"/>
            <a:ext cx="67579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Verdana"/>
              </a:rPr>
              <a:t>Three forms of PE analysi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5143320"/>
            <a:ext cx="822960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76240" indent="-419040">
              <a:lnSpc>
                <a:spcPts val="2798"/>
              </a:lnSpc>
              <a:spcBef>
                <a:spcPts val="1001"/>
              </a:spcBef>
              <a:buClr>
                <a:srgbClr val="103c72"/>
              </a:buClr>
              <a:buSzPct val="8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grpSp>
        <p:nvGrpSpPr>
          <p:cNvPr id="115" name="TextBox 4"/>
          <p:cNvGrpSpPr/>
          <p:nvPr/>
        </p:nvGrpSpPr>
        <p:grpSpPr>
          <a:xfrm>
            <a:off x="835200" y="1401840"/>
            <a:ext cx="7327800" cy="1493640"/>
            <a:chOff x="835200" y="1401840"/>
            <a:chExt cx="7327800" cy="1493640"/>
          </a:xfrm>
        </p:grpSpPr>
        <p:pic>
          <p:nvPicPr>
            <p:cNvPr id="116" name="TextBox 4" descr=""/>
            <p:cNvPicPr/>
            <p:nvPr/>
          </p:nvPicPr>
          <p:blipFill>
            <a:blip r:embed="rId1"/>
            <a:stretch/>
          </p:blipFill>
          <p:spPr>
            <a:xfrm>
              <a:off x="835200" y="1401840"/>
              <a:ext cx="732780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857160" y="1428840"/>
              <a:ext cx="7286760" cy="13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Understanding behaviour by identifying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808080"/>
                  </a:solidFill>
                  <a:latin typeface="Arial"/>
                </a:rPr>
                <a:t>systemic constraints: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structural settings, historical legacies, power relations and institutions (rules)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grpSp>
        <p:nvGrpSpPr>
          <p:cNvPr id="118" name="TextBox 5"/>
          <p:cNvGrpSpPr/>
          <p:nvPr/>
        </p:nvGrpSpPr>
        <p:grpSpPr>
          <a:xfrm>
            <a:off x="901800" y="3760920"/>
            <a:ext cx="7261200" cy="871560"/>
            <a:chOff x="901800" y="3760920"/>
            <a:chExt cx="7261200" cy="871560"/>
          </a:xfrm>
        </p:grpSpPr>
        <p:pic>
          <p:nvPicPr>
            <p:cNvPr id="119" name="TextBox 5" descr=""/>
            <p:cNvPicPr/>
            <p:nvPr/>
          </p:nvPicPr>
          <p:blipFill>
            <a:blip r:embed="rId2"/>
            <a:stretch/>
          </p:blipFill>
          <p:spPr>
            <a:xfrm>
              <a:off x="901800" y="3760920"/>
              <a:ext cx="72612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28800" y="3786120"/>
              <a:ext cx="7215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Understanding institutions in terms of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808080"/>
                  </a:solidFill>
                  <a:latin typeface="Arial"/>
                </a:rPr>
                <a:t>actors’ decision logics and choices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grpSp>
        <p:nvGrpSpPr>
          <p:cNvPr id="121" name="TextBox 7"/>
          <p:cNvGrpSpPr/>
          <p:nvPr/>
        </p:nvGrpSpPr>
        <p:grpSpPr>
          <a:xfrm>
            <a:off x="901800" y="5473800"/>
            <a:ext cx="7334280" cy="877680"/>
            <a:chOff x="901800" y="5473800"/>
            <a:chExt cx="7334280" cy="877680"/>
          </a:xfrm>
        </p:grpSpPr>
        <p:pic>
          <p:nvPicPr>
            <p:cNvPr id="122" name="TextBox 7" descr=""/>
            <p:cNvPicPr/>
            <p:nvPr/>
          </p:nvPicPr>
          <p:blipFill>
            <a:blip r:embed="rId3"/>
            <a:stretch/>
          </p:blipFill>
          <p:spPr>
            <a:xfrm>
              <a:off x="901800" y="5473800"/>
              <a:ext cx="733428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928800" y="5500800"/>
              <a:ext cx="728640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Locating the room-for-manoeuvre arising from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808080"/>
                  </a:solidFill>
                  <a:latin typeface="Arial"/>
                </a:rPr>
                <a:t>dynamic features of change processes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24" name="Up-Down Arrow 15"/>
          <p:cNvSpPr/>
          <p:nvPr/>
        </p:nvSpPr>
        <p:spPr>
          <a:xfrm>
            <a:off x="4357800" y="3000240"/>
            <a:ext cx="357120" cy="642960"/>
          </a:xfrm>
          <a:prstGeom prst="upDownArrow">
            <a:avLst>
              <a:gd name="adj1" fmla="val 50000"/>
              <a:gd name="adj2" fmla="val 487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Up-Down Arrow 16"/>
          <p:cNvSpPr/>
          <p:nvPr/>
        </p:nvSpPr>
        <p:spPr>
          <a:xfrm>
            <a:off x="4357800" y="4714920"/>
            <a:ext cx="357120" cy="642960"/>
          </a:xfrm>
          <a:prstGeom prst="upDownArrow">
            <a:avLst>
              <a:gd name="adj1" fmla="val 50000"/>
              <a:gd name="adj2" fmla="val 487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103c72"/>
                </a:solidFill>
                <a:latin typeface="Verdana"/>
              </a:rPr>
              <a:t>Part B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103c72"/>
                </a:solidFill>
                <a:latin typeface="Verdana"/>
              </a:rPr>
              <a:t>How is PEA carried out?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103c72"/>
                </a:solidFill>
                <a:latin typeface="Verdana"/>
              </a:rPr>
              <a:t>An overview of frameworks for </a:t>
            </a:r>
            <a:br>
              <a:rPr sz="2400"/>
            </a:br>
            <a:r>
              <a:rPr b="1" lang="fr-FR" sz="2400" spc="-1" strike="noStrike">
                <a:solidFill>
                  <a:srgbClr val="103c72"/>
                </a:solidFill>
                <a:latin typeface="Verdana"/>
              </a:rPr>
              <a:t>political economy analysi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15640" y="3860280"/>
            <a:ext cx="7088040" cy="2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t is not a hard science; there are different intellectual traditions; there is no single metho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Terminology: frameworks and tool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4000" y="1989000"/>
            <a:ext cx="70880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103c72"/>
                </a:solidFill>
                <a:uFillTx/>
                <a:latin typeface="Verdana"/>
              </a:rPr>
              <a:t>Framework:</a:t>
            </a: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 a broad approach to political economy analysis which includes a structured set of questions to be addressed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103c72"/>
                </a:solidFill>
                <a:uFillTx/>
                <a:latin typeface="Verdana"/>
              </a:rPr>
              <a:t>Tool:</a:t>
            </a: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 a means of addressing one or more of the questions set out in the framework (e.g. stakeholder analysis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Some framework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Drivers of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Strategic Governance and Corruption Assessment (SGACA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SIDA Power Analysi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Democratic Governance Assessment (US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And now: new concept paper of the EC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…</a:t>
            </a: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.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They are evolving all the time, but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they share common features…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userdg8</cp:lastModifiedBy>
  <dcterms:modified xsi:type="dcterms:W3CDTF">2011-07-06T05:56:40Z</dcterms:modified>
  <cp:revision>61</cp:revision>
  <dc:subject/>
  <dc:title>Slide 1</dc:title>
</cp:coreProperties>
</file>