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A5E-85EB-4224-BD94-F795759F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DEC-2939-474C-A70A-3E435E8A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3E2-1922-4305-A681-D4E7A427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2564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4372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0756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2564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4372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9CA-E19B-4330-B752-6A332D85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26B9-05F8-428B-B5DB-16B5600A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602C-FABE-496F-9255-AB78802F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31B2-3CBF-4C3E-9BDE-9CE681D8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E141-9309-4537-ADB4-61D14196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3521-015C-42D3-AA63-0885A16F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97840" y="834120"/>
            <a:ext cx="84405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2007-F5B6-4EB4-9A1E-FC8CBBCA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1DA3-48DD-4450-BD1E-FA474005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467-92D9-40AC-AC2D-8C0A4774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DD20-42A1-4C7F-AEEF-D572296E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E189-7A2D-4C1D-88B7-18ABE3CC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BE9C-2C9E-4811-8E41-A4C2A06F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EAE0-AF61-49DE-B3C2-83231DE2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2564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4372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0756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2564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4372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182C-45F7-4F48-B913-913FAF54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F13-4923-4A42-9063-E6D647F8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E67-4C88-419D-9C40-22EA0EEC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FCC-3EF2-4AD8-82B8-8FE85BB1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97840" y="834120"/>
            <a:ext cx="84405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AE8-EEFB-4BEB-BA9E-BE3941ED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30A-A42E-45EE-A88B-BE1D226A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F2F-D301-4FF7-A8FB-07A44A06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4B8-18DE-463F-827A-DCB2C7AE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54440" cy="6858000"/>
            <a:chOff x="0" y="0"/>
            <a:chExt cx="825444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466440" cy="6858000"/>
              <a:chOff x="0" y="0"/>
              <a:chExt cx="346644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82548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95000" y="0"/>
                <a:ext cx="297144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46960" y="1981080"/>
              <a:ext cx="8007480" cy="319320"/>
              <a:chOff x="246960" y="1981080"/>
              <a:chExt cx="800748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59880" y="1981080"/>
                <a:ext cx="759456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46600" y="1981080"/>
                <a:ext cx="42660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641680" y="6248520"/>
            <a:ext cx="23083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273720" y="6248520"/>
            <a:ext cx="3138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90000" y="6242040"/>
            <a:ext cx="636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D190-1380-47EE-824D-9C05D58F49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6356160" cy="6858000"/>
            <a:chOff x="0" y="0"/>
            <a:chExt cx="635616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9528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2680" y="990720"/>
              <a:ext cx="5613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935160" y="4889520"/>
            <a:ext cx="5283000" cy="318960"/>
            <a:chOff x="3935160" y="4889520"/>
            <a:chExt cx="5283000" cy="318960"/>
          </a:xfrm>
        </p:grpSpPr>
        <p:sp>
          <p:nvSpPr>
            <p:cNvPr id="52" name=""/>
            <p:cNvSpPr/>
            <p:nvPr/>
          </p:nvSpPr>
          <p:spPr>
            <a:xfrm flipH="1">
              <a:off x="3934800" y="4889520"/>
              <a:ext cx="50108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36280" y="4889520"/>
              <a:ext cx="2818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41680" y="6248520"/>
            <a:ext cx="23083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6273720" y="6248520"/>
            <a:ext cx="3138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82080" y="6248520"/>
            <a:ext cx="636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5C4F-8BE2-4F33-B0F0-005B827F6D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1021680" y="1269360"/>
            <a:ext cx="83574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21680" y="1269360"/>
            <a:ext cx="860508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Book Antiqua"/>
              </a:rPr>
              <a:t>Embracing the Political Economy Approach: the Lusaka attempt…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62680" y="2927520"/>
            <a:ext cx="43480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66"/>
                </a:solidFill>
                <a:latin typeface="Book Antiqua"/>
              </a:rPr>
              <a:t>Eric Beaume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66"/>
                </a:solidFill>
                <a:latin typeface="Book Antiqua"/>
              </a:rPr>
              <a:t>EU Delegation to Zambia and COMESA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66"/>
                </a:solidFill>
                <a:latin typeface="Book Antiqua"/>
              </a:rPr>
              <a:t>Governance Seminar  - June 2011, Brussels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832880" y="260280"/>
            <a:ext cx="1530360" cy="944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89960" y="5445000"/>
            <a:ext cx="15541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. iii. The process to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 few lessons learn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spensable buy-in by ALL, in particular senior management and L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cessary devolution of time for ‘intelligence’ work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portune cooperation with Member States and like minded CP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are not exposing anything dramatically new – but exercise helping to better articulate thinking and ac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4. Linking analysis and a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ossible EUD development strate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ke a longer-term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ook for short-term room for manoeuv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direct strategies to shift rules of the g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xation focus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 realistic about capacity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5. Open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olvement of actors not yet engaged: local authorities (notably NAO), NSA, Parliament, other CPs –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en? How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we have means / expertise / time for our PEA ambi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indows of opportunity can be possibly identifi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effective impact on EU cooper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6.i. What next? – at national 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lete the Country level PEA; findings to b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sessed in relation to ongoing cooper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lected in design of 10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F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lected in definition of 11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F (focus on taxation for ex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nked to CPG policy agenda post el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nked to EU HOMS Political Dialogue agend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ine the Agriculture sector PEA; findings to inform engagement with line Ministries in relation to PE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6.ii. What next? – at national 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linkages with WB led PFM PE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with EU MS additional sector PEA (IRL for Education, UK for Health, UK/GIZ for certain aspects of governance, etc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 PEA and Budget Support dynam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6.iii. What next? – at regional 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cess launched in February with IRCC concept not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l analys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o be consider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s part of MTR of 1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DF Regional Strategy for Eastern and Southern Africa – Indian Ocean ‘region’ -&gt; to be further discussed with Djibouti, Tanzania and Mauritius DE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alys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o be possibly factor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design of future regional economic integration interven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The 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reality check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compelling the DEL to consider embarking into a more structured PE approac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The 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opportunity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: DEVCO feeding our local ‘appetite’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The 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process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followed to da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Linking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analysis and ac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Open 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questions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Next steps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[national but also regional]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1.i. The reality check – exter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Critical </a:t>
            </a: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challenges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in (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EU focal)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sectors : Health, Roads, Agricul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Absence of progress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in key / long-awaited PFM re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CP </a:t>
            </a: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frustration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: poverty trends; urban / rural divi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Limited policy / political dialogue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; in spite of sustained PRBS dialogue, exchanges focussed on processes, notably corrective action plans in response to sector challeng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Review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of Joint Assistance Strategy I, elaborated in response to Fifth National Development Pla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Book Antiqua"/>
              </a:rPr>
              <a:t>1.ii. The reality check – inter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Shortcomings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of EDF institutional related programmes to date – ex of Road Development Agenc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10</a:t>
            </a:r>
            <a:r>
              <a:rPr b="0" lang="en-GB" sz="2400" spc="-1" strike="noStrike" baseline="30000">
                <a:solidFill>
                  <a:srgbClr val="003366"/>
                </a:solidFill>
                <a:latin typeface="Book Antiqua"/>
              </a:rPr>
              <a:t>th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EDF Mid Term </a:t>
            </a: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Review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+ ROM + Evalu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Designing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new programmes - biting the 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bullet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, without fully mastering the 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powder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involved: Agriculture Performance Enhancement Programme, PFM, Statistics, Civil Av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Reflecting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on the Reform of TC and the implementation of the Backbone Strategy principles – seminar in 2010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Book Antiqua"/>
              </a:rPr>
              <a:t>1.iii. The reality check – inter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Book Antiqua"/>
              </a:rPr>
              <a:t>Thinking ahead</a:t>
            </a: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: the 11</a:t>
            </a:r>
            <a:r>
              <a:rPr b="0" lang="en-GB" sz="2800" spc="-1" strike="noStrike" baseline="30000">
                <a:solidFill>
                  <a:srgbClr val="003366"/>
                </a:solidFill>
                <a:latin typeface="Book Antiqua"/>
              </a:rPr>
              <a:t>th</a:t>
            </a: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 ED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Book Antiqua"/>
              </a:rPr>
              <a:t>Brainstorming </a:t>
            </a: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on</a:t>
            </a:r>
            <a:r>
              <a:rPr b="1" lang="en-GB" sz="28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Budget Support and EU Development Policy (Green Paper exercise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Book Antiqua"/>
              </a:rPr>
              <a:t>Coping </a:t>
            </a: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with challenges of strengthened EU political mand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 consta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Need to improve our analytical capacity so that we can better understand context within which we are operating, identify drivers for change, the ‘room for manoeuvre’ , the ‘sticking points’; essential if we wish to have  a more meaningful partnership through improved dialogue / engagement with state and non state actors, leading eventually to more effective cooper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. The opportun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etite’ of a core group of DEL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driv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encouraged by senior manag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agion to other colleagues + EU 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incidence with development of new PPCM guidel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CO interest in piloting PEA in Zamb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ing advantage of ‘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maillots jaunes’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Sue and Gare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.i. The process to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anuary: DEL attends DEVCO ‘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E at work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’ semin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bruary: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E Reference Grou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stablished with colleagues (3) from OPS and the Political / Trade Sec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bruary: DEL contacts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Chantal Marijnissen, DEVCO E5 -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Quality Monitoring Systems and Methodologi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 for suppor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bruary: first (failed) attempt to trigger our PEA: a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former PS – MOFNP and current Alternate Executive Director at AfDB decli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y: Scoping mission by Sue Unswo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y: second (successful) attempt with lively presentation by Head of TIZ on foundational factors and rules of the gam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.ii. The process to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2 June 2011: One day semina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cilitated by Sue, Gareth and Neo Simutany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5 participants: DEL, EU MS, NOR, W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idation of draft Country Level P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unch of Agriculture Sector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2:48:32Z</dcterms:created>
  <dc:creator>eklunje</dc:creator>
  <dc:description/>
  <dc:language>en-US</dc:language>
  <cp:lastModifiedBy>userdg8</cp:lastModifiedBy>
  <dcterms:modified xsi:type="dcterms:W3CDTF">2011-07-06T10:05:01Z</dcterms:modified>
  <cp:revision>115</cp:revision>
  <dc:subject/>
  <dc:title>Slide 1</dc:title>
</cp:coreProperties>
</file>