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4B9-A757-42D6-87D1-4C3CAE81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FE5-15DD-4F16-8736-CFE0059D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5C0-A168-42EB-A391-040C3692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35C-76ED-4B7A-B355-CAFFC052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9F5-456E-4B23-85D0-4E492DDF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F08-FA02-4E08-A118-E436EC8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1B97-74DD-45E4-AB0B-74F78AB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7CE2-19EB-488B-A594-F3520DB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AF3-8445-4E3E-AFD1-CBCD90B6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149-8356-4570-A2F0-4DA2DC0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B962-1E78-423A-B09A-3A8F6336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CC1-DFED-46B7-98F1-19E1F27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7731-A9CC-4B18-9CB6-226719E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4964-ABD4-4E07-85FF-F7306F17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5D1-294C-4DF3-8C80-0D674D47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E2B6-4D2F-480F-BF84-E971884A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2564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43720" y="236196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756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2564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43720" y="4307400"/>
            <a:ext cx="26834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4434-15B8-43C9-9720-FCCAAD25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2C1-7E99-48D4-A5C1-F16F22AA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C8F-0FBF-4EDE-A40A-40E54A1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724-0A54-4624-88DA-818B48B1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97840" y="834120"/>
            <a:ext cx="84405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4C5-381A-441D-9789-4FB4D69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7F9-2839-4B96-82F7-88638202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78240" y="430740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729-8D18-4ADE-A643-A3AB67C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756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8240" y="2361960"/>
            <a:ext cx="40669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7560" y="4307400"/>
            <a:ext cx="833436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55C-4936-4B22-90C7-266C5B8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54440" cy="6858000"/>
            <a:chOff x="0" y="0"/>
            <a:chExt cx="8254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466440" cy="6858000"/>
              <a:chOff x="0" y="0"/>
              <a:chExt cx="346644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82548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95000" y="0"/>
                <a:ext cx="297144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46960" y="1981080"/>
              <a:ext cx="8007480" cy="319320"/>
              <a:chOff x="246960" y="1981080"/>
              <a:chExt cx="800748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59880" y="1981080"/>
                <a:ext cx="759456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46600" y="1981080"/>
                <a:ext cx="42660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90000" y="624204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A18-0606-4FFB-85DA-C8E3EFA91D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6356160" cy="6858000"/>
            <a:chOff x="0" y="0"/>
            <a:chExt cx="635616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9528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2680" y="990720"/>
              <a:ext cx="5613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935160" y="4889520"/>
            <a:ext cx="5283000" cy="318960"/>
            <a:chOff x="3935160" y="4889520"/>
            <a:chExt cx="5283000" cy="318960"/>
          </a:xfrm>
        </p:grpSpPr>
        <p:sp>
          <p:nvSpPr>
            <p:cNvPr id="52" name=""/>
            <p:cNvSpPr/>
            <p:nvPr/>
          </p:nvSpPr>
          <p:spPr>
            <a:xfrm flipH="1">
              <a:off x="3934800" y="4889520"/>
              <a:ext cx="50108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36280" y="4889520"/>
              <a:ext cx="2818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41680" y="6248520"/>
            <a:ext cx="23083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6273720" y="6248520"/>
            <a:ext cx="3138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82080" y="6248520"/>
            <a:ext cx="636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B66F-EE50-43A5-8BF5-FECF952B0F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1021680" y="1269360"/>
            <a:ext cx="83574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21680" y="1269360"/>
            <a:ext cx="860508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Book Antiqua"/>
              </a:rPr>
              <a:t>Embracing the Political Economy Approach: the Lusaka attempt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62680" y="2927520"/>
            <a:ext cx="4348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Eric Beaume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EU Delegation to Zambia and COMESA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6666"/>
                </a:solidFill>
                <a:latin typeface="Book Antiqua"/>
              </a:rPr>
              <a:t>Governance Seminar  - June 2011, Brussels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832880" y="260280"/>
            <a:ext cx="1530360" cy="944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89960" y="5445000"/>
            <a:ext cx="15541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 iii. The process to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 few lessons learn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spensable buy-in by ALL, in particular senior management and L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cessary devolution of time for ‘intelligence’ work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portune cooperation with Member States and like minded C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are not exposing anything dramatically new – but exercise helping to better articulate thinking and a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4. Linking analysis and a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ossible EUD development strate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ke a longer-term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ook for short-term room for manoeuv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direct strategies to shift rules of the g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xation focus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 realistic about capacity buil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5. Ope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ment of actors not yet engaged: local authorities (notably NAO), NSA, Parliament, other CPs –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en? How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we have means / expertise / time for our PEA ambi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windows of opportunity can be possibly identifi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effective impact on EU cooper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.i. What next? – at national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te the Country level PEA; findings to b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sessed in relation to ongoing cooper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cted in design of 10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F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lected in definition of 11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F (focus on taxation for ex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nked to CPG policy agenda post el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nked to EU HOMS Political Dialogue agend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ine the Agriculture sector PEA; findings to inform engagement with line Ministries in relation to PE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.ii. What next? – at national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linkages with WB led PFM PE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with EU MS additional sector PEA (IRL for Education, UK for Health, UK/GIZ for certain aspects of governance, etc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PEA and Budget Support dynam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6.iii. What next? – at regional 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 launched in February with IRCC concept no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analys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 be conside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 part of MTR of 10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DF Regional Strategy for Eastern and Southern Africa – Indian Ocean ‘region’ -&gt; to be further discussed with Djibouti, Tanzania and Mauritius D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 be possibly facto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design of future regional economic integration interven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Outl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reality check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compelling the DEL to consider embarking into a more structured PE approa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opportunity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: DEVCO feeding our local ‘appetite’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proces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followed to d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Linking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analysis and ac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Open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question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Next step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[national but also regional]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Book Antiqua"/>
              </a:rPr>
              <a:t>1.i. The reality check – exter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Critical </a:t>
            </a: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challenge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in (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EU focal)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sectors : Health, Roads, Agricul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Absence of progres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in key / long-awaited PFM re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CP </a:t>
            </a: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frustration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: poverty trends; urban / rural div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Limited policy / political dialogue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; in spite of sustained PRBS dialogue, exchanges focussed on processes, notably corrective action plans in response to sector challeng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Review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of Joint Assistance Strategy I, elaborated in response to Fifth National Development Pla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Book Antiqua"/>
              </a:rPr>
              <a:t>1.ii. The reality check – inter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Shortcomings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of EDF institutional related programmes to date – ex of Road Development Agenc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10</a:t>
            </a:r>
            <a:r>
              <a:rPr b="0" lang="en-GB" sz="2400" spc="-1" strike="noStrike" baseline="30000">
                <a:solidFill>
                  <a:srgbClr val="003366"/>
                </a:solidFill>
                <a:latin typeface="Book Antiqua"/>
              </a:rPr>
              <a:t>th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EDF Mid Term </a:t>
            </a: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Review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+ ROM + Evalu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Designing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new programmes - biting 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bullet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, without fully mastering the </a:t>
            </a:r>
            <a:r>
              <a:rPr b="0" i="1" lang="en-GB" sz="2400" spc="-1" strike="noStrike">
                <a:solidFill>
                  <a:srgbClr val="003366"/>
                </a:solidFill>
                <a:latin typeface="Book Antiqua"/>
              </a:rPr>
              <a:t>powder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involved: Agriculture Performance Enhancement Programme, PFM, Statistics, Civil Av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Book Antiqua"/>
              </a:rPr>
              <a:t>Reflecting</a:t>
            </a:r>
            <a:r>
              <a:rPr b="0" lang="en-GB" sz="2400" spc="-1" strike="noStrike">
                <a:solidFill>
                  <a:srgbClr val="003366"/>
                </a:solidFill>
                <a:latin typeface="Book Antiqua"/>
              </a:rPr>
              <a:t> on the Reform of TC and the implementation of the Backbone Strategy principles – seminar in 2010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Book Antiqua"/>
              </a:rPr>
              <a:t>1.iii. The reality check – inter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Thinking ahead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: the 11</a:t>
            </a:r>
            <a:r>
              <a:rPr b="0" lang="en-GB" sz="2800" spc="-1" strike="noStrike" baseline="30000">
                <a:solidFill>
                  <a:srgbClr val="003366"/>
                </a:solidFill>
                <a:latin typeface="Book Antiqua"/>
              </a:rPr>
              <a:t>th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 E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Brainstorming 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on</a:t>
            </a: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Budget Support and EU Development Policy (Green Paper exercise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Book Antiqua"/>
              </a:rPr>
              <a:t>Coping </a:t>
            </a:r>
            <a:r>
              <a:rPr b="0" lang="en-GB" sz="2800" spc="-1" strike="noStrike">
                <a:solidFill>
                  <a:srgbClr val="003366"/>
                </a:solidFill>
                <a:latin typeface="Book Antiqua"/>
              </a:rPr>
              <a:t>with challenges of strengthened EU political mand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constat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eed to improve our analytical capacity so that we can better understand context within which we are operating, identify drivers for change, the ‘room for manoeuvre’ , the ‘sticking points’; essential if we wish to have  a more meaningful partnership through improved dialogue / engagement with state and non state actors, leading eventually to more effective coop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 The opportun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tite’ of a core group of DEL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riv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ncouraged by senior manag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gion to other colleagues + EU 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incidence with development of new PPCM guidel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CO interest in piloting PEA in Zamb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king advantage of ‘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maillots jaunes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Sue and Gare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i. The process to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nuary: DEL attends DEVCO 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E at work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 semin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ruary: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E Reference Grou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stablished with colleagues (3) from OPS and the Political / Trade Sec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ruary: DEL contacts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Chantal Marijnissen, DEVCO E5 -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Quality Monitoring Systems and Methodolog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 for suppor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ruary: first (failed) attempt to trigger our PEA: 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former PS – MOFNP and current Alternate Executive Director at AfDB decli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: Scoping mission by Sue Unswo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y: second (successful) attempt with lively presentation by Head of TIZ on foundational factors and rules of the ga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97840" y="834120"/>
            <a:ext cx="8440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.ii. The process to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7560" y="2361960"/>
            <a:ext cx="833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2 June 2011: One day semin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ilitated by Sue, Gareth and Neo Simutany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5 participants: DEL, EU MS, NOR, W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lidation of draft Country Level P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unch of Agriculture Sector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48:32Z</dcterms:created>
  <dc:creator>eklunje</dc:creator>
  <dc:description/>
  <dc:language>en-US</dc:language>
  <cp:lastModifiedBy>userdg8</cp:lastModifiedBy>
  <dcterms:modified xsi:type="dcterms:W3CDTF">2011-07-06T10:05:01Z</dcterms:modified>
  <cp:revision>115</cp:revision>
  <dc:subject/>
  <dc:title>Slide 1</dc:title>
</cp:coreProperties>
</file>