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0B7-8B5D-4327-8C15-355A9558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03A-BFDE-4384-95F4-4C48C16E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516-1207-4E07-A405-9EFDF2A9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110-F0A9-4A60-9115-A2336B4C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E95-C0FD-426D-9F49-EEA011B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BC9-B11B-4B4E-A466-41E0B89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83E-C789-429B-BD2B-D58F5F86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CCB-5151-4468-B0B3-1A041D8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C24-2E10-4D36-ADAF-D8C2B883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897-BEF1-4608-B6B5-D70E0E4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EB1-8086-4B6B-8AE3-E8AF884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C6D-A5AA-406F-9F11-363E541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A674-76C3-41E6-9F95-4152EC9203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826920" y="1413000"/>
            <a:ext cx="714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 framework for Country Political Economy Assessment with an application to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eth 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licy Practice Lt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835280" y="836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f7f7f"/>
                </a:solidFill>
                <a:latin typeface="Arial"/>
              </a:rPr>
              <a:t>Political Economy a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826920" y="1413000"/>
            <a:ext cx="714384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sources.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arious options for the breadth and depth of the stu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ise.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obably a combination of in house capacity and external expertise.  Mix of local and international consul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iming.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 advance of drafting Country Strategy Paper.  Periodic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Conducting a Country Political Economy Assessment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search methods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Key informant interviews, secondary literature. Draw on a broad range of sources and apply triangulation.  Test and develop ideas through workshops with Delegation and Development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nsuring operational relevanc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Workshop with Delegation.  Capturing key lessons from the PEA to be reflected in EC programming and other operational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Conducting a Country Political Economy Assessment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ne week scoping/research mission in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eparation of draft C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orkshop to discuss draft CPEA with EUD, MS and other Cooperation Partners (end June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mments and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oughly 30 days consulting input.  One international and one local consultant: Sue Unsworth and Neo Simutan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The Zambia Pilot C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826920" y="1413000"/>
            <a:ext cx="714384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storical influ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Colonial inheritance, tax collection structures, labour reserve, haphazard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ocial and economic structur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Ethnic diversity, but lack of inter-ethnic rivalry, internal migration, creation of national identity through independence struggle and organised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Copper as the basis for the centralised system of rent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Foundational Factor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826920" y="1413000"/>
            <a:ext cx="71438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Large land area, low population density, high level of urb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Geostrategic Position: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rontline state against white ruled Rhodesia and apartheid South Africa, Turbulence in Mozambique, Angola, D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Foundational Factor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Distribution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concentrated and centralised in the executive (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slature subordinate to the executive (with few exceptions) acts like rubber stamp of executiv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ry relatively independent, but in sensitive cases has aligned with ruling party and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arrangements of cooptation and patronage weakens organised op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l transfer of power and authority to sub-national government; decentralisation policy has 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826920" y="1413000"/>
            <a:ext cx="7143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Who must the executive listen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ing party (MMD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ful patronage machine (jobs, contracts and other material benefi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urch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. the Catholic Church – extensive network stretching into the remotest rural hinter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e un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weak and disorganised but has potential to organise collective action around public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national Don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in key areas of health and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ge scale companie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-owned mining companies have leverage over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826920" y="1413000"/>
            <a:ext cx="71438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Rules-based behaviou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 within the public sector and between the public and private sector based on personal connections rather than impersonal, publicly recognised, predictable r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mportant decisions reached through intra-elite bargaining rather than formal procedures or instit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uption evident at all levels. But, cultural attitudes are supportive of patronage and cliente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826920" y="1413000"/>
            <a:ext cx="714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Rules-based behaviou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ment and promotion in the public service do not often follow formal rules and procedures.  Political appointees in senior pos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 procedures routinely flouted.  Decisions on large tenders and foreign investment often taken by Stat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are highly personalised.  Internal procedures in relation to membership, elections and fund-raising are not respected.  Political party financing lacks transparency and accoun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SOs lack clear rules about membership, elections and financial proced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826920" y="1413000"/>
            <a:ext cx="71438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litical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on for power based on distribution of patronage (immediate benefits, future rewards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level of political competition fueling corruption and abuse of state resources by the executive and encouraging short-term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mobilisation around ethnicity since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based on personal rather than policy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competition a zero-sum game: those in power would want to retain it at all costs and those in opposition desperate to captur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te bargaining concerned with alternation of power, rather than changing the nature of political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826920" y="1413000"/>
            <a:ext cx="714384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Political Economy Assessment prov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road overview of the country context, the nature of the state and political syst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lysis of how political and economy processes shape the interests, capacity and behaviour of key actors, and how this affects development at country lev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ication of the processes and actors with the potential to change the prevailing incentives (drivers of chan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of the potential for development agencies to promote change, and how they can best use their infl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What is Country Political Economy Assess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826920" y="1413000"/>
            <a:ext cx="714384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Key tren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reased political competition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for alternation in power, winning votes amongst targeted groups key to electoral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ographic change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growth, youth bulge, first time vo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rovements in communication and mass medi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phone connectivity in rural areas; community radios, more informed elect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reased role of foreign investment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na and South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826920" y="1413000"/>
            <a:ext cx="71438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nent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for influence within ruling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Here an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826920" y="1413000"/>
            <a:ext cx="714384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licy failures are well known, but limited space for reform in the near term (logjam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mminent political/financial cr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competition around patronage, winning votes and short-term populist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 pressure from organised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ors have limited le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attitudes not supportive of liberalisation and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emerging pressur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Linking Analysis to Actio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3"/>
          <p:cNvSpPr/>
          <p:nvPr/>
        </p:nvSpPr>
        <p:spPr>
          <a:xfrm>
            <a:off x="684360" y="62064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826920" y="1413000"/>
            <a:ext cx="71438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ations for EC strategy (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longer term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short-term room for manoeuv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medium to long term employ indirect strategies to shift rules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xation is strategicall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se scope for international/E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Linking Analysis to Ac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ounded Rectangle 3"/>
          <p:cNvSpPr/>
          <p:nvPr/>
        </p:nvSpPr>
        <p:spPr>
          <a:xfrm>
            <a:off x="684360" y="62064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826920" y="1413000"/>
            <a:ext cx="71438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ations for EC strateg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on political economy dynamics at local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realistic about capacity building/ systems strength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compelling political narr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impact of donor behaviour and aid modalities on political economy dynam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economy of the EU deleg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Linking Analysis to Action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826920" y="1413000"/>
            <a:ext cx="714384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Political Economy Assessment is useful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etter understanding the countries where the E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ing a more grounded and realistic Country Strategy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ing choices about priorities for EC support, implementation arrangements and mod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etter assessment of country programme level risk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forming EC’s strategy on how to engage in country level policy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How can Country Political Economy Assessment by used by the 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826920" y="141300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Foundatio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Rules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Here and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Linking analysis an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Structure of the Country Political Econom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826920" y="1413000"/>
            <a:ext cx="71438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ng term factors shaping the broad character of the state and political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itor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strategic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infl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and economic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s of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Foundati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826920" y="1413000"/>
            <a:ext cx="71438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mal institutions (constitutional rules and codified laws), and informal institutions (political, social and cultural n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les-based behaviour or personalised r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tion for politic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Rules of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826920" y="1413000"/>
            <a:ext cx="71438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ay in which political processes are playing out in the near te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recent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Here an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ow can political incentives become more supportive of developmental change?  What processes and actors c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the prevailing political incentives (drivers of change)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level of influence do development agencies have?  What is the potential for reform, and how can the EC work most effectively to support re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EC operational implication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826920" y="1413000"/>
            <a:ext cx="71438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should be the priorities for EC programming? Choice of focal and non-focal sectors, supply- or demand-side approaches to promoting reform, opportunities for promoting state-society eng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are the risks highlighted by PEA in the proposed country strategy and programming?  Scenarios? What are the realistic timescales for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are the implications of the CPEA for conducting policy dialog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non-aid instruments can be used to promote re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EC operational implication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41:34Z</dcterms:created>
  <dc:creator>Gareth Williams</dc:creator>
  <dc:description/>
  <dc:language>en-US</dc:language>
  <cp:lastModifiedBy>Gareth</cp:lastModifiedBy>
  <dcterms:modified xsi:type="dcterms:W3CDTF">2011-07-06T08:58:17Z</dcterms:modified>
  <cp:revision>194</cp:revision>
  <dc:subject/>
  <dc:title>Slide 1</dc:title>
</cp:coreProperties>
</file>