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505-A6D5-4AEE-8956-A5EB87C7C597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EDA-EFAA-4ED7-A214-822250A26FD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A92B-D2DC-4E9E-A7D0-AF7DBF80603C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B720-DBE9-447D-92D0-A8B630E22C52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612-C883-43E3-A04C-791888F77194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5D80-ABA4-4E9D-A7B3-CDD19B5FC30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30B-190E-4D2A-ABEF-4DC1E0A2EE1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99F-6F0A-4A33-AA4E-C9AD4809542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8DC8-9A8E-4EFB-9898-A828CAC0768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F49-EDA4-4051-A7CE-7C6B01B895D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81F4-742A-4FF1-B340-0DC124C1570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E00-9EC1-4834-8477-E661FFCA188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04E-4F3D-41D7-81B7-E06A61F468B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300-2B13-4685-9D6C-BDDAA6134CC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2293-3747-46CE-B985-E557BF8A7B76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2792-7637-4B9A-A1CE-B8C59177362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9E1-F3E2-4EE0-ABCE-B536851A328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6AA6-A075-4A35-AAC1-20BF003A2B4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D7D5-5803-4CA5-8BE6-71366A08906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501D-B741-4F3F-8996-D4F5163A883D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872-429B-42F5-A391-C3CBA436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4DA-3639-4EE6-8BBD-52B0985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7FA-22AD-454B-8EEE-709485F3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43A-FD8F-4F2F-9D3D-EAF3DA86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E4B-62EA-488B-97B9-5BBF346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1F0-42B7-4654-929D-1614E6F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D0A-7653-4A18-944D-A331A76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F4E6-107E-4BB2-9143-1FF4978D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B8A7-40F7-4A56-80FF-6B128BF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C77-C3FD-4AFA-B64A-E6F6DC3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CEE-AB1F-4F4A-9E65-35B8C46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763-A25E-4A74-87E6-C312DD6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5373-7E02-4C93-BA99-9BD4733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4AC-6F63-4DF1-9EB8-D9A5D5B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61C-9090-4A5B-BA9F-FE7D17A2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88B-2854-4522-94AF-1FF7B047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221-7865-4105-8A51-BA889661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DF7-0CE3-42DB-A546-678FDCD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543-E41F-46CE-A6AB-6FC5DB8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EA9-56D4-4638-9F38-2400398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B36-A524-4D38-B1F6-363D0D3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E6F-3A32-4CC2-B1FA-D9989AE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1B7-5580-4A4D-A794-502D1A8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632-6DD5-40A1-990E-31B0901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880-CA14-441D-A6E9-4BDD625580E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07F-00A2-427A-8E5E-B85DBC4E9AD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64320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51560" y="486900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7280" y="1628640"/>
            <a:ext cx="4861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Criminalization and law enforc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datory offences – bribery, embezzlement, money laundering, obstruction of justi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criminal offences – passive bribery, influence trading, abuse of func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nternational coop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tradi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tual legal assistance in investigations, prosecution and legal proceeding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sset reco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return of assets is a fundamental principle of this Convention…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ates Parties must require their financial institutions to be vigilant 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turn of assets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bezzled public funds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turn to requesting Party 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ceeds of other offences of corruption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turn to requesting Party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fiscated property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Returned to the requesting Party or for compensating victims 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elf-assessment system (UNODC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eer review proces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ach State reviewed by two other States. State under review should be involv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Governmental experts will be appointed by States to carry out review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ctive dialogue between the country under review and reviewers is a key component of the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3992760" cy="2559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CAC Implementation Challeng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eak on enforcement tools – e.g. accountabilit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echanism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oes not address political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ynamics which hinde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ti-corruption refor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lf-assessment does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ider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y not be prescriptiv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nough relating to oversigh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stitu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contribute to public deb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improve quality of rules – i.e. institutional legislative framework – and provide mutual legal assist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definition of corruption 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explicitly recognises particular acts of corruption and related off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datory offenc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and passive bribery of national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bribery of foreign an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tional 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bezzlement, misappropriation or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ther diversion of property by a public official; and,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aundering of the proceeds of corruption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s the following acts as mandatory that the UNCAC does no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assive bribery of foreign an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tional 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and passive bribery in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ivate sector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rading in influence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bezzlement, misappropriation or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ther diversion of property in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ivate sector; and,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llicit enrich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t of provisos to integrate into all public officials’ Codes of Condu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poses special control body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velop and monito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of codes of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duct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aise awareness, an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training for public officia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n ethical good-practice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ablish, maintain and strengthen independent national anti-corruption agenci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phasis on dealing with proceeds of corruption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State Parties enact laws to empower authorities to seize financial documen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Measures to establish conversion, transfe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nd disposal of proceeds of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dvisory Board on Corruption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promote anti-corruption work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develop methodologies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llect information on corruption and behaviou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of multinational corporations working on the African continent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dvise the governments on implementation of convention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develop codes of conduct for public officials; an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build partnership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tates Parties mus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bmit reports regularly to the AU’s Executive Council detailing progress in compliance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their national anti-corru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uthorities annually report to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dvisory Board on implementa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gr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partnerships with the Africa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mmission on Human and Peoples’ Right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frican civil society, and governmental, intergovernmental and non-governmental organisations to facilitate dialogue in the fight against corruption and related offences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79280" y="620640"/>
          <a:ext cx="8496360" cy="5762520"/>
        </p:xfrm>
        <a:graphic>
          <a:graphicData uri="http://schemas.openxmlformats.org/drawingml/2006/table">
            <a:tbl>
              <a:tblPr/>
              <a:tblGrid>
                <a:gridCol w="762120"/>
                <a:gridCol w="663480"/>
                <a:gridCol w="662040"/>
                <a:gridCol w="1639800"/>
                <a:gridCol w="2022480"/>
                <a:gridCol w="1422360"/>
                <a:gridCol w="1324080"/>
              </a:tblGrid>
              <a:tr h="2224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m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h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vantag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eakness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fenc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ECD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/inter-region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iminalisation and mutual legal assistance measures, as well as requirements regarding company account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resses supply side of international corruption with regard to the main exporting nation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vides for extensive and rigorous monitoring of countries´ compliance with the Conven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resolved: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acts in relation to foreign political partie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vantages promised or given to any person in anticipation of that person becoming a foreign public official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role of off-shore centers in bribery transaction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–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eign public officia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CAC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ention, criminalization, international coopera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novation – asset recovery, broadest range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all art. bin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blic/private recognized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58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 Convention on Prevention and Combating Corrup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ention, criminalization, regional cooperation, mutual legal assistance and recovery of asset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rehensive approach, mandatory provisions with respect to private-to-private corruption and on transparency in political party fun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datory requirements of declaration of assets by designated public officials and restrictions on immunity for public officia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n for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(domestic or foreign), diversion of property by public officials, trading in influence, illicit enrichment, money laundering and concealment of property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blic and privat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itle 1"/>
          <p:cNvSpPr/>
          <p:nvPr/>
        </p:nvSpPr>
        <p:spPr>
          <a:xfrm>
            <a:off x="324000" y="189000"/>
            <a:ext cx="8820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view of OECD, UNCAC and AUCPCC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d2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3c72"/>
                </a:solidFill>
                <a:latin typeface="Verdana"/>
              </a:rPr>
              <a:t>OECD Convention on Combating Briber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Verdana"/>
              </a:rPr>
              <a:t>United Nations Convention against Corruption (UNCAC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3c72"/>
                </a:solidFill>
                <a:latin typeface="Verdana"/>
              </a:rPr>
              <a:t>African Union Convention on Preventing and Combating Corruption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4000" y="364320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51560" y="486900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Historical Contex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810 Napoleonic Co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77 Foreign Corrupt Practices Act (FCPA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6 Inter-American Convention against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7 OECD Convention on Combating Bribery of Foreign Public Officials in International Business Transa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8 Council of Europe Criminal Law Convention on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9 Council of Europe Civil Law Convention on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03 African Union Convention on Preventing and Combating Corruption, AUCA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03 United Nations Convention against Corruption, UNCA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48000" y="1267920"/>
            <a:ext cx="5338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7 OECD Convention on Combating Bribery of Foreign Public Officials in International Business Transac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8 Signatori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ECD Memb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gentin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razi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ulgar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on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loven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outh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ll signatories recently adopted the 2009 Anti Bribery Recommend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48000" y="1700280"/>
            <a:ext cx="5338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imarily focused on the ‘supply side’ of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(i.e. those that give the bribe – voluntarily or no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fines and criminalises the act of bribing foreign officia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Does not cover private-to-private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prevention, witness protection, whistleblowers, facilitation pay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600200"/>
            <a:ext cx="5554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ignatories mus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ablish, as a crime, the bribery of public servants within national legal framework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means and measures to: ‘prevent, detect, investigate, prosecute and sanction foreign bribery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road interpretation of territorial basis for jurisdic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asier to sanction cross-border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32000" y="1125000"/>
            <a:ext cx="5554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and monitoring through OECD Working Group on Bribery in International Business Transa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wo phase review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hase One: Evaluates adequacy of signatory country’s legislation to implement the Conven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hase Two: Assesses whether a country is applying this legislation effectivel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ticipating delegates are subject to evaluation 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ND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expected to act as evalu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Lack of active enforcement by majority of parties so fa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775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4 key pillars of the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371600" y="2590920"/>
            <a:ext cx="6400800" cy="3047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1371600" y="3048120"/>
            <a:ext cx="6400800" cy="30477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990720" y="1523880"/>
            <a:ext cx="1828440" cy="1904760"/>
            <a:chOff x="990720" y="1523880"/>
            <a:chExt cx="1828440" cy="1904760"/>
          </a:xfrm>
        </p:grpSpPr>
        <p:sp>
          <p:nvSpPr>
            <p:cNvPr id="126" name="Oval 6"/>
            <p:cNvSpPr/>
            <p:nvPr/>
          </p:nvSpPr>
          <p:spPr>
            <a:xfrm>
              <a:off x="990720" y="3102120"/>
              <a:ext cx="1680120" cy="326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990720" y="1523880"/>
              <a:ext cx="1828440" cy="161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Prevention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(Art. 5-14) 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037280" y="4292640"/>
            <a:ext cx="1782360" cy="1828080"/>
            <a:chOff x="7037280" y="4292640"/>
            <a:chExt cx="1782360" cy="1828080"/>
          </a:xfrm>
        </p:grpSpPr>
        <p:sp>
          <p:nvSpPr>
            <p:cNvPr id="129" name="Oval 9"/>
            <p:cNvSpPr/>
            <p:nvPr/>
          </p:nvSpPr>
          <p:spPr>
            <a:xfrm>
              <a:off x="7241760" y="5772600"/>
              <a:ext cx="1535040" cy="348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7037280" y="4292640"/>
              <a:ext cx="1782360" cy="151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International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opera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(Art.43-50)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395280" y="4365720"/>
            <a:ext cx="1980720" cy="1752120"/>
            <a:chOff x="395280" y="4365720"/>
            <a:chExt cx="1980720" cy="1752120"/>
          </a:xfrm>
        </p:grpSpPr>
        <p:sp>
          <p:nvSpPr>
            <p:cNvPr id="132" name="Oval 12"/>
            <p:cNvSpPr/>
            <p:nvPr/>
          </p:nvSpPr>
          <p:spPr>
            <a:xfrm>
              <a:off x="509040" y="5784120"/>
              <a:ext cx="1705680" cy="333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>
              <a:off x="395280" y="4365720"/>
              <a:ext cx="1980720" cy="145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Asset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covery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(Art.51-59)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6324480" y="1447920"/>
            <a:ext cx="1828440" cy="1980360"/>
            <a:chOff x="6324480" y="1447920"/>
            <a:chExt cx="1828440" cy="1980360"/>
          </a:xfrm>
        </p:grpSpPr>
        <p:sp>
          <p:nvSpPr>
            <p:cNvPr id="135" name="Oval 15"/>
            <p:cNvSpPr/>
            <p:nvPr/>
          </p:nvSpPr>
          <p:spPr>
            <a:xfrm>
              <a:off x="6429240" y="3068280"/>
              <a:ext cx="1574640" cy="360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6324480" y="1447920"/>
              <a:ext cx="1828440" cy="156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riminalization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(Art. 15-42) 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3429000" y="1413000"/>
            <a:ext cx="234000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revention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ive and coordinated anti-corruption policies 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-corruption bod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 and fair public procurement 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pendent judiciar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ir and transparent private sect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40:52Z</dcterms:created>
  <dc:creator>Sumedh Rao</dc:creator>
  <dc:description/>
  <dc:language>en-US</dc:language>
  <cp:lastModifiedBy>MUGERIN Coralie (DEVCO)</cp:lastModifiedBy>
  <dcterms:modified xsi:type="dcterms:W3CDTF">2012-08-02T15:18:40Z</dcterms:modified>
  <cp:revision>130</cp:revision>
  <dc:subject/>
  <dc:title>International Conventions Combating Corruption</dc:title>
</cp:coreProperties>
</file>