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eece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123F8-8E46-48BD-BE5D-099B73FA593D}" type="slidenum">
              <a:rPr b="0" lang="en-GB" sz="12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80670-1AB2-4377-B675-BE8D3A0BA3EF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A670F-8EA5-4D2D-94E0-1484B1566D98}" type="slidenum">
              <a:rPr b="0" lang="en-US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B71AA-3F35-48E5-98B1-D4CDCFB2C3CF}" type="slidenum">
              <a:rPr b="0" lang="en-US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DE0FF-BF9E-4191-9C4B-F6BE89559FCA}" type="slidenum">
              <a:rPr b="0" lang="en-US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30277-2408-445A-920F-FAE969DEE4A2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AD670-16AF-45E4-B623-FA4CFD458F2F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9FE28-8CC1-4E59-B583-F322AC0400A6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3FB8D-16C8-417C-8763-DEA3F007A9C8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5D374-6EB0-4246-AE0A-1A923A6378C6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BB3F2-93C9-465D-8732-77C1FF1626F3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6A10B-7127-4681-AA6A-276DA988A901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43DCF-1EAB-46CA-B0AF-1759507B8849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9DA91-B06E-42CA-A2B5-361484EE0F7F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45700-F968-4F3D-B9C0-BA4B30E2BBFF}" type="slidenum">
              <a:rPr b="0" lang="en-US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38973-12FB-4CD0-8D11-987AC4794BC8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5CAC5-E8C3-4B6B-874F-3F21A1499B1C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CE820-B2B3-4B7C-B8C6-F6A648D77F26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E59DB-1031-4669-9B65-16A5D2D330E8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A54BA-C4EE-4E04-ABC5-BAF8DF1A362D}" type="slidenum">
              <a:rPr b="0" lang="en-US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6D4E-8FD6-4BA3-956C-13FA3C220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AF82-C622-4163-B23B-466D807F7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EC63-45A6-4EFA-BEAB-D86F92D03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F02B-B467-4C05-B9D7-3188036D6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5773A-29C7-429E-98B3-45325C527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FCADA-95AF-4CE0-B582-69B24C94A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E02D3-7A52-44DB-95D5-1710D01D4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66F8A-66A6-4F11-A288-A66612E15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E63B0-AB71-4EF4-A0C7-5FC020371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D524D-6E74-4C5E-9939-114F5838D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CC044-11B3-40CB-8F2A-F58689BA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DAAC-D47D-4E86-9CE8-D35EE34B4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F7029-CB55-4EE6-BFE2-AD4D81B82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6B761-C570-489A-A9DD-AD1670403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2DC8A-A109-4E1F-ACE9-8E6DC21C0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867B7-B102-46F9-ADA7-37157377C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F4C1B-3CF7-4843-BD9F-93E0875A6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240A-F226-427C-8459-6EFA50564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BE7C-C21C-4B49-99C8-AFBB9A3B3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93B2-9DBD-427D-9CBE-595B8528B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C896-CDD2-4916-8A97-C3E83EB53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53D9-A312-452A-BC82-201A456F3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15AA-4142-44A7-9036-5B4717F68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A807-5C6D-486C-8843-D7D8B9F9B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7D63A-AAFB-490A-BC3F-E34D0461F704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9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50" name="Rectangle 10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51" name="Group 11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52" name="Rectangle 12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3" name="Rectangle 13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4" name="Rectangle 14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28436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75528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556BA-2FB4-4B19-B3C9-4D6D184F44F1}" type="slidenum">
              <a:rPr b="0" lang="en-GB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International Conventions Combating Corruption </a:t>
            </a:r>
            <a:endParaRPr b="1" lang="en-US" sz="28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84000" y="3643200"/>
            <a:ext cx="708804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Mr Sumedh Rao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, </a:t>
            </a:r>
            <a:r>
              <a:rPr b="0" i="1" lang="en-GB" sz="2000" spc="-1" strike="noStrike">
                <a:solidFill>
                  <a:srgbClr val="103c72"/>
                </a:solidFill>
                <a:latin typeface="Verdana"/>
              </a:rPr>
              <a:t>Governance &amp; Social Development Resource Centre (GSDRC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1051560" y="4869000"/>
            <a:ext cx="66852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3c72"/>
                </a:solidFill>
                <a:latin typeface="Verdana"/>
              </a:rPr>
              <a:t>European Commission Training Seminar: EC Support to Governance 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3c72"/>
                </a:solidFill>
                <a:latin typeface="Verdana"/>
              </a:rPr>
              <a:t>in Partner Countries (Africa focus) </a:t>
            </a:r>
            <a:br>
              <a:rPr sz="1600"/>
            </a:br>
            <a:r>
              <a:rPr b="0" lang="en-GB" sz="1600" spc="-1" strike="noStrike">
                <a:solidFill>
                  <a:srgbClr val="103c72"/>
                </a:solidFill>
                <a:latin typeface="Verdana"/>
              </a:rPr>
              <a:t>4-8 July 2011 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47640" y="587520"/>
            <a:ext cx="7772400" cy="98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United Nations Convention against Corruption (UNCAC)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47280" y="1628640"/>
            <a:ext cx="48610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Criminalization and law enforcement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Mandatory offences – bribery, embezzlement, money laundering, obstruction of justice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Other criminal offences – passive bribery, influence trading, abuse of functio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International cooperatio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xtradition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Mutual legal assistance in investigations, prosecution and legal proceeding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000000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5508720" y="1628640"/>
            <a:ext cx="284796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0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10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47640" y="587520"/>
            <a:ext cx="7772400" cy="98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United Nations Convention against Corruption (UNCAC)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47280" y="1628280"/>
            <a:ext cx="486108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77120" indent="-17712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Asset recover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return of assets is a fundamental principle of this Convention…”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tates Parties must require their financial institutions to be vigilant  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Return of assets: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000000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Embezzled public funds </a:t>
            </a:r>
            <a:r>
              <a:rPr b="0" lang="en-GB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Return to requesting Party </a:t>
            </a:r>
            <a:endParaRPr b="0" lang="en-US" sz="14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000000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Proceeds of other offences of corruption </a:t>
            </a:r>
            <a:r>
              <a:rPr b="0" lang="en-GB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Return to requesting Party</a:t>
            </a:r>
            <a:endParaRPr b="0" lang="en-US" sz="14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000000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Confiscated property </a:t>
            </a:r>
            <a:r>
              <a:rPr b="0" lang="en-GB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 Returned to the requesting Party or for compensating victims </a:t>
            </a:r>
            <a:endParaRPr b="0" lang="en-US" sz="14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000000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000000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5508720" y="1628640"/>
            <a:ext cx="284796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0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1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1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10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10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10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47640" y="587520"/>
            <a:ext cx="7772400" cy="98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United Nations Convention against Corruption (UNCAC)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47280" y="1628280"/>
            <a:ext cx="486108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69920" indent="-1699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Self-assessment system (UNODC)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69920" indent="-1699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Peer review process: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1" marL="698400" indent="-26856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Each State reviewed by two other States. State under review should be involved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698400" indent="-26856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Governmental experts will be appointed by States to carry out reviews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698400" indent="-26856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Active dialogue between the country under review and reviewers is a key component of the proces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69920" indent="-1699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698400" indent="-26856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698400" indent="-26856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5508720" y="1628640"/>
            <a:ext cx="284796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0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1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4643280" y="2205000"/>
            <a:ext cx="3992760" cy="255924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UNCAC Implementation Challenges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26828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162720" indent="-1627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Weak on enforcement tools – e.g. accountability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mechanism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Does not address political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dynamics which hinder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anti-corruption reform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Self-assessment does no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consider contex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May not be prescriptive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enough relating to oversight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institution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0" lang="en-GB" sz="2000" spc="-1" strike="noStrike" u="sng">
                <a:solidFill>
                  <a:srgbClr val="103c72"/>
                </a:solidFill>
                <a:uFillTx/>
                <a:latin typeface="Verdana"/>
              </a:rPr>
              <a:t>BUT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Can contribute to public debat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Can improve quality of rules – i.e. institutional legislative framework – and provide mutual legal assistanc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1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10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10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10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10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10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10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10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1000" fill="hold"/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1000" fill="hold"/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1000" fill="hold"/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1000" fill="hold"/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1000" fill="hold"/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1000" fill="hold"/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1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1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The African Union Convention on Preventing and Combating Corruption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6840" y="1600200"/>
            <a:ext cx="793116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No definition of corruption </a:t>
            </a:r>
            <a:r>
              <a:rPr b="0" lang="en-GB" sz="2000" spc="-1" strike="noStrike" u="sng">
                <a:solidFill>
                  <a:srgbClr val="103c72"/>
                </a:solidFill>
                <a:uFillTx/>
                <a:latin typeface="Verdana"/>
              </a:rPr>
              <a:t>but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 explicitly recognises particular acts of corruption and related offence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Mandatory offences: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Active and passive bribery of national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ublic officials;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Active bribery of foreign and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nternational public officials;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Embezzlement, misappropriation or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other diversion of property by a public official; and,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Laundering of the proceeds of corruption.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5796000" y="2565360"/>
            <a:ext cx="2562120" cy="22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0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1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1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10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10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10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10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1000" fill="hold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1000" fill="hold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1000" fill="hold"/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1000" fill="hold"/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The African Union Convention on Preventing and Combating Corruption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6840" y="1600200"/>
            <a:ext cx="793116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Includes the following acts as mandatory that the UNCAC does not: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assive bribery of foreign and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nternational public officials;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Active and passive bribery in the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rivate sector;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Trading in influence;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Embezzlement, misappropriation or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other diversion of property in the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rivate sector; and,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llicit enrichment.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5796000" y="2565360"/>
            <a:ext cx="2562120" cy="22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0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1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1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10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10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10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10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1000" fill="hold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1000" fill="hold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1000" fill="hold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1000" fill="hold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The African Union Convention on Preventing and Combating Corruption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6840" y="1600200"/>
            <a:ext cx="793116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160920" indent="-1609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Set of provisos to integrate into all public officials’ Codes of Conduc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60920" indent="-16092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60920" indent="-1609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Proposes special control body to: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660960" indent="-25416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develop and monitor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660960" indent="-25416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implementation of codes of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660960" indent="-25416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conduct,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660960" indent="-25416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raise awareness, and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660960" indent="-25416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provide training for public officials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660960" indent="-25416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on ethical good-practice.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660960" indent="-25416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60920" indent="-1609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Establish, maintain and strengthen independent national anti-corruption agencies.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60920" indent="-16092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5796000" y="2565360"/>
            <a:ext cx="2562120" cy="22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0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1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1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10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10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10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10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10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10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10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10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1000" fill="hold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1000" fill="hold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1000" fill="hold"/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1000" fill="hold"/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5796000" y="2565360"/>
            <a:ext cx="2562120" cy="225288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The African Union Convention on Preventing and Combating Corruption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6840" y="1600200"/>
            <a:ext cx="793116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73520" indent="-1735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Emphasis on dealing with proceeds of corruption: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13160" indent="-27432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3c72"/>
                </a:solidFill>
                <a:latin typeface="Verdana"/>
              </a:rPr>
              <a:t>State Parties enact laws to empower authorities to seize financial documents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713160" indent="-27432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3c72"/>
                </a:solidFill>
                <a:latin typeface="Verdana"/>
              </a:rPr>
              <a:t>Measures to establish conversion, transfer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713160" indent="-27432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103c72"/>
                </a:solidFill>
                <a:latin typeface="Verdana"/>
              </a:rPr>
              <a:t>and disposal of proceeds of corruption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173520" indent="-1735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Advisory Board on Corruption: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13160" indent="-27432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3c72"/>
                </a:solidFill>
                <a:latin typeface="Verdana"/>
              </a:rPr>
              <a:t>promote anti-corruption work; 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713160" indent="-27432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3c72"/>
                </a:solidFill>
                <a:latin typeface="Verdana"/>
              </a:rPr>
              <a:t>develop methodologies; 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713160" indent="-27432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3c72"/>
                </a:solidFill>
                <a:latin typeface="Verdana"/>
              </a:rPr>
              <a:t>collect information on corruption and behaviour 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713160" indent="-27432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103c72"/>
                </a:solidFill>
                <a:latin typeface="Verdana"/>
              </a:rPr>
              <a:t>of multinational corporations working on the African continent; 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713160" indent="-27432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3c72"/>
                </a:solidFill>
                <a:latin typeface="Verdana"/>
              </a:rPr>
              <a:t>advise the governments on implementation of convention; 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713160" indent="-27432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3c72"/>
                </a:solidFill>
                <a:latin typeface="Verdana"/>
              </a:rPr>
              <a:t>develop codes of conduct for public officials; and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713160" indent="-27432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3c72"/>
                </a:solidFill>
                <a:latin typeface="Verdana"/>
              </a:rPr>
              <a:t>build partnerships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73520" indent="-1735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0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1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1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10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10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10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10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10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10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1000" fill="hold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1000" fill="hold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10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10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1000" fill="hold"/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1000" fill="hold"/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5796000" y="2565360"/>
            <a:ext cx="2562120" cy="225288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The African Union Convention on Preventing and Combating Corruption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6840" y="1600200"/>
            <a:ext cx="793116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77120" indent="-1771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States Parties must: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Submit reports regularly to the AU’s Executive Council detailing progress in compliance.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Have their national anti-corruption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authorities annually report to the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Advisory Board on implementation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rogres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Build partnerships with the Africa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Commission on Human and Peoples’ Rights,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African civil society, and governmental, intergovernmental and non-governmental organisations to facilitate dialogue in the fight against corruption and related offences.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nodeType="clickEffect" fill="hold">
                      <p:stCondLst>
                        <p:cond delay="0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10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10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10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10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10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10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1000" fill="hold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1000" fill="hold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1000" fill="hold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1000" fill="hold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179280" y="620640"/>
          <a:ext cx="8496360" cy="5762520"/>
        </p:xfrm>
        <a:graphic>
          <a:graphicData uri="http://schemas.openxmlformats.org/drawingml/2006/table">
            <a:tbl>
              <a:tblPr/>
              <a:tblGrid>
                <a:gridCol w="762120"/>
                <a:gridCol w="663480"/>
                <a:gridCol w="662040"/>
                <a:gridCol w="1639800"/>
                <a:gridCol w="2022480"/>
                <a:gridCol w="1422360"/>
                <a:gridCol w="1324080"/>
              </a:tblGrid>
              <a:tr h="222480"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ame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ear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ach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easures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dvantages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eaknesses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ffences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8960"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ECD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97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lobal/inter-regional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riminalisation and mutual legal assistance measures, as well as requirements regarding company accounting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ddresses supply side of international corruption with regard to the main exporting nations. 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vides for extensive and rigorous monitoring of countries´ compliance with the Convention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nresolved: 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ribery acts in relation to foreign political parties. 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dvantages promised or given to any person in anticipation of that person becoming a foreign public official. 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he role of off-shore centers in bribery transactions. 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ribery – 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oreign public officials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280"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NCAC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03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lobal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evention, criminalization, international cooperation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novation – asset recovery, broadest range 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nitoring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t all art. binding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ublic/private recognized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5800"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U Convention on Prevention and Combating Corruption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03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gional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evention, criminalization, regional cooperation, mutual legal assistance and recovery of assets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mprehensive approach, mandatory provisions with respect to private-to-private corruption and on transparency in political party funding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ndatory requirements of declaration of assets by designated public officials and restrictions on immunity for public officials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t in force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ribery (domestic or foreign), diversion of property by public officials, trading in influence, illicit enrichment, money laundering and concealment of property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ublic and private</a:t>
                      </a:r>
                      <a:endParaRPr b="0" lang="en-US" sz="11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Title 1"/>
          <p:cNvSpPr/>
          <p:nvPr/>
        </p:nvSpPr>
        <p:spPr>
          <a:xfrm>
            <a:off x="324000" y="189000"/>
            <a:ext cx="882000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Overview of OECD, UNCAC and AUCPCC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nodeType="clickEffect" fill="hold">
                      <p:stCondLst>
                        <p:cond delay="0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8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d200"/>
                </a:solidFill>
                <a:latin typeface="Verdana"/>
              </a:rPr>
              <a:t>International Conventions Combating Corruption </a:t>
            </a:r>
            <a:endParaRPr b="1" lang="en-US" sz="28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8920"/>
            <a:ext cx="8229600" cy="42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4000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03c72"/>
                </a:solidFill>
                <a:latin typeface="Verdana"/>
              </a:rPr>
              <a:t>OECD Convention on Combating Bribery</a:t>
            </a: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4000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03c72"/>
                </a:solidFill>
                <a:latin typeface="Verdana"/>
              </a:rPr>
              <a:t>United Nations Convention against Corruption (UNCAC)</a:t>
            </a: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4000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03c72"/>
                </a:solidFill>
                <a:latin typeface="Verdana"/>
              </a:rPr>
              <a:t>African Union Convention on Preventing and Combating Corruption</a:t>
            </a: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4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International Conventions Combating Corruption </a:t>
            </a:r>
            <a:endParaRPr b="1" lang="en-US" sz="28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84000" y="3643200"/>
            <a:ext cx="708804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Mr Sumedh Rao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, </a:t>
            </a:r>
            <a:r>
              <a:rPr b="0" i="1" lang="en-GB" sz="2000" spc="-1" strike="noStrike">
                <a:solidFill>
                  <a:srgbClr val="103c72"/>
                </a:solidFill>
                <a:latin typeface="Verdana"/>
              </a:rPr>
              <a:t>Governance &amp; Social Development Resource Centre (GSDRC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1051560" y="4869000"/>
            <a:ext cx="66852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3c72"/>
                </a:solidFill>
                <a:latin typeface="Verdana"/>
              </a:rPr>
              <a:t>European Commission Training Seminar: EC Support to Governance 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3c72"/>
                </a:solidFill>
                <a:latin typeface="Verdana"/>
              </a:rPr>
              <a:t>in Partner Countries (Africa focus) </a:t>
            </a:r>
            <a:br>
              <a:rPr sz="1600"/>
            </a:br>
            <a:r>
              <a:rPr b="0" lang="en-GB" sz="1600" spc="-1" strike="noStrike">
                <a:solidFill>
                  <a:srgbClr val="103c72"/>
                </a:solidFill>
                <a:latin typeface="Verdana"/>
              </a:rPr>
              <a:t>4-8 July 2011 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Historical Context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1810 Napoleonic Cod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1977 Foreign Corrupt Practices Act (FCPA)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1996 Inter-American Convention against Corrupt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1997 OECD Convention on Combating Bribery of Foreign Public Officials in International Business Transaction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1998 Council of Europe Criminal Law Convention on Corrupt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1999 Council of Europe Civil Law Convention on Corrupt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2003 African Union Convention on Preventing and Combating Corruption, AUCAC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2003 United Nations Convention against Corruption, UNCAC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rcRect l="0" t="0" r="50201" b="9090"/>
          <a:stretch/>
        </p:blipFill>
        <p:spPr>
          <a:xfrm>
            <a:off x="539640" y="2133720"/>
            <a:ext cx="2808360" cy="27352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OECD Convention on Combating Bribery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348000" y="1267920"/>
            <a:ext cx="5338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1997 OECD Convention on Combating Bribery of Foreign Public Officials in International Business Transactions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38 Signatories: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OECD Member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Argentina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Brazi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Bulgaria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Estonia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Slovenia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South Africa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All signatories recently adopted the 2009 Anti Bribery Recommendat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OECD Convention on Combating Bribery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348000" y="1700280"/>
            <a:ext cx="53388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Primarily focused on the ‘supply side’ of bribery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(i.e. those that give the bribe – voluntarily or not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Defines and criminalises the act of bribing foreign official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103c72"/>
                </a:solidFill>
                <a:uFillTx/>
                <a:latin typeface="Verdana"/>
              </a:rPr>
              <a:t>BUT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 Does not cover private-to-private bribery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No prevention, witness protection, whistleblowers, facilitation payment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rcRect l="0" t="0" r="50201" b="9090"/>
          <a:stretch/>
        </p:blipFill>
        <p:spPr>
          <a:xfrm>
            <a:off x="539640" y="2133720"/>
            <a:ext cx="280836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rcRect l="0" t="0" r="50201" b="9090"/>
          <a:stretch/>
        </p:blipFill>
        <p:spPr>
          <a:xfrm>
            <a:off x="539640" y="2133720"/>
            <a:ext cx="2808360" cy="27352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OECD Convention on Combating Bribery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32000" y="1600200"/>
            <a:ext cx="55548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Signatories must: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Establish, as a crime, the bribery of public servants within national legal frameworks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Provide means and measures to: ‘prevent, detect, investigate, prosecute and sanction foreign bribery’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Broad interpretation of territorial basis for jurisdiction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Easier to sanction cross-border bribery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rcRect l="0" t="0" r="50201" b="9090"/>
          <a:stretch/>
        </p:blipFill>
        <p:spPr>
          <a:xfrm>
            <a:off x="539640" y="2133720"/>
            <a:ext cx="2808360" cy="27352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OECD Convention on Combating Bribery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132000" y="1125000"/>
            <a:ext cx="55548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73520" indent="-1735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Implementation and monitoring through OECD Working Group on Bribery in International Business Transaction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73520" indent="-1735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Two phase reviews: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13160" indent="-27432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Phase One: Evaluates adequacy of signatory country’s legislation to implement the Convent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13160" indent="-27432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Phase Two: Assesses whether a country is applying this legislation effectively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73520" indent="-1735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Participating delegates are subject to evaluation </a:t>
            </a:r>
            <a:r>
              <a:rPr b="0" lang="en-GB" sz="2000" spc="-1" strike="noStrike" u="sng">
                <a:solidFill>
                  <a:srgbClr val="103c72"/>
                </a:solidFill>
                <a:uFillTx/>
                <a:latin typeface="Verdana"/>
              </a:rPr>
              <a:t>AND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 expected to act as evaluator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73520" indent="-1735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103c72"/>
                </a:solidFill>
                <a:uFillTx/>
                <a:latin typeface="Verdana"/>
              </a:rPr>
              <a:t>BUT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 Lack of active enforcement by majority of parties so far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777564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4 key pillars of the </a:t>
            </a: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United Nations Convention against Corruption (UNCAC)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3" name="Oval 3"/>
          <p:cNvSpPr/>
          <p:nvPr/>
        </p:nvSpPr>
        <p:spPr>
          <a:xfrm>
            <a:off x="1371600" y="2590920"/>
            <a:ext cx="6400800" cy="30477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4" name="Oval 4"/>
          <p:cNvSpPr/>
          <p:nvPr/>
        </p:nvSpPr>
        <p:spPr>
          <a:xfrm>
            <a:off x="1371600" y="3048120"/>
            <a:ext cx="6400800" cy="3047760"/>
          </a:xfrm>
          <a:prstGeom prst="ellipse">
            <a:avLst/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grpSp>
        <p:nvGrpSpPr>
          <p:cNvPr id="125" name="Group 5"/>
          <p:cNvGrpSpPr/>
          <p:nvPr/>
        </p:nvGrpSpPr>
        <p:grpSpPr>
          <a:xfrm>
            <a:off x="990720" y="1523880"/>
            <a:ext cx="1828440" cy="1904760"/>
            <a:chOff x="990720" y="1523880"/>
            <a:chExt cx="1828440" cy="1904760"/>
          </a:xfrm>
        </p:grpSpPr>
        <p:sp>
          <p:nvSpPr>
            <p:cNvPr id="126" name="Oval 6"/>
            <p:cNvSpPr/>
            <p:nvPr/>
          </p:nvSpPr>
          <p:spPr>
            <a:xfrm>
              <a:off x="990720" y="3102120"/>
              <a:ext cx="1680120" cy="3265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27" name="Oval 7"/>
            <p:cNvSpPr/>
            <p:nvPr/>
          </p:nvSpPr>
          <p:spPr>
            <a:xfrm>
              <a:off x="990720" y="1523880"/>
              <a:ext cx="1828440" cy="1614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38f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Prevention</a:t>
              </a:r>
              <a:endParaRPr b="0" lang="en-US" sz="2400" spc="-1" strike="noStrike">
                <a:solidFill>
                  <a:srgbClr val="80808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808080"/>
                  </a:solidFill>
                  <a:latin typeface="Arial"/>
                </a:rPr>
                <a:t>(Art. 5-14) </a:t>
              </a:r>
              <a:endParaRPr b="0" lang="en-US" sz="2400" spc="-1" strike="noStrike">
                <a:solidFill>
                  <a:srgbClr val="808080"/>
                </a:solidFill>
                <a:latin typeface="Arial"/>
              </a:endParaRPr>
            </a:p>
          </p:txBody>
        </p:sp>
      </p:grpSp>
      <p:grpSp>
        <p:nvGrpSpPr>
          <p:cNvPr id="128" name="Group 8"/>
          <p:cNvGrpSpPr/>
          <p:nvPr/>
        </p:nvGrpSpPr>
        <p:grpSpPr>
          <a:xfrm>
            <a:off x="7037280" y="4292640"/>
            <a:ext cx="1782360" cy="1828080"/>
            <a:chOff x="7037280" y="4292640"/>
            <a:chExt cx="1782360" cy="1828080"/>
          </a:xfrm>
        </p:grpSpPr>
        <p:sp>
          <p:nvSpPr>
            <p:cNvPr id="129" name="Oval 9"/>
            <p:cNvSpPr/>
            <p:nvPr/>
          </p:nvSpPr>
          <p:spPr>
            <a:xfrm>
              <a:off x="7241760" y="5772600"/>
              <a:ext cx="1535040" cy="3481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30" name="Oval 10"/>
            <p:cNvSpPr/>
            <p:nvPr/>
          </p:nvSpPr>
          <p:spPr>
            <a:xfrm>
              <a:off x="7037280" y="4292640"/>
              <a:ext cx="1782360" cy="1514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38f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International</a:t>
              </a:r>
              <a:endParaRPr b="0" lang="en-US" sz="2000" spc="-1" strike="noStrike">
                <a:solidFill>
                  <a:srgbClr val="80808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operation</a:t>
              </a:r>
              <a:endParaRPr b="0" lang="en-US" sz="2000" spc="-1" strike="noStrike">
                <a:solidFill>
                  <a:srgbClr val="80808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808080"/>
                  </a:solidFill>
                  <a:latin typeface="Arial"/>
                </a:rPr>
                <a:t>(Art.43-50) </a:t>
              </a:r>
              <a:endParaRPr b="0" lang="en-US" sz="2000" spc="-1" strike="noStrike">
                <a:solidFill>
                  <a:srgbClr val="808080"/>
                </a:solidFill>
                <a:latin typeface="Arial"/>
              </a:endParaRPr>
            </a:p>
          </p:txBody>
        </p:sp>
      </p:grpSp>
      <p:grpSp>
        <p:nvGrpSpPr>
          <p:cNvPr id="131" name="Group 11"/>
          <p:cNvGrpSpPr/>
          <p:nvPr/>
        </p:nvGrpSpPr>
        <p:grpSpPr>
          <a:xfrm>
            <a:off x="395280" y="4365720"/>
            <a:ext cx="1980720" cy="1752120"/>
            <a:chOff x="395280" y="4365720"/>
            <a:chExt cx="1980720" cy="1752120"/>
          </a:xfrm>
        </p:grpSpPr>
        <p:sp>
          <p:nvSpPr>
            <p:cNvPr id="132" name="Oval 12"/>
            <p:cNvSpPr/>
            <p:nvPr/>
          </p:nvSpPr>
          <p:spPr>
            <a:xfrm>
              <a:off x="509040" y="5784120"/>
              <a:ext cx="1705680" cy="3337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33" name="Oval 13"/>
            <p:cNvSpPr/>
            <p:nvPr/>
          </p:nvSpPr>
          <p:spPr>
            <a:xfrm>
              <a:off x="395280" y="4365720"/>
              <a:ext cx="1980720" cy="1451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38f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Asset</a:t>
              </a:r>
              <a:endParaRPr b="0" lang="en-US" sz="2000" spc="-1" strike="noStrike">
                <a:solidFill>
                  <a:srgbClr val="80808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Recovery</a:t>
              </a:r>
              <a:endParaRPr b="0" lang="en-US" sz="2000" spc="-1" strike="noStrike">
                <a:solidFill>
                  <a:srgbClr val="80808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808080"/>
                  </a:solidFill>
                  <a:latin typeface="Arial"/>
                </a:rPr>
                <a:t>(Art.51-59) </a:t>
              </a:r>
              <a:endParaRPr b="0" lang="en-US" sz="2000" spc="-1" strike="noStrike">
                <a:solidFill>
                  <a:srgbClr val="808080"/>
                </a:solidFill>
                <a:latin typeface="Arial"/>
              </a:endParaRPr>
            </a:p>
          </p:txBody>
        </p:sp>
      </p:grpSp>
      <p:grpSp>
        <p:nvGrpSpPr>
          <p:cNvPr id="134" name="Group 14"/>
          <p:cNvGrpSpPr/>
          <p:nvPr/>
        </p:nvGrpSpPr>
        <p:grpSpPr>
          <a:xfrm>
            <a:off x="6324480" y="1447920"/>
            <a:ext cx="1828440" cy="1980360"/>
            <a:chOff x="6324480" y="1447920"/>
            <a:chExt cx="1828440" cy="1980360"/>
          </a:xfrm>
        </p:grpSpPr>
        <p:sp>
          <p:nvSpPr>
            <p:cNvPr id="135" name="Oval 15"/>
            <p:cNvSpPr/>
            <p:nvPr/>
          </p:nvSpPr>
          <p:spPr>
            <a:xfrm>
              <a:off x="6429240" y="3068280"/>
              <a:ext cx="1574640" cy="3600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36" name="Oval 16"/>
            <p:cNvSpPr/>
            <p:nvPr/>
          </p:nvSpPr>
          <p:spPr>
            <a:xfrm>
              <a:off x="6324480" y="1447920"/>
              <a:ext cx="1828440" cy="1566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38f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0808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riminalization</a:t>
              </a:r>
              <a:endParaRPr b="0" lang="en-US" sz="2400" spc="-1" strike="noStrike">
                <a:solidFill>
                  <a:srgbClr val="80808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808080"/>
                  </a:solidFill>
                  <a:latin typeface="Arial"/>
                </a:rPr>
                <a:t>(Art. 15-42) </a:t>
              </a:r>
              <a:endParaRPr b="0" lang="en-US" sz="2400" spc="-1" strike="noStrike">
                <a:solidFill>
                  <a:srgbClr val="80808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08080"/>
                </a:solidFill>
                <a:latin typeface="Arial"/>
              </a:endParaRPr>
            </a:p>
          </p:txBody>
        </p:sp>
      </p:grpSp>
      <p:pic>
        <p:nvPicPr>
          <p:cNvPr id="137" name="Picture 17" descr=""/>
          <p:cNvPicPr/>
          <p:nvPr/>
        </p:nvPicPr>
        <p:blipFill>
          <a:blip r:embed="rId1"/>
          <a:stretch/>
        </p:blipFill>
        <p:spPr>
          <a:xfrm>
            <a:off x="3429000" y="1413000"/>
            <a:ext cx="234000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47640" y="587520"/>
            <a:ext cx="7772400" cy="98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United Nations Convention against Corruption (UNCAC)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47280" y="1628280"/>
            <a:ext cx="486108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Prevention: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ffective and coordinated anti-corruption policies  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-corruption bodie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mpetitive  and fair public procurement  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dependent judiciary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air and transparent private sector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5508720" y="1628640"/>
            <a:ext cx="284796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5T14:40:52Z</dcterms:created>
  <dc:creator>Sumedh Rao</dc:creator>
  <dc:description/>
  <dc:language>en-US</dc:language>
  <cp:lastModifiedBy>MUGERIN Coralie (DEVCO)</cp:lastModifiedBy>
  <dcterms:modified xsi:type="dcterms:W3CDTF">2012-08-02T15:18:40Z</dcterms:modified>
  <cp:revision>130</cp:revision>
  <dc:subject/>
  <dc:title>International Conventions Combating Corruption</dc:title>
</cp:coreProperties>
</file>