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907588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2600" y="696960"/>
            <a:ext cx="5035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A066-6283-4D0A-9C5E-FBFD954ECA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5ED9-83CB-4CF1-B735-90105A9BD840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2960" y="696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B1FF-3DBA-4569-AEA9-1775EF308CC9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2960" y="696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0684-6221-41FA-ABFA-D9C152F0687A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2960" y="696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175C-833D-465E-8936-953E3A2A026A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2960" y="696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A7FC-2E6B-4BAA-8485-18D6EBF24EFE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2960" y="696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98F0-6184-4573-9BD1-225A728F8945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2960" y="696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CAF3-E823-4A26-BE7A-0F5E5C6903A4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2960" y="696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8547-BAE0-4B8D-AFDD-CF7D22934A37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2960" y="696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96CF-FD53-4E78-9561-9C0600BFC9DD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2960" y="696960"/>
            <a:ext cx="5035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BFE-1D50-4A43-80F3-B2910BEE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07560" y="430740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02B-0E77-423F-B05A-8CC3BF6F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7824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20C-B7E0-4D93-98E8-57A9BBF9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2564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4372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0756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2564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4372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BDC-0485-46E1-B0BD-CC43CAA7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EA3B-BF32-4344-9A3D-52A427A6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86F8-26F4-4F5D-8235-B9508041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A46A-B14B-42A9-9869-F46463E0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4C6F-8270-4CD5-9894-27C75825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9139-BE08-4A55-8644-3C1BD032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97840" y="834120"/>
            <a:ext cx="84405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7C35-D5B2-48D6-9D1C-1B2CA1C1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CCED-459C-4C72-999D-375DAA4F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33A5-66EB-485E-9670-163FBAE2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824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46F1-A3F5-4106-A3E4-EDABBB04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0AA8-627F-4125-B751-155D10D8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07560" y="430740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7D28-5BED-4723-BB43-7E4A2DB6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7824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90DA-B83F-4DF7-8532-98CD9CE7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2564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4372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0756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72564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4372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A245-67FA-4601-868F-4C0F9AD5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0A2-7248-4A44-A114-3E8DF31E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84A-2B43-48E9-931C-C4D2F4A7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1580-1A4A-4C72-BF17-7714526B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97840" y="834120"/>
            <a:ext cx="84405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91B-CB40-4136-B9B3-143FF45A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BC5E-1057-4386-9E62-A03865C2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7824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25D-9F88-44C0-989B-0DFCF808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3B3-0203-478B-AFCE-D969FCD5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254440" cy="6858000"/>
            <a:chOff x="0" y="0"/>
            <a:chExt cx="825444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466440" cy="6858000"/>
              <a:chOff x="0" y="0"/>
              <a:chExt cx="346644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82548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95000" y="0"/>
                <a:ext cx="297144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46960" y="1981080"/>
              <a:ext cx="8007480" cy="319320"/>
              <a:chOff x="246960" y="1981080"/>
              <a:chExt cx="800748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59880" y="1981080"/>
                <a:ext cx="759456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46600" y="1981080"/>
                <a:ext cx="42660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641680" y="6248520"/>
            <a:ext cx="23083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273720" y="6248520"/>
            <a:ext cx="3138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90000" y="6242040"/>
            <a:ext cx="636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B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E2C7-DA70-43F4-AF83-23C58EC9AA87}" type="slidenum">
              <a:rPr b="1" lang="fr-B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6356160" cy="6858000"/>
            <a:chOff x="0" y="0"/>
            <a:chExt cx="635616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95288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742680" y="990720"/>
              <a:ext cx="5613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935160" y="4889520"/>
            <a:ext cx="5283000" cy="318960"/>
            <a:chOff x="3935160" y="4889520"/>
            <a:chExt cx="528300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934800" y="4889520"/>
              <a:ext cx="50108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936280" y="4889520"/>
              <a:ext cx="2818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641680" y="6248520"/>
            <a:ext cx="23083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273720" y="6248520"/>
            <a:ext cx="3138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2080" y="6248520"/>
            <a:ext cx="636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B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E445-B32E-41AD-99B0-929A6C5E9D7B}" type="slidenum">
              <a:rPr b="1" lang="fr-B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21680" y="1269360"/>
            <a:ext cx="860508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Book Antiqua"/>
              </a:rPr>
              <a:t>Corruption in practice - Case of Zamb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62680" y="2927520"/>
            <a:ext cx="43480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66"/>
                </a:solidFill>
                <a:latin typeface="Book Antiqua"/>
              </a:rPr>
              <a:t>Francesca Di Maur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66"/>
                </a:solidFill>
                <a:latin typeface="Book Antiqua"/>
              </a:rPr>
              <a:t>Governance Seminar  - June 2011, Brusse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8072280" y="189000"/>
            <a:ext cx="15303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Book Antiqua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Book Antiqua"/>
              </a:rPr>
              <a:t>Context in Zamb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Book Antiqua"/>
              </a:rPr>
              <a:t>2009: a difficult ye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Book Antiqua"/>
              </a:rPr>
              <a:t>Response and dynam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Book Antiqua"/>
              </a:rPr>
              <a:t>Lessons learn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8072280" y="189000"/>
            <a:ext cx="15303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Book Antiqua"/>
              </a:rPr>
              <a:t>Context in Zamb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ook Antiqua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CPG: all 17 donors active in ZM – highly harmonized context: JASZ, DOL, sector Mo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PRBS Group: GRZ + 7 CPs (Germany, Finland, Norway, UK Aid, AfDB, EU and World Bank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Book Antiqua"/>
              </a:rPr>
              <a:t>PRBS MoU signed in April 2005 – with 4 Underlying Principles: Macro, PFM, poverty reduction, good governance </a:t>
            </a:r>
            <a:r>
              <a:rPr b="0" lang="en-GB" sz="1600" spc="-1" strike="noStrike">
                <a:solidFill>
                  <a:srgbClr val="003366"/>
                </a:solidFill>
                <a:latin typeface="Book Antiqua"/>
              </a:rPr>
              <a:t>(rule of law, democratic principles, anti-corruption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Book Antiqua"/>
              </a:rPr>
              <a:t>3-years rolling PAF used by all, with 25 indicators covering several areas, but NOT governance/political conditionality in particular (except AC); </a:t>
            </a:r>
            <a:r>
              <a:rPr b="0" lang="en-GB" sz="1600" spc="-1" strike="noStrike">
                <a:solidFill>
                  <a:srgbClr val="003366"/>
                </a:solidFill>
                <a:latin typeface="Book Antiqua"/>
              </a:rPr>
              <a:t>mix of output, outcomes, proces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2" descr=""/>
          <p:cNvPicPr/>
          <p:nvPr/>
        </p:nvPicPr>
        <p:blipFill>
          <a:blip r:embed="rId1"/>
          <a:stretch/>
        </p:blipFill>
        <p:spPr>
          <a:xfrm>
            <a:off x="8072280" y="189000"/>
            <a:ext cx="15303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Book Antiqua"/>
              </a:rPr>
              <a:t>2009: a difficult yea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Ministry of Health scandal: funds misappropriated, including donor basket funds; SW and NL suspend funds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Ministry of Works and Supply documents show huge over-commitments in the sector in 2008 (election year)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Agriculture audits show that main policies are not effective (fertilisers input, maize purchas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Meeting with President and all ambassadors in May: Gov asked to clearly identify concer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8072280" y="189000"/>
            <a:ext cx="15303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Book Antiqua"/>
              </a:rPr>
              <a:t>Response and dynam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Health: Governance Action Plan – internal audit strengthened, financial audit, repayment to don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Roads: Sector Management Plan  - launching of a series of aud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PRBS CPs launch formal dialogue on UPs in June, using a Roadmap – GBS put in ques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Generally (with few exceptions) all interested in Gov response, set of remedial measur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8072280" y="189000"/>
            <a:ext cx="15303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Book Antiqua"/>
              </a:rPr>
              <a:t>Response and dynamics - PRB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Book Antiqua"/>
              </a:rPr>
              <a:t>PRBS Roadmap coverage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ook Antiqua"/>
              </a:rPr>
              <a:t>PFM reforms: procurement, IFMIS, treasury management, budget cycle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ook Antiqua"/>
              </a:rPr>
              <a:t>Public sector reform: decentralisation, pay policy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ook Antiqua"/>
              </a:rPr>
              <a:t>Good governance: anti-corruption policy; funding of oversight institutions OAG and ACC, freedom of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ook Antiqua"/>
              </a:rPr>
              <a:t>Sectoral issues: Health, Roads, Agricultur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Book Antiqua"/>
              </a:rPr>
              <a:t>Intense dialogue, will last 6 months, regular meetings with Gov; tensions at EDF Committee on EU GBS (V-FLEX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Book Antiqua"/>
              </a:rPr>
              <a:t>PRBS structured dialogue around clear issues (changing goalpost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Book Antiqua"/>
              </a:rPr>
              <a:t>Outcome</a:t>
            </a: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: final meeting of 25 November concluded positively, disbursements and future commitments would depend on progress  on outstanding issues – some donors ‘breaking the ranks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8072280" y="189000"/>
            <a:ext cx="15303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Book Antiqua"/>
              </a:rPr>
              <a:t>Response and dynamics – Road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 Antiqua"/>
              </a:rPr>
              <a:t>EU in the lead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Book Antiqua"/>
              </a:rPr>
              <a:t>let the national process oper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 Antiqua"/>
              </a:rPr>
              <a:t>Auditor-General audits: financial, procurement, techni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Public Accounts Committee: debate over audits – set of recommendations (incl. removal of top managemen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Dialogue still on-going…SBS still ‘suspended’…process very lo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8072280" y="189000"/>
            <a:ext cx="15303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Book Antiqua"/>
              </a:rPr>
              <a:t>Lessons learn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Support rather than undermine national process: AG, PAC, AC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more-long lasting effects (difference between Roads and Health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But trade-off is slow process/no disburs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Under PRBS, several areas actually moved: ‘reform by threat’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Importance of clearly identifying concerns - transpar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Keep unified donor position (at least within EU) – not always easy, especially with new mood on G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8072280" y="189000"/>
            <a:ext cx="15303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666"/>
                </a:solidFill>
                <a:latin typeface="Book Antiqua"/>
              </a:rPr>
              <a:t>Annex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Book Antiqua"/>
              </a:rPr>
              <a:t>Current </a:t>
            </a:r>
            <a:r>
              <a:rPr b="1" lang="en-GB" sz="2000" spc="-1" strike="noStrike">
                <a:solidFill>
                  <a:srgbClr val="003366"/>
                </a:solidFill>
                <a:latin typeface="Book Antiqua"/>
              </a:rPr>
              <a:t>Underlying Principles </a:t>
            </a:r>
            <a:r>
              <a:rPr b="0" lang="en-GB" sz="2000" spc="-1" strike="noStrike">
                <a:solidFill>
                  <a:srgbClr val="003366"/>
                </a:solidFill>
                <a:latin typeface="Book Antiqua"/>
              </a:rPr>
              <a:t>in PRBS MoU: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GRZ’s commitments to fight poverty, including through a pattern of public expenditure consistent with poverty reduction priorities as identified in the National Development Pl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GRZ’s commitment to peace, democratic principles, the rule of law, good governance and integrity in public life, including the fight against corruption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GRZ’s commitment to public financial management reforms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GRZ’s commitment to pursuing sound macro-economic policies, as evidenced by a positive IMF assessment of overall macro-economic performanc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8072280" y="189000"/>
            <a:ext cx="15303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2:48:32Z</dcterms:created>
  <dc:creator>eklunje</dc:creator>
  <dc:description/>
  <dc:language>en-US</dc:language>
  <cp:lastModifiedBy>MUGERIN Coralie (DEVCO)</cp:lastModifiedBy>
  <dcterms:modified xsi:type="dcterms:W3CDTF">2012-08-02T15:08:45Z</dcterms:modified>
  <cp:revision>98</cp:revision>
  <dc:subject/>
  <dc:title>Slide 1</dc:title>
</cp:coreProperties>
</file>