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907588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12600" y="696960"/>
            <a:ext cx="5035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457A-5FA8-46EF-B8F6-221CF6F94D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BB7B-B596-497E-BB92-B5ECED4C682F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2960" y="696960"/>
            <a:ext cx="5035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F344-6743-40D5-B677-6B77853ED9F6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2960" y="696960"/>
            <a:ext cx="5035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88D9-1ABF-4C07-AE88-7E75D881F175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2960" y="696960"/>
            <a:ext cx="5035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5105-4A2F-45C9-839F-754FD92684B8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2960" y="696960"/>
            <a:ext cx="50353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8778-8A88-4730-8F59-E6F196959456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2960" y="696960"/>
            <a:ext cx="5035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9A88-7995-4790-8A37-590EC546DAC9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2960" y="696960"/>
            <a:ext cx="5035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480E-B2F6-4764-93D0-E9E5D8B04BAF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2960" y="696960"/>
            <a:ext cx="5035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01A4-0B93-46F7-BB69-AB9392149ACB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2960" y="696960"/>
            <a:ext cx="5035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7D94-A55B-4B17-835B-9C749482FA97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2960" y="696960"/>
            <a:ext cx="5035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383C-50D5-430F-9F91-BFE72836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83343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07560" y="4307400"/>
            <a:ext cx="83343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29CE-452A-490A-B63F-D8E1D8BB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7824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07560" y="430740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78240" y="430740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19C9-7160-451A-AC28-FD2244C8D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25640" y="236196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43720" y="236196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07560" y="430740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25640" y="430740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43720" y="430740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5DD4-25A5-4B15-94FE-C5708C7DD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1814-7CDB-4689-81A7-2882F4C7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4487-7E2A-4B2C-80FF-15DAD6BA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BFF4-863D-48F0-90DB-D300F7FD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78240" y="2361960"/>
            <a:ext cx="406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DB27-71D6-438B-921E-645A5991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F9FD-03B4-49DC-9992-316B4796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97840" y="834120"/>
            <a:ext cx="84405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CB80-A6AB-4DDE-B799-0B6A2A42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78240" y="2361960"/>
            <a:ext cx="406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07560" y="430740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ADB9-70C1-4782-AF92-FA01444A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0DAB-6E28-49E8-886B-57E98047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7824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78240" y="430740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916F-B9F8-4560-994E-5042E8F6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7824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07560" y="4307400"/>
            <a:ext cx="83343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667E-08A5-41D5-9A19-2EF0AB60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83343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07560" y="4307400"/>
            <a:ext cx="83343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3212-F3F9-4EA9-8376-6A907639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7824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07560" y="430740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78240" y="430740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E64E-DB7D-46D8-A4BF-F446DE83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725640" y="236196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43720" y="236196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07560" y="430740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725640" y="430740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43720" y="430740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6763-3375-4E94-9A4C-DA5EE662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092B-565B-4381-93DC-1C96DE5E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78240" y="2361960"/>
            <a:ext cx="406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AFDE-E471-4B26-9841-52C877C8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BBBF-5AAF-42A3-B98C-EEE61F72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97840" y="834120"/>
            <a:ext cx="84405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E3A2-A373-48B0-8507-925BB7C8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78240" y="2361960"/>
            <a:ext cx="406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07560" y="430740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9B91-B74C-4A67-9DC9-72C20109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7824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78240" y="430740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4E33-D57E-4E06-8153-24EAE719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7824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7560" y="4307400"/>
            <a:ext cx="83343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DA8E-4435-4F96-A43D-DB6A8149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254440" cy="6858000"/>
            <a:chOff x="0" y="0"/>
            <a:chExt cx="825444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466440" cy="6858000"/>
              <a:chOff x="0" y="0"/>
              <a:chExt cx="346644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82548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95000" y="0"/>
                <a:ext cx="297144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46960" y="1981080"/>
              <a:ext cx="8007480" cy="319320"/>
              <a:chOff x="246960" y="1981080"/>
              <a:chExt cx="800748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59880" y="1981080"/>
                <a:ext cx="759456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46600" y="1981080"/>
                <a:ext cx="42660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641680" y="6248520"/>
            <a:ext cx="23083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273720" y="6248520"/>
            <a:ext cx="3138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90000" y="6242040"/>
            <a:ext cx="636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BE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D161-8253-4734-8005-AAF8773BAA33}" type="slidenum">
              <a:rPr b="1" lang="fr-BE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6356160" cy="6858000"/>
            <a:chOff x="0" y="0"/>
            <a:chExt cx="635616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95288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742680" y="990720"/>
              <a:ext cx="5613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935160" y="4889520"/>
            <a:ext cx="5283000" cy="318960"/>
            <a:chOff x="3935160" y="4889520"/>
            <a:chExt cx="528300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934800" y="4889520"/>
              <a:ext cx="50108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936280" y="4889520"/>
              <a:ext cx="2818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641680" y="6248520"/>
            <a:ext cx="23083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6273720" y="6248520"/>
            <a:ext cx="3138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2080" y="6248520"/>
            <a:ext cx="636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BE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D28E-C74D-4204-80A9-946D3F1C0E8E}" type="slidenum">
              <a:rPr b="1" lang="fr-BE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021680" y="1269360"/>
            <a:ext cx="860508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Book Antiqua"/>
              </a:rPr>
              <a:t>Corruption in practice - Case of Zamb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062680" y="2927520"/>
            <a:ext cx="43480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6666"/>
                </a:solidFill>
                <a:latin typeface="Book Antiqua"/>
              </a:rPr>
              <a:t>Francesca Di Maur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6666"/>
                </a:solidFill>
                <a:latin typeface="Book Antiqua"/>
              </a:rPr>
              <a:t>Governance Seminar  - June 2011, Brussel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8072280" y="189000"/>
            <a:ext cx="153036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Book Antiqua"/>
              </a:rPr>
              <a:t>Outlin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Book Antiqua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Book Antiqua"/>
              </a:rPr>
              <a:t>Context in Zamb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Book Antiqua"/>
              </a:rPr>
              <a:t>2009: a difficult ye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Book Antiqua"/>
              </a:rPr>
              <a:t>Response and dynam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Book Antiqua"/>
              </a:rPr>
              <a:t>Lessons learn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8072280" y="189000"/>
            <a:ext cx="153036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Book Antiqua"/>
              </a:rPr>
              <a:t>Context in Zambi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ook Antiqua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ook Antiqua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ook Antiqua"/>
              </a:rPr>
              <a:t>CPG: all 17 donors active in ZM – highly harmonized context: JASZ, DOL, sector Mo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ook Antiqua"/>
              </a:rPr>
              <a:t>PRBS Group: GRZ + 7 CPs (Germany, Finland, Norway, UK Aid, AfDB, EU and World Bank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Book Antiqua"/>
              </a:rPr>
              <a:t>PRBS MoU signed in April 2005 – with 4 Underlying Principles: Macro, PFM, poverty reduction, good governance </a:t>
            </a:r>
            <a:r>
              <a:rPr b="0" lang="en-GB" sz="1600" spc="-1" strike="noStrike">
                <a:solidFill>
                  <a:srgbClr val="003366"/>
                </a:solidFill>
                <a:latin typeface="Book Antiqua"/>
              </a:rPr>
              <a:t>(rule of law, democratic principles, anti-corruption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Book Antiqua"/>
              </a:rPr>
              <a:t>3-years rolling PAF used by all, with 25 indicators covering several areas, but NOT governance/political conditionality in particular (except AC); </a:t>
            </a:r>
            <a:r>
              <a:rPr b="0" lang="en-GB" sz="1600" spc="-1" strike="noStrike">
                <a:solidFill>
                  <a:srgbClr val="003366"/>
                </a:solidFill>
                <a:latin typeface="Book Antiqua"/>
              </a:rPr>
              <a:t>mix of output, outcomes, proces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42" descr=""/>
          <p:cNvPicPr/>
          <p:nvPr/>
        </p:nvPicPr>
        <p:blipFill>
          <a:blip r:embed="rId1"/>
          <a:stretch/>
        </p:blipFill>
        <p:spPr>
          <a:xfrm>
            <a:off x="8072280" y="189000"/>
            <a:ext cx="153036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Book Antiqua"/>
              </a:rPr>
              <a:t>2009: a difficult yea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Ministry of Health scandal: funds misappropriated, including donor basket funds; SW and NL suspend funds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Ministry of Works and Supply documents show huge over-commitments in the sector in 2008 (election year)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Agriculture audits show that main policies are not effective (fertilisers input, maize purchas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Meeting with President and all ambassadors in May: Gov asked to clearly identify concer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8072280" y="189000"/>
            <a:ext cx="153036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Book Antiqua"/>
              </a:rPr>
              <a:t>Response and dynam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Health: Governance Action Plan – internal audit strengthened, financial audit, repayment to don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Roads: Sector Management Plan  - launching of a series of audi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PRBS CPs launch formal dialogue on UPs in June, using a Roadmap – GBS put in ques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Generally (with few exceptions) all interested in Gov response, set of remedial measure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8072280" y="189000"/>
            <a:ext cx="153036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Book Antiqua"/>
              </a:rPr>
              <a:t>Response and dynamics - PRB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Book Antiqua"/>
              </a:rPr>
              <a:t>PRBS Roadmap coverage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ook Antiqua"/>
              </a:rPr>
              <a:t>PFM reforms: procurement, IFMIS, treasury management, budget cycle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ook Antiqua"/>
              </a:rPr>
              <a:t>Public sector reform: decentralisation, pay policy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ook Antiqua"/>
              </a:rPr>
              <a:t>Good governance: anti-corruption policy; funding of oversight institutions OAG and ACC, freedom of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ook Antiqua"/>
              </a:rPr>
              <a:t>Sectoral issues: Health, Roads, Agricultur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Book Antiqua"/>
              </a:rPr>
              <a:t>Intense dialogue, will last 6 months, regular meetings with Gov; tensions at EDF Committee on EU GBS (V-FLEX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Book Antiqua"/>
              </a:rPr>
              <a:t>PRBS structured dialogue around clear issues (changing goalpost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Book Antiqua"/>
              </a:rPr>
              <a:t>Outcome</a:t>
            </a:r>
            <a:r>
              <a:rPr b="0" lang="en-US" sz="2000" spc="-1" strike="noStrike">
                <a:solidFill>
                  <a:srgbClr val="003366"/>
                </a:solidFill>
                <a:latin typeface="Book Antiqua"/>
              </a:rPr>
              <a:t>: final meeting of 25 November concluded positively, disbursements and future commitments would depend on progress  on outstanding issues – some donors ‘breaking the ranks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8072280" y="189000"/>
            <a:ext cx="153036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Book Antiqua"/>
              </a:rPr>
              <a:t>Response and dynamics – Road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ook Antiqua"/>
              </a:rPr>
              <a:t>EU in the lead: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Book Antiqua"/>
              </a:rPr>
              <a:t>let the national process oper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ook Antiqua"/>
              </a:rPr>
              <a:t>Auditor-General audits: financial, procurement, technic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Public Accounts Committee: debate over audits – set of recommendations (incl. removal of top managemen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Dialogue still on-going…SBS still ‘suspended’…process very lo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8072280" y="189000"/>
            <a:ext cx="153036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Book Antiqua"/>
              </a:rPr>
              <a:t>Lessons learn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Support rather than undermine national process: AG, PAC, ACC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more-long lasting effects (difference between Roads and Health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But trade-off is slow process/no disburs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Under PRBS, several areas actually moved: ‘reform by threat’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Importance of clearly identifying concerns - transparen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Keep unified donor position (at least within EU) – not always easy, especially with new mood on GB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8072280" y="189000"/>
            <a:ext cx="153036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Book Antiqua"/>
              </a:rPr>
              <a:t>Annex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Book Antiqua"/>
              </a:rPr>
              <a:t>Current </a:t>
            </a:r>
            <a:r>
              <a:rPr b="1" lang="en-GB" sz="2000" spc="-1" strike="noStrike">
                <a:solidFill>
                  <a:srgbClr val="003366"/>
                </a:solidFill>
                <a:latin typeface="Book Antiqua"/>
              </a:rPr>
              <a:t>Underlying Principles </a:t>
            </a:r>
            <a:r>
              <a:rPr b="0" lang="en-GB" sz="2000" spc="-1" strike="noStrike">
                <a:solidFill>
                  <a:srgbClr val="003366"/>
                </a:solidFill>
                <a:latin typeface="Book Antiqua"/>
              </a:rPr>
              <a:t>in PRBS MoU: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ook Antiqua"/>
              </a:rPr>
              <a:t>GRZ’s commitments to fight poverty, including through a pattern of public expenditure consistent with poverty reduction priorities as identified in the National Development Pla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ook Antiqua"/>
              </a:rPr>
              <a:t>GRZ’s commitment to peace, democratic principles, the rule of law, good governance and integrity in public life, including the fight against corruption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ook Antiqua"/>
              </a:rPr>
              <a:t>GRZ’s commitment to public financial management reforms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ook Antiqua"/>
              </a:rPr>
              <a:t>GRZ’s commitment to pursuing sound macro-economic policies, as evidenced by a positive IMF assessment of overall macro-economic performanc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8072280" y="189000"/>
            <a:ext cx="153036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12:48:32Z</dcterms:created>
  <dc:creator>eklunje</dc:creator>
  <dc:description/>
  <dc:language>en-US</dc:language>
  <cp:lastModifiedBy>MUGERIN Coralie (DEVCO)</cp:lastModifiedBy>
  <dcterms:modified xsi:type="dcterms:W3CDTF">2012-08-02T15:08:45Z</dcterms:modified>
  <cp:revision>98</cp:revision>
  <dc:subject/>
  <dc:title>Slide 1</dc:title>
</cp:coreProperties>
</file>