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110160"/>
            <a:ext cx="7542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5889600" y="1101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06120" y="6333840"/>
            <a:ext cx="366084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9649800"/>
            <a:ext cx="671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6431040" y="9649800"/>
            <a:ext cx="366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5832-3413-436A-B4F6-95AB49AB916E}" type="slidenum">
              <a:rPr b="0" lang="fr-F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61F2-1A02-4479-93E0-BD92C52C5723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46EB-3181-440D-805A-DDFF8BB1F9BA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9A3F-2E07-462A-BA29-B23917EC06CD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1413-4227-4B7B-BBB9-F635E6B815D2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8082-363D-4630-8B57-5AB2675B2463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52DC-DDFD-4B7E-B68B-CB7571C2B914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0858-1599-4F2D-BBCF-D9B2C608F3C8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40AE-41DD-44AD-B27B-DD1F171E6278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26D2-DC67-4DA9-83C5-C8D518914980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6176520" y="96501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E8ED-0C81-4006-81AA-3D1BDF1DE9CB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6809040"/>
            <a:ext cx="12636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2C3-6BD0-40A0-89B6-2934080D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DB9-3234-4610-AF31-AC9DEF79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D1C-D959-475D-AA5B-8D479325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5A3-462C-40DF-882F-1A8498F8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FC1B-7C4E-49A2-A9F2-4D87BE79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6BED-5E83-410B-B9FA-3A35B01F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1E74-4773-45C7-B299-8F658F75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46C8-939A-402C-AC7A-92B93E64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D650-EA08-4121-B411-CE9AD3E4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E50E-2B90-4D73-A713-94EDDA9B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8594-5D57-4695-9640-62418260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934-128B-47DA-AE38-28E8717E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3A2E-D470-4053-AC10-801F03A0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CAC9-A5A4-4631-A849-B10C14F7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8DE8-A008-4408-AE17-6C3BF403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44F0-2E1D-4B91-99FB-E41D31CC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4E8B-C578-4B3D-AC28-ECCF234A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133-A768-4539-9083-D2A6DC69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9DA-F63D-4D71-B3B5-FA6E8B15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017-72B5-4295-A182-F247811B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FE8-893D-4FA0-8728-FDC01575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32F-A9AB-4259-A251-5EDF0CB6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AE4-1926-4735-BAE9-6B96E30F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C67-2287-4BE0-8C00-91F35882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3518-6EC7-4608-9196-A1218EF6EF3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2FA1-1FAD-440D-A8DC-2392C56E06B0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Putting Corruption in the </a:t>
            </a:r>
            <a:br>
              <a:rPr sz="2400"/>
            </a:b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Contex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54524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 Socio-Anthropological Perspec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Giorgio Blund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Verdana"/>
              </a:rPr>
              <a:t>Ecole des Hautes Etudes en Sciences Sociales (EHESS), Marseille, France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09480" y="60948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324000" y="545292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3d200"/>
                </a:solidFill>
                <a:latin typeface="Verdana"/>
              </a:rPr>
              <a:t>Implications </a:t>
            </a: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for anticorruption policie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5320" indent="-175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No unique or uniform solution for such a complex, ambivalent and multi-form phenomen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Conceive interventions that « work with the grain » and not « against the grain » of local socie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Need for more qualitative research providing fresh insights on mechanisms and representations of corruption in different areas of service deliver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Honest behaviour has a high social cost: complete integrity is a luxury or virtue that is beyond the scope of the majority of the citizens of these countries under current circumstan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However, local reformers and « highlands of integrity » do exist. How to support and encourage such initiative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-175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Civil society’s dilemma: counter-power or « good governance brokers »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5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3d200"/>
                </a:solidFill>
                <a:latin typeface="Verdana"/>
              </a:rPr>
              <a:t>Session Objective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vide some insights from recent anthropological research on corruption practices and represent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vide an analytical grid in order to understand how corruption works in a specific socio-cultural sett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pen a debate on the implications of adapting anti-corruption policies to a country context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3d200"/>
                </a:solidFill>
                <a:latin typeface="Verdana"/>
              </a:rPr>
              <a:t>A Qualitative </a:t>
            </a: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searc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1998"/>
              </a:lnSpc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he first systematic comparative anthropological study on everyday corruption in Africa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1998"/>
              </a:lnSpc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hree countries (Benin, Niger, Senegal) + Mauritania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1998"/>
              </a:lnSpc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Corruption in customs and transport, justice, health, public procurement, development projects, forestry serv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1998"/>
              </a:lnSpc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o study the “complex of corruption”: </a:t>
            </a: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all practices involving the incorrect (illegal and/or illegitimate) use of a public office which result in the procurement of unwarranted private or collective advantages.</a:t>
            </a:r>
            <a:r>
              <a:rPr b="0" i="1" lang="en-GB" sz="16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1" name="Picture 5" descr="51anAgCzqGL"/>
          <p:cNvPicPr/>
          <p:nvPr/>
        </p:nvPicPr>
        <p:blipFill>
          <a:blip r:embed="rId1"/>
          <a:stretch/>
        </p:blipFill>
        <p:spPr>
          <a:xfrm>
            <a:off x="5257800" y="17524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ain Finding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orruption is embedded in multiple levels of the social, administrative and cultural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orruption is not just a symptom of the failure of a system of governance. It is a specific mode of govern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Everyday corruption is a social activity which is regulated </a:t>
            </a:r>
            <a:r>
              <a:rPr b="0" i="1" lang="en-GB" sz="2000" spc="-1" strike="noStrike">
                <a:solidFill>
                  <a:srgbClr val="333399"/>
                </a:solidFill>
                <a:latin typeface="Verdana"/>
              </a:rPr>
              <a:t>de facto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 and in accordance with complex rules, and tightly controlled by a series of tacit codes and practical norm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3d200"/>
                </a:solidFill>
                <a:latin typeface="Verdana"/>
              </a:rPr>
              <a:t>The Basic </a:t>
            </a: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Forms</a:t>
            </a:r>
            <a:r>
              <a:rPr b="1" lang="fr-FR" sz="2400" spc="-1" strike="noStrike">
                <a:solidFill>
                  <a:srgbClr val="f3d200"/>
                </a:solidFill>
                <a:latin typeface="Verdana"/>
              </a:rPr>
              <a:t> of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Commission” for illicit services</a:t>
            </a: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: the official benefits in part from the illicit gain that he helps the user to obtai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Unwarranted payment for a public service</a:t>
            </a: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: a service that is normally provided free of charge, on which a private charge is impose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The “ gratuity”</a:t>
            </a: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: a spontaneous gesture on the part of the user, generally viewed as entirely legitimat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Favouritism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The 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tribute</a:t>
            </a: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 or “toll”: exhorted without any kind of intermediation or service, either legal or illegal, actually being supplie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Sideline</a:t>
            </a: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” and moonlighting: work places and resources are widely used by personnel for private end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Embezzle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grees of legitimac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1676520"/>
          <a:ext cx="8076960" cy="4279680"/>
        </p:xfrm>
        <a:graphic>
          <a:graphicData uri="http://schemas.openxmlformats.org/drawingml/2006/table">
            <a:tbl>
              <a:tblPr/>
              <a:tblGrid>
                <a:gridCol w="3124080"/>
                <a:gridCol w="2590920"/>
                <a:gridCol w="236196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Forms of corrup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Type of interac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Degree of legitimacy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Gratuity 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pontaneous transac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Legitimate 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Commission for illicit service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Negotiated transac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Highly ambivalent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tring-pulling, favours, nepotism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pontaneous transac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Legitimate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Unwarranted fee for a public service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Negotiated transaction or extor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Predominantly illegitimate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Tribute or toll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Extor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llegitimate 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“</a:t>
                      </a: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ideline” and moonlight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Appropria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Predominantly legitimate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Embezzlement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Appropriation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Highly ambivalent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orruption is embedded in administrative practices and bureaucratic cultures (1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Bureaucratic logics of organization and manage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arallel orders and hierarch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A two-speed bureaucra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Unofficial classification of administrative po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Strongly skewed and top-down allocation of human and material resour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he institutionalisation of « informal » state agents and administrative brok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Field officers acquire significant autonomy and their operations are effectively privatise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orruption is embedded in administrative practices and bureaucratic cultures (2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his informal privatisation is not synonymous with predation and is not incompatible with provision of public service. In certain cases </a:t>
            </a:r>
            <a:r>
              <a:rPr b="0" i="1" lang="en-GB" sz="2000" spc="-1" strike="noStrike">
                <a:solidFill>
                  <a:srgbClr val="333399"/>
                </a:solidFill>
                <a:latin typeface="Verdana"/>
              </a:rPr>
              <a:t>corruption can ensure the survival of the public service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ransfers as the unique mode of internal sanc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ublic services delive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mbivalence of administrative relationships: between dehumanization and over-pers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Negotiated enforcement of law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Some socio-cultural logics that contribute to banalize corrupt behaviour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6320" indent="-166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luralism on institutions and norms ----&gt; civil servant are subjected to different competing regimes of accountabil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6320" indent="-166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Obligations of solidarity and redistribu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6320" indent="-166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New ethos of social achievement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83280" indent="-26280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Ostentation and over-monet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83280" indent="-26280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Social positive value of craftiness and of « challenging the State »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6320" indent="-166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Due to their extensive proximity to or interpenetration with common and ‘normal’ social practices, corrupt practices are largely ‘justified’ or ‘excused’ in the eyes of the ac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6320" indent="-166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But people simultaneously condemn the practices that they justify. How do they deal with his paradox? With a cross-cutting moral principle: ‘there’s no need to overdo it’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lisa Herrero Cangas</cp:lastModifiedBy>
  <dcterms:modified xsi:type="dcterms:W3CDTF">2011-07-07T08:13:48Z</dcterms:modified>
  <cp:revision>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8968157</vt:r8>
  </property>
  <property fmtid="{D5CDD505-2E9C-101B-9397-08002B2CF9AE}" pid="3" name="_AuthorEmail">
    <vt:lpwstr>Jean-Pierre.SACAZE@ec.europa.eu</vt:lpwstr>
  </property>
  <property fmtid="{D5CDD505-2E9C-101B-9397-08002B2CF9AE}" pid="4" name="_AuthorEmailDisplayName">
    <vt:lpwstr>SACAZE Jean-Pierre (AIDCO)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780115898</vt:r8>
  </property>
</Properties>
</file>