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110160"/>
            <a:ext cx="754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5889600" y="1101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06120" y="6333840"/>
            <a:ext cx="36608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9649800"/>
            <a:ext cx="671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6431040" y="9649800"/>
            <a:ext cx="366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938A-F84F-451A-942C-D5A94B0956A9}" type="slidenum">
              <a:rPr b="0" lang="fr-F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BFE-8DAB-4969-AF51-44E7EA719325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9ABA-169A-456D-96BA-3FEE6C9A2BCF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30E6-FB96-457F-AB0E-3CD204F91F3E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2C69-76D5-46BB-B7BE-1AE50AAEE310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CB8D-6B2C-4DDA-9599-1DE7EC325EDD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43F4-9E84-4F4B-912D-82DFAE448D7F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B3C2-BDBD-496E-9D21-D739C6504B16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C8A5-F766-4AAE-ADA7-CD7F1018D2CC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9F52-6073-4A44-9CBA-801DF7AC06EC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5E22-21CC-45FD-B2E0-9146D5170673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D22-7110-4A10-BF74-350D3659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BE5-CA7D-4794-9252-F654A908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A92-6AD8-41BE-A5CB-1DDDC1F9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C41-21D5-4418-8A71-43329489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D495-ED00-4487-B430-047C9A13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3D4B-ED9C-4F0A-B476-1BD197AC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5ED8-C599-4DC1-89AB-7FCB048D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695B-8CF8-43F9-84FF-83F88D1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C32E-07C2-4E6C-BE97-6B8C3840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D74C-A34A-42CB-9C04-BDD2C9AB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E502-DFCA-40CB-B8F4-DBE548A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E5E-3AAA-4A09-B85B-E08F7E7D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C59C-3928-4BF9-BF13-B801BDED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7198-8907-4685-9061-15313F23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33F1-D68A-48C3-8102-6AC1BE23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3A24-E7CF-4FFF-91C8-1EEE41A1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C71D-ACB2-4F2C-A99D-15E62F7A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B35-FE50-43B2-BDD0-E18C2603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00B-1C7D-445F-A8D0-BFEDC05E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1C1-5CD5-42FA-8253-CA051172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407-C38B-44EF-A68F-7F5A6A12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B7D-0B9C-48F9-8C35-9B8487A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80C-8FAA-4AB8-AAF3-B871273E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A7B-3B94-43D7-B8E7-E4C2D2DA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A0D5-D43A-4095-A86F-17226B5AFDF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0B5B-64CA-4E74-83D4-9E8F24BBFF27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Putting Corruption in the </a:t>
            </a:r>
            <a:br>
              <a:rPr sz="2400"/>
            </a:b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Contex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54524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 Socio-Anthropological Perspec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Giorgio Blund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Ecole des Hautes Etudes en Sciences Sociales (EHESS), Marseille, France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09480" y="60948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324000" y="545292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3d200"/>
                </a:solidFill>
                <a:latin typeface="Verdana"/>
              </a:rPr>
              <a:t>Implications </a:t>
            </a: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for anticorruption policie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No unique or uniform solution for such a complex, ambivalent and multi-form phenomen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Conceive interventions that « work with the grain » and not « against the grain » of local socie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Need for more qualitative research providing fresh insights on mechanisms and representations of corruption in different areas of service delive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Honest behaviour has a high social cost: complete integrity is a luxury or virtue that is beyond the scope of the majority of the citizens of these countries under current circumstan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However, local reformers and « highlands of integrity » do exist. How to support and encourage such initiative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Civil society’s dilemma: counter-power or « good governance brokers »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3d200"/>
                </a:solidFill>
                <a:latin typeface="Verdana"/>
              </a:rPr>
              <a:t>Session Objective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 some insights from recent anthropological research on corruption practices and represent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 an analytical grid in order to understand how corruption works in a specific socio-cultural sett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pen a debate on the implications of adapting anti-corruption policies to a country context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3d200"/>
                </a:solidFill>
                <a:latin typeface="Verdana"/>
              </a:rPr>
              <a:t>A Qualitative </a:t>
            </a: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searc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1998"/>
              </a:lnSpc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e first systematic comparative anthropological study on everyday corruption in Afric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1998"/>
              </a:lnSpc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ree countries (Benin, Niger, Senegal) + Mauritani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1998"/>
              </a:lnSpc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Corruption in customs and transport, justice, health, public procurement, development projects, forestry serv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1998"/>
              </a:lnSpc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o study the “complex of corruption”: 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all practices involving the incorrect (illegal and/or illegitimate) use of a public office which result in the procurement of unwarranted private or collective advantages.</a:t>
            </a:r>
            <a:r>
              <a:rPr b="0" i="1" lang="en-GB" sz="16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1" name="Picture 5" descr="51anAgCzqGL"/>
          <p:cNvPicPr/>
          <p:nvPr/>
        </p:nvPicPr>
        <p:blipFill>
          <a:blip r:embed="rId1"/>
          <a:stretch/>
        </p:blipFill>
        <p:spPr>
          <a:xfrm>
            <a:off x="5257800" y="17524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ain Finding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rruption is embedded in multiple levels of the social, administrative and cultural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rruption is not just a symptom of the failure of a system of governance. It is a specific mode of govern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Everyday corruption is a social activity which is regulated </a:t>
            </a:r>
            <a:r>
              <a:rPr b="0" i="1" lang="en-GB" sz="2000" spc="-1" strike="noStrike">
                <a:solidFill>
                  <a:srgbClr val="333399"/>
                </a:solidFill>
                <a:latin typeface="Verdana"/>
              </a:rPr>
              <a:t>de facto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and in accordance with complex rules, and tightly controlled by a series of tacit codes and practical norm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3d200"/>
                </a:solidFill>
                <a:latin typeface="Verdana"/>
              </a:rPr>
              <a:t>The Basic </a:t>
            </a: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Forms</a:t>
            </a:r>
            <a:r>
              <a:rPr b="1" lang="fr-FR" sz="2400" spc="-1" strike="noStrike">
                <a:solidFill>
                  <a:srgbClr val="f3d200"/>
                </a:solidFill>
                <a:latin typeface="Verdana"/>
              </a:rPr>
              <a:t> of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Commission” for illicit services</a:t>
            </a: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: the official benefits in part from the illicit gain that he helps the user to obtai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Unwarranted payment for a public service</a:t>
            </a: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: a service that is normally provided free of charge, on which a private charge is impose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The “ gratuity”</a:t>
            </a: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: a spontaneous gesture on the part of the user, generally viewed as entirely legitimat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Favouritism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tribute</a:t>
            </a: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 or “toll”: exhorted without any kind of intermediation or service, either legal or illegal, actually being supplie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Sideline</a:t>
            </a: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” and moonlighting: work places and resources are widely used by personnel for private end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Embezzle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grees of legitimac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1676520"/>
          <a:ext cx="8076960" cy="4279680"/>
        </p:xfrm>
        <a:graphic>
          <a:graphicData uri="http://schemas.openxmlformats.org/drawingml/2006/table">
            <a:tbl>
              <a:tblPr/>
              <a:tblGrid>
                <a:gridCol w="3124080"/>
                <a:gridCol w="2590920"/>
                <a:gridCol w="236196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Forms of corrup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Type of interac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Degree of legitimacy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Gratuity 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ontaneous transac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Legitimate 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Commission for illicit service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Negotiated transac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Highly ambivalent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tring-pulling, favours, nepotism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ontaneous transac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Legitimate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Unwarranted fee for a public service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Negotiated transaction or extor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Predominantly illegitimate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Tribute or toll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Extor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llegitimate 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“</a:t>
                      </a: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ideline” and moonlight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Appropria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Predominantly legitimate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Embezzlement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Appropria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Highly ambivalent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orruption is embedded in administrative practices and bureaucratic cultures (1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Bureaucratic logics of organization and manage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arallel orders and hierarch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A two-speed bureaucra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Unofficial classification of administrative po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Strongly skewed and top-down allocation of human and material resour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e institutionalisation of « informal » state agents and administrative brok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Field officers acquire significant autonomy and their operations are effectively privatis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orruption is embedded in administrative practices and bureaucratic cultures (2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his informal privatisation is not synonymous with predation and is not incompatible with provision of public service. In certain cases </a:t>
            </a:r>
            <a:r>
              <a:rPr b="0" i="1" lang="en-GB" sz="2000" spc="-1" strike="noStrike">
                <a:solidFill>
                  <a:srgbClr val="333399"/>
                </a:solidFill>
                <a:latin typeface="Verdana"/>
              </a:rPr>
              <a:t>corruption can ensure the survival of the public service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ransfers as the unique mode of internal sanc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ublic services delive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mbivalence of administrative relationships: between dehumanization and over-pers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Negotiated enforcement of law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Some socio-cultural logics that contribute to banalize corrupt behaviour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6320" indent="-166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luralism on institutions and norms ----&gt; civil servant are subjected to different competing regimes of accountabil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6320" indent="-166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Obligations of solidarity and redistribu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6320" indent="-166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New ethos of social achievement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83280" indent="-26280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Ostentation and over-monet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83280" indent="-26280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Social positive value of craftiness and of « challenging the State »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6320" indent="-166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Due to their extensive proximity to or interpenetration with common and ‘normal’ social practices, corrupt practices are largely ‘justified’ or ‘excused’ in the eyes of the ac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6320" indent="-166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But people simultaneously condemn the practices that they justify. How do they deal with his paradox? With a cross-cutting moral principle: ‘there’s no need to overdo it’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lisa Herrero Cangas</cp:lastModifiedBy>
  <dcterms:modified xsi:type="dcterms:W3CDTF">2011-07-07T08:13:48Z</dcterms:modified>
  <cp:revision>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8968157</vt:r8>
  </property>
  <property fmtid="{D5CDD505-2E9C-101B-9397-08002B2CF9AE}" pid="3" name="_AuthorEmail">
    <vt:lpwstr>Jean-Pierre.SACAZE@ec.europa.eu</vt:lpwstr>
  </property>
  <property fmtid="{D5CDD505-2E9C-101B-9397-08002B2CF9AE}" pid="4" name="_AuthorEmailDisplayName">
    <vt:lpwstr>SACAZE Jean-Pierre (AIDCO)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780115898</vt:r8>
  </property>
</Properties>
</file>