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062-4AB8-4403-A3F5-26CFEAFA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C38-A07C-4D62-B424-E4927828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BF8-F766-4515-ACBA-FDEBF0D4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DB9-AB5C-4BC4-A85E-9506BC58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8E3-AE7D-4C03-95B7-5C5A8488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FC4-5786-44DD-B99E-316D7B99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50E-F803-4404-ABC8-96664026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0FF-BE3E-40BC-8E9F-FF2F945B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CED-BFD6-46DB-888F-0420C5FA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DFB-15E3-4DE7-90F9-A8DCAB9C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396-CC15-40A4-B512-616571A2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8AF-D79E-4CA6-A459-11683C87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072E2-1530-4097-8D09-25105B7971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7C69F-EDAA-41A9-B47F-6B089217F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tcome of the brief Survey on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Governance Sup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sed on 10 re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urvey based on 5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limitations encountered in day-to-day governance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es achieved and why was this possi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of innov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-3 priorities for improving governance suppor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in all:  do we need to critically rethink our governance approach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) Main bottlenecks support governance reforms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on both sides of the equ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660066"/>
                </a:solidFill>
                <a:latin typeface="Calibri"/>
              </a:rPr>
              <a:t>Partner countries often displ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political will/lack of ownership of re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drive of governance programmes (compared to huge interest for BS process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domestic accountability (weak actors and system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capacity to deal with EC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660066"/>
                </a:solidFill>
                <a:latin typeface="Calibri"/>
              </a:rPr>
              <a:t>Limitations on donor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sure to show quick results and to disburse (against long-term perspe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choice of implementing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capacities for dialogue and process facilit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adequate procedures (little flexibil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donor coordination + pooling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or fatigue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2) It works sometimes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a winning team (champions in Delegation, TA, Government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 levels of ownership at government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gramme allows flexibility to ada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ks between supply and demand s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ads of dialogue (also informal!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itical economy analys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CSOs as domestic accountability actors (e.g. budget tracking, political dialogu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3) EC is innova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or budget support to legislativ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ing with NSAs in N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 CSOs through Ministry (supply-dem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Os governance basket f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ys of conducting dialogue (formal/informal) with multiple actors (CSOs, government, political partie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4) The top prioriti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76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mbed EU democratic governance agenda credibly in bilateral dialogu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vest in PE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nstream governance in all operations… and recognise that operational staff also deals with 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sure coherence between political and operational coope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ngthen accountability systems (supply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man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ntify entry points to work with other actors (political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lexible funding mech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quip human resources bet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re support from HQ (thematic guidance, knowledge sharing, and quality suppor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) Does governance support need a serious rethinking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erms of (political) lenses u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oving away from donor-driven reforms towards supporting local capacity and incentives to address core development probl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findings new ways to create an enabling environment and removing incentives for ‘bad governance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erms of roles played by donor agen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erms of knowledge requ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07:27:16Z</dcterms:created>
  <dc:creator>Marine</dc:creator>
  <dc:description/>
  <dc:language>en-US</dc:language>
  <cp:lastModifiedBy>Alisa Herrero Cangas</cp:lastModifiedBy>
  <dcterms:modified xsi:type="dcterms:W3CDTF">2011-07-04T10:08:09Z</dcterms:modified>
  <cp:revision>9</cp:revision>
  <dc:subject/>
  <dc:title>Survey Outcome  Governance Support</dc:title>
</cp:coreProperties>
</file>