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59C-9B12-4F21-B2C0-566AD28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5EB-9556-4DDE-90E5-CDBFC82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624-1CCB-48D9-8363-6D5552C1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BF3-188E-4556-838F-43FD21D7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E7B-258E-461B-B867-88ACA51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687-A46E-4BC3-8E48-B94A8BA8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771-4846-4E32-9C95-7F5AF6EC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62A-B43F-47E6-A32B-76658270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93E-6F00-4D3E-9F45-97434ECA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ED0-D0AC-4077-BEC8-DB7FA3E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461-CAD8-48FD-AC72-462956C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D9E-0BDE-4EC6-BB7E-96DC46E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7F39F-2A0A-4F95-B17A-158C57D62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B5CAA-F19E-4E4E-87F9-62558E7BF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come of the brief Survey on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Governanc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sed on 10 re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urvey based on 5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limitations encountered in day-to-day governance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 achieved and why was this possi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innov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3 priorities for improving governance suppor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 all:  do we need to critically rethink our governance approa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) Main bottlenecks support governance reforms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on both sides of the equ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Calibri"/>
              </a:rPr>
              <a:t>Partner countries often displ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political will/lack of ownership of re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drive of governance programmes (compared to huge interest for BS process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domestic accountability (weak actors and system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apacity to deal with EC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660066"/>
                </a:solidFill>
                <a:latin typeface="Calibri"/>
              </a:rPr>
              <a:t>Limitations on donor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sure to show quick results and to disburse (against long-term perspe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hoice of implementing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capacities for dialogue and process facilit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adequate procedures (little flexibi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donor coordination + pooling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nor fatigu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2) It works sometimes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a winning team (champions in Delegation, TA, Government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 levels of ownership at government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gramme allows flexibility to ada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s between supply and demand s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ads of dialogue (also informal!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tical economy analys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CSOs as domestic accountability actors (e.g. budget tracking, political dialogu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3) EC is innova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or budget support to legislativ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ing with NSAs in N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 CSOs through Ministry (supply-dem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Os governance basket f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ys of conducting dialogue (formal/informal) with multiple actors (CSOs, government, political parti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) The top prioriti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76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bed EU democratic governance agenda credibly in bilateral dialog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vest in P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nstream governance in all operations… and recognise that operational staff also deals with govern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sure coherence between political and operational coope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 accountability systems (supply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ma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y entry points to work with other actors (politica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lexible funding mech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quip human resources bet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support from HQ (thematic guidance, knowledge sharing, and quality suppor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) Does governance support need a serious rethinking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(political) lenses u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ving away from donor-driven reforms towards supporting local capacity and incentives to address core development probl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findings new ways to create an enabling environment and removing incentives for ‘bad governance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roles played by donor ag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erms of knowledge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7:27:16Z</dcterms:created>
  <dc:creator>Marine</dc:creator>
  <dc:description/>
  <dc:language>en-US</dc:language>
  <cp:lastModifiedBy>Alisa Herrero Cangas</cp:lastModifiedBy>
  <dcterms:modified xsi:type="dcterms:W3CDTF">2011-07-04T10:08:09Z</dcterms:modified>
  <cp:revision>9</cp:revision>
  <dc:subject/>
  <dc:title>Survey Outcome  Governance Support</dc:title>
</cp:coreProperties>
</file>