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413D-ED89-405D-8614-C624D95BCF89}"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0805-6F37-496A-B614-C85EA4D337C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D507-FE8D-4F63-9191-E1F6DA07C05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BE8F-44D7-4147-BBED-B626088FA476}"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DA1F-2414-4042-8111-AFEFFC05B51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2F4A-FD03-4627-A391-08864F24C8A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39148-4C89-46A7-96BF-0ACE090CA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0550-AF40-4433-BA94-206329BC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EC12C-15FC-4EED-BC61-F5220C559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EFBD0-CA62-4A74-9864-F24C3850F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EFD76-E2FC-46FB-9EBB-411F9B146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DACB3-1290-42E3-A6F5-F0B26009E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298A7-0E44-4F98-94E9-DF883752B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2AB57-DD7B-451F-9B2B-42CF27B97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1C426-18C2-4986-8276-40DAC9835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B2792-0D36-4269-82BD-D9F9B92B9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6915-31AB-466E-8657-02F0DEDC2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A312-CBD3-4B86-B617-1543F8D5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35F61-85EE-4AF2-92C8-521699986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343FD-7A8E-4179-8CB1-7B24C3CD1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0AC86-DFCF-4D7E-B720-37A7F07D2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8DE10-CF08-4704-B052-3DDBAFC0C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18FC6-3458-4B5A-9E86-9E687AC17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8401-52F8-4543-AE93-1320DB86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0BED8-B7DA-4C3C-B02D-75D681D8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6819-0D76-4208-81D3-7AE6A61B0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7DBDF-2B88-4AFB-B708-A7548C1D4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A8BD-BD2D-4E33-8243-B5B48EFC8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4C18-D085-48CE-92C8-57EEA7EBC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7B03-EFBF-4C44-968A-8E1A09F20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1149-E865-4DE2-8825-C67BEF524376}" type="slidenum">
              <a:rPr b="0" lang="en-GB"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D71A-D07B-4C93-A16A-13637D1340D2}" type="slidenum">
              <a:rPr b="0" lang="en-GB"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Text Box 5"/>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Text Box 7"/>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providing a </a:t>
            </a:r>
            <a:r>
              <a:rPr b="1" lang="en-GB" sz="2200" spc="-1" strike="noStrike">
                <a:solidFill>
                  <a:srgbClr val="5f5f5f"/>
                </a:solidFill>
                <a:latin typeface="Arial"/>
                <a:ea typeface="Arial"/>
              </a:rPr>
              <a:t>flexible set of responses</a:t>
            </a:r>
            <a:r>
              <a:rPr b="0" lang="en-GB"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incorporating sensible </a:t>
            </a:r>
            <a:r>
              <a:rPr b="1" lang="en-GB"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0" lang="en-GB" sz="2200" spc="-1" strike="noStrike">
                <a:solidFill>
                  <a:srgbClr val="5f5f5f"/>
                </a:solidFill>
                <a:latin typeface="Arial"/>
                <a:ea typeface="Arial"/>
              </a:rPr>
              <a:t>allowing for </a:t>
            </a:r>
            <a:r>
              <a:rPr b="1" lang="en-GB" sz="2200" spc="-1" strike="noStrike">
                <a:solidFill>
                  <a:srgbClr val="5f5f5f"/>
                </a:solidFill>
                <a:latin typeface="Arial"/>
                <a:ea typeface="Arial"/>
              </a:rPr>
              <a:t>more strategic</a:t>
            </a:r>
            <a:r>
              <a:rPr b="0" lang="en-GB"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Rectangle 5"/>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Text Box 6"/>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50B7-9258-4CD4-B28C-3E3E506481F5}" type="slidenum">
              <a:rPr b="0" lang="en-GB"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e4f3f4"/>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F6909-0DC9-436C-8AC9-836F1602F440}" type="slidenum">
              <a:rPr b="0" lang="en-GB"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bfbfbf"/>
          </a:solidFill>
          <a:ln w="9360">
            <a:solidFill>
              <a:srgbClr val="d5e8e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82960"/>
            <a:ext cx="901440" cy="609840"/>
            <a:chOff x="3621240" y="3882960"/>
            <a:chExt cx="901440" cy="609840"/>
          </a:xfrm>
        </p:grpSpPr>
        <p:pic>
          <p:nvPicPr>
            <p:cNvPr id="115" name="13 Flecha abajo" descr=""/>
            <p:cNvPicPr/>
            <p:nvPr/>
          </p:nvPicPr>
          <p:blipFill>
            <a:blip r:embed="rId1"/>
            <a:stretch/>
          </p:blipFill>
          <p:spPr>
            <a:xfrm>
              <a:off x="3621240" y="3882960"/>
              <a:ext cx="901440" cy="60984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Text Box 14"/>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Text Box 15"/>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Text Box 16"/>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4B43-BEEB-48C4-BDE9-638B825F7D16}"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70480" y="1706400"/>
            <a:ext cx="3389400" cy="351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A572-2340-4207-B59F-E50B7CE8E272}" type="slidenum">
              <a:rPr b="0" lang="en-GB"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Object 2"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99D2-2EF2-4B76-BA9A-C4FE329072BE}" type="slidenum">
              <a:rPr b="0" lang="en-GB"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MUGERIN Coralie (DEVCO)</cp:lastModifiedBy>
  <dcterms:modified xsi:type="dcterms:W3CDTF">2012-08-02T14:29:00Z</dcterms:modified>
  <cp:revision>267</cp:revision>
  <dc:subject/>
  <dc:title>Structured Dialogue 2010</dc:title>
</cp:coreProperties>
</file>