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20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7C36-D76D-42BA-B752-F661D9DF87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C14-7BEE-4B43-AB98-BD2015298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0B2-5EC3-4E4C-8F71-76B72F331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E89C-7942-473C-ADAD-0DBE6DFCA4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114-8D47-4E27-9E2F-7DC8A65AB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D05-B55C-4962-87AB-0749B288B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D76-D10C-4ABD-83FF-2567AD9AED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609-DECC-4332-9329-15ACD72E9E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7369-B10D-4D01-8D7E-AF46880B7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62E3-2202-47D8-A9E1-B275B31E59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E4D1-665B-45BB-BA83-EA3B6DC11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8071-3351-4968-8116-4BAC73488E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9BF1-992F-42BD-9EC5-F4548C4360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A9B7-50EA-4D01-A422-D8C12B97E2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EC02-9E44-41A2-A899-6B24D31BE9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333000"/>
            <a:ext cx="738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77720" indent="-477720">
              <a:spcBef>
                <a:spcPts val="799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77720" indent="-477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43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Object 6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8"/>
          <p:cNvGraphicFramePr/>
          <p:nvPr/>
        </p:nvGraphicFramePr>
        <p:xfrm>
          <a:off x="179280" y="189000"/>
          <a:ext cx="107964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89000"/>
                    <a:ext cx="10796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5680" y="2048040"/>
            <a:ext cx="640080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dget Support and Govern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of the draft communication on budget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th July 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CO-Europeaid  A/2: Macroeconomic Analysis, Public Finance and Budge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ed risk management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itical governance, macroeconomic, development, PFM, corruption and fra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mentary tool in programming, design and implementation, and to inform decision-making and policy dialo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cus on risks with high impact and high likelih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olicy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ensure that major reforms are discussed, objectives are identified and results ass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volvement of relevant Commission services, delegated cooperation with MS, improved access to TA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ted to promote inclusion of domestic stakeholders in policy dialogue and annual re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formance Incentives and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ase tranches linked to elig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formance tranches linked to progress against indicators (mix of process, output and outcome indica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ood governance contracts: conditions may be attached to supporting “deep and sustainable democracy and human right valu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Governance matters in budget suppor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d importance of budget support i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link with fundamental values of the EU (human rights, democracy and rule of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eligibilit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focus on accountability and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ed risk management framework (covering political, developmental, macroeconomic, public financial management and corruption ri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for your attenti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munication: Draft Outline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Budget Support, and Wh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dern Approach to Budget Suppor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ign and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is Budget Support, and Why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S: Policy dialogue, financial transfers, performance assessment and capacity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ns of delivering better aid (not an end in itsel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suitable form of aid consistent with aid effectiveness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not a blank cheque, nor provided to every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 about quality, value for money and impact, hence Green Paper October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uilding on su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ynamic approach to eligibility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t more structured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dictability, ownership, performance related tranches,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Use of more intermediate process and output indicators to better demonstrate and communicate partner country developmen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rtfolio approach: no global targets for use of budge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 management to be strength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human and democratic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BS only when confidence that aid will be spent pursuing values to which EU subscri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here commitment deteriorates: adequate and coordinated EU response, but also progressive and proportio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: focus on needs of populations, not subject to political condi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ing sector reforms and improving sector servic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BS in framework of sector reform support 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tor focused conditions covering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budget allocations, reform implementation, institutional strengthening and sector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engthened focus on results, incentives to perform and improved account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ate Building in fragil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agile states: focus on state building, coherent and coordinated approaches, reinforced political and policy dialogue. Decisions  case by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mproving domestic revenue mobilisation and reducing dependency on 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S should complement, not substitute, domestic rev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ote natural resource governance and transparency in resource rich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Modern Approach to Budget Suppor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erentiating EU Budge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Governance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tor Refo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e Building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 to decide whether preconditions for GBS exist: fundamental values of human rights, democracy and rule of law or a clear path towards these values ex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gibility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macroeconomic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ed focus on domestic revenue mob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ational/sector policy and r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focus on national own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er focus on specifying Commission compara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blic financi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ssment of PFM system to establish a bas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 require short-term measures from PFM reform strategy before commencing 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ner countries to be actively engaged in fight against fraud and corru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W: transparency and oversight of 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blic availability of budge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0920" indent="-477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y point” to be defined, combined with dynamic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and Implementation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rengthening domestic and mutual 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ngthening openness, transparency and accountability of the budget proces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pporting a participatory budget support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programmes to support national legislative and oversight bodies and CSOs in budget support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reasing transparency on budget support by publishing  relevant information on budget support financing agreements with partner countries and performance re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ng a contractual relationship between a given partner country and the EU clearly implying concrete obligations and commitments on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42:01Z</dcterms:created>
  <dc:creator>JON</dc:creator>
  <dc:description/>
  <dc:language>en-US</dc:language>
  <cp:lastModifiedBy>MUGERIN Coralie (DEVCO)</cp:lastModifiedBy>
  <dcterms:modified xsi:type="dcterms:W3CDTF">2012-07-12T12:57:49Z</dcterms:modified>
  <cp:revision>425</cp:revision>
  <dc:subject/>
  <dc:title>PowerPoint Presentation</dc:title>
</cp:coreProperties>
</file>