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B9CA-9C09-403A-8213-96BAAFBAE9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FAA8-EA23-4B22-98F0-F7F7F6C696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AADA-71CC-4573-AC24-85431ADDAD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F4D9-90DB-4B61-8401-5ED57634A1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CFC3-6DC8-48EF-931C-A69ABEA62F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F172-F63D-46F0-94FF-09614099CB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B033-6E39-4102-B0F4-C3BFA826C9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1430-0516-43A6-9114-DCB7654F5B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8016-30B4-4D5D-820E-E5A59C570C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3DC8-C3D1-4454-8D92-68651DC4A6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C0B5-EC7E-436B-B960-895DB9160B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CBF8-287B-45B3-8769-39BF2C56BD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ADFC-632B-45E1-9461-FCBA6E620C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CB79-AE26-41F2-816D-5B1592E15B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02B9-9C73-4640-B1D2-7A0AC04FF3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Object 6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Object 8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dget Support and Govern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elements of the draft communication on budget sup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VCO-Europeaid  A/2: Macroeconomic Analysis, Public Finance and Budge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ed risk management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litical governance, macroeconomic, development, PFM, corruption and fra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lementary tool in programming, design and implementation, and to inform decision-making and policy di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cus on risks with high impact and high likelih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licy Di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ensure that major reforms are discussed, objectives are identified and results ass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volvement of relevant Commission services, delegated cooperation with MS, improved access to TA and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ted to promote inclusion of domestic stakeholders in policy dialogue and annual re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rformance Incentives and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ase tranches linked to elig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formance tranches linked to progress against indicators (mix of process, output and outcome indica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ood governance contracts: conditions may be attached to supporting “deep and sustainable democracy and human right valu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Governance matters in budget suppor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d importance of budget support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link with fundamental values of the EU (human rights, democracy and rule of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ed eligibilit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focus on accountability and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ed risk management framework (covering political, developmental, macroeconomic, public financial management and corruption ris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munication: Draft Outlin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Budget Support, and Wh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odern Approach to Budget Suppor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ign and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is Budget Support, and Wh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S: Policy dialogue, financial transfers, performance assessment and capacity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ans of delivering better aid (not an end in itsel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st suitable form of aid consistent with aid effectiveness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not a blank cheque, nor provided to every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 about quality, value for money and impact, hence Green Paper October 20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uilding on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ynamic approach to eligibility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t more structured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dictability, ownership, performance related tranches,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 of more intermediate process and output indicators to better demonstrate and communicate partner country developmen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rtfolio approach: no global targets for use of budge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sk management to be strengthe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ing human and democratic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BS only when confidence that aid will be spent pursuing values to which EU subscri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here commitment deteriorates: adequate and coordinated EU response, but also progressive and proportio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S: focus on needs of populations, not subject to political condi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ing sector reforms and improving sector servic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S in framework of sector reform support 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ctor focused conditions cover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udget allocations, reform implementation, institutional strengthening and sector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engthened focus on results, incentives to perform and improved accountabi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ate Building in fragile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agile states: focus on state building, coherent and coordinated approaches, reinforced political and policy dialogue. Decisions  case by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ing domestic revenue mobilisation and reducing dependency on 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S should complement, not substitute, domestic rev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mote natural resource governance and transparency in resource rich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ferentiating EU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Governance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tor Reform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Building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 to decide whether preconditions for GBS exist: fundamental values of human rights, democracy and rule of law or a clear path towards these values ex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igibility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ble macroeconomic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ed focus on domestic revenue mob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tional/sector policy and r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inued focus on national own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er focus on specifying Commission compara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ublic financi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ssment of PFM system to establish a bas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 require short-term measures from PFM reform strategy before commencing 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ner countries to be actively engaged in fight against fraud and corru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W: transparency and oversight of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blic availability of budge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ry point” to be defined, combined with dynamic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engthening domestic and mutual accoun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ngthening openness, transparency and accountability of the budget proces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porting a participatory budget support appro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programmes to support national legislative and oversight bodies and CSOs in budget support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transparency on budget support by publishing  relevant information on budget support financing agreements with partner countries and performance re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ining a contractual relationship between a given partner country and the EU clearly implying concrete obligations and commitments on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MUGERIN Coralie (DEVCO)</cp:lastModifiedBy>
  <dcterms:modified xsi:type="dcterms:W3CDTF">2012-07-12T12:57:49Z</dcterms:modified>
  <cp:revision>425</cp:revision>
  <dc:subject/>
  <dc:title>PowerPoint Presentation</dc:title>
</cp:coreProperties>
</file>